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HowtheWesrwaslost7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71C-DD62-43E1-A3F2-CCD3AFE3EF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8D9-D0EE-4E94-9209-DF708B49F52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01D8-0EA3-43A9-832C-895BB45FA99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EBC7-D84D-4B73-895A-3AB4175900E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81C0-0766-4862-89D7-E7DB7A0DECF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BE34-A6BF-4975-BC2C-453CBBD012D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B5A-C1BC-439A-A109-E3A84716540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E30-DB29-49D5-B785-CF05A2AAC4A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7F8-2376-4182-98CA-B9D63B7D1DA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F0C9-D3A4-4030-A14D-8A0035DA525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6C4F-44B7-4460-A810-C1B17FC7EB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0898-AA90-42DF-AC8B-6E2A03A2E46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B49-39A2-404D-AB04-02213380782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BD8-13F1-46CA-8C9D-6B1DA78F843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397-7BA9-4803-B409-40B25A71334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6724-3B8F-4DBA-8F8E-489C391B55C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869-C033-462F-A9D1-2B20FE35457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9A1-1906-4298-8FC9-0D17AADDC3C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D45-0F79-423C-91B8-B4D1803A414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580-5121-48CF-9381-08764D7F326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8C2-1286-4D78-84E9-F722C9E3560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0CB5-242A-46CB-817D-63E69A4A6A2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6F1-84F5-43F4-B55C-F1380F9FC82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6E3-734C-4A03-BCEA-0C314E1FEE8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6D51-13A6-48D7-AFF5-8C66FC92AB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C18-2DD8-4883-A5C7-BE590B9F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E9C-4BB7-4BD7-B843-AB49046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7CD26-576F-4532-8663-0577C28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A3BB8-B614-4178-9A8E-EF71EA11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14FE0-CE42-4AC1-820D-831D0271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BA6D6-FFA1-49EB-9750-6AF9654D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99E3-4251-4E3E-9960-A799F05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23483-41E1-4534-949A-2253D3D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AD6FD-D790-44B7-A22E-DA19561D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7A06D-D4B7-45F0-AED1-2B724529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44D6A-76CE-4F8F-B7E9-55805343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A299-CADE-45A8-B753-884545AF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147-68D0-47E7-821F-ABAA46CF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429CC-CC3E-4478-96CD-A9FD1E75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B37C-F33E-4127-97B1-482ED6C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4D762-1EE5-4DDB-9CF3-B131BB9F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88086-E85D-4F49-ABDE-DBFF749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2796E-C848-4288-B30F-43190ADC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72BD-7737-48BA-8BAE-83FCEAB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6E9B5-C0D1-4365-BECA-19EF717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34EB-0C33-4CFF-819C-D83F909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29F26-0385-497A-8F9D-A5EB65E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BA087-78BE-4890-AC50-567EE128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670-8015-4EA7-9CDD-A21372C7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69FDD-CB74-4B4F-9449-6B8EB0C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F7F28-009D-4D88-906F-96933734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7F15-FB62-4F0F-A872-0D6809EC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B721-5B7F-48A5-B882-AB596D7C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6ABF2-DECE-4866-B6D6-404EBF50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83DE-9A69-45E6-9039-27C05346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9013F-BA49-4FA4-914E-6E33D81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03ACC-B6B0-4A4C-B0E1-67AA1DD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F77FB-B098-4D26-AFE2-F2C711D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1E02-4DE8-4ECF-B681-A2F718B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F1AD-CFE2-4DEE-B53D-5BD77B3B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DCF3-849F-4BA0-BA14-4820568B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6FF4D-5FE3-449E-865A-1AE802BC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A21CF-91A2-4CE8-ADD3-85AC2BE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FCCE2-C979-4D6A-B47B-B80811D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72A0F-AF80-4F33-A5AE-38419B0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3C2A-4904-46EC-BB68-83D6A68C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CD502-9B63-4D64-9FC6-20715509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2E3AA-3EA4-48A9-A2DA-CD3BCDE3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A6CF1-284B-4812-8EAF-BF01B716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D78D2-C1AF-41FD-AF39-445D491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82A5-3AB8-446D-A403-CA8180FE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E1634-92B3-42CD-B9BB-0FCD904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8D0FF-31FB-4026-B936-45664BE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D3C53-FFCF-49FA-B215-5924056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F47F-0FFF-4D99-B321-38CA0006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373E-D0FF-44E0-A2EA-7B719EE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93DA-CC17-49A5-842A-91EE80B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1404-2321-4ED6-BCC4-9B6AF2B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4F73-640B-4050-B68A-D386959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239F-8A31-496F-A552-3D2D8187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50B-0309-415C-AD27-67B7155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CFC-3568-4DB7-A855-F76895F7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C85D-49CA-492D-A2DF-32078F6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C3A-0A86-4210-8030-9D47FB1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F783-95B2-4AAE-B09F-7964CCBC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AAA1-E8FC-47B4-AB2F-7AC54A09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046-265E-4A3E-9130-03D13F8F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2EE7-4DB3-4F90-A34B-1548AFAE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4A15-A769-414A-A2F4-F14E5457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3CEB-CFD3-4F23-B18F-E81C77E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154E-EE94-48E9-B2C9-EB78D4C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58F0-2B4F-4E4A-85BF-A2A768B9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D11-46E5-4A50-A097-0D86593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4CB6-841D-4A10-8279-E883919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D642-0EE5-467D-A106-D2C95BE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83D9-929D-4480-980E-7DB371A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DE22-BA16-43D9-A982-56BFAD0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1003-B5F4-47EA-8E73-1984157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AF7A-2160-4135-9B01-BC48826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BDFD-FEDD-4298-BDA3-5371A60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771E-5DFC-441E-96DC-2A308DBB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E200-F6E6-4859-A6CE-3DB96D3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E60B-695F-4792-82EB-8BAE2ED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9E8-0349-4C9F-9098-769510D5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E572-AF26-4EBE-98BA-B9289FB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819A-DADA-4563-87D2-2C9B4BB4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7B50-2B39-4833-BC2F-31F011D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8A07-E025-4341-B72F-433DBE5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F539-54CA-4666-BF18-79BFC32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0FFB-F8CF-4F1D-BBF1-8256934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B50E-099B-458E-8B9A-2087282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E802-7159-4978-BD7E-8AB8030F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57BB-E737-4C55-BA3E-059D7765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103D-3ADF-42CD-A95C-6655BC26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1E-220C-4CFE-9AAC-4B4B3AE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0F4F-0220-4E90-88DA-C75A2B22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A5A0-F8FF-4265-91D0-7E0B455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41BC-EAB9-46D3-8463-7EB42A0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ED35-91E2-4A46-BA9B-9C63404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DD61-FC2D-49A2-AF99-081D086D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C712-FF14-4B2F-9E6A-D6E7BEB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16ED-095D-4BF3-AF98-35C1296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3FB5-497F-4985-9608-A571AD9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9B1F-50DD-4D2F-B2A8-6F9D52A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3D38-C0A8-4FC9-AC42-A0398187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379-6B70-4644-9AB5-2A0838F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FA22-DABC-4CAC-9ADB-4ABC1D0F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75AD-3F3F-4825-A23C-022E196C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279D-1087-4F93-8F4D-43771BF2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FA4C2-E599-44F6-B12D-593C3F29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7195-905E-4E7E-8943-636545D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F450-1DDB-41E0-AE12-15591690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57E8E-D9A9-48F6-B675-91CBF9CD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D8E5-38D1-4175-A511-8FE171B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0701-A794-48A0-B3CB-EF20132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3971-79B1-4920-9F38-5719C62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775-230A-4E15-9A13-0EAB716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A30C6-4491-4FA1-8D9E-403C701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0BAC-1819-4A22-BEC5-C9EC182C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C9C5-4A4A-4711-B132-5B86E829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BA163-8B7E-413C-8C31-EAB2DF60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3972-ABF5-485D-918B-FC407A4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8DC70-A033-45A6-AC96-F9883B8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1C18-86BC-4B95-B9AA-2CFABB84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02AE-BBD7-43FB-A4C9-579BFDC7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153D9-374F-4EE2-80C3-E38771C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12AC-A001-41A4-91B0-0A7FD78F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4A7-3B06-4472-851A-B69BF08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3AFBE-01A2-48A9-B9A7-93023AF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BCA8-6160-4E7C-809C-13AFF7E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E0E1-B9D0-4B9C-87C3-C0BAEFD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9CFC-DE24-4421-84EA-5FECFD86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F4A3-4C47-4272-9D22-1B3CB58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F631-CFC8-48FD-8FFC-A540BB6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66F99-1B45-4E20-9FCF-85804C9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C81FD-524A-41A4-93FC-31B443C3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2128-6B37-479F-AF81-9543D0AA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66B2-FA66-46B5-B9BA-E49B471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6BD-3A63-4774-952D-3115812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46BD-E5CD-4B20-A726-C123B39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20C3-82C5-47EA-96CA-63E4E1E0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53FCC-E531-42CB-87F9-DE6B17A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8E92-0E44-4697-B192-379BC9B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AF1F-AD75-41BB-9F8B-557DF7E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70F6-9FA7-4CC0-A6B1-B7D5E59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A1C3-B2AC-4626-94DF-97C0511E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0789F-D82C-4793-89BF-8AF7F8D5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1CFC8-846E-46AE-A2DF-7886C19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CC363-6F7D-4EBE-8E08-87BA4BE5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087E-E2EF-4639-B79E-EF138B7B6F2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625-28FB-4B99-93C5-52AB556E761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3F25-3007-449B-8A22-7F61E76ACC1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BEB-F868-4FAB-9C3D-05D957074E6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57BE-6E3C-42B3-BA9D-9ACFB87F6DA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5D03-B4BF-4CA3-9112-F31C8C307554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EAA-3839-4894-94B7-E3F1DEA444B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2DB-EB09-4D07-90FA-6888E5A3FFF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411E-A04A-4A56-90B8-45E47051862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252E-2F18-4032-A853-9D133BC39B4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F7DA-E5DB-4710-9959-DAEDC34DC3D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5CB-BA8B-4A41-AECF-FA905687A75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owtheWesrwaslost7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irliners.net/open.file?id=0892143&amp;size=L&amp;width=1024&amp;height=695&amp;sok=%20BEQRE%20OL%20cubgb_vq%20qrfp&amp;photo_nr=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083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3 CuadroTexto"/>
          <p:cNvSpPr/>
          <p:nvPr/>
        </p:nvSpPr>
        <p:spPr>
          <a:xfrm>
            <a:off x="0" y="3395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90/10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5891040"/>
            <a:ext cx="914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9adc"/>
                </a:solidFill>
                <a:latin typeface="Garamond"/>
              </a:rPr>
              <a:t>Click to ad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HowtheWesrwaslost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811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Your spouse must leave immediately for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You rush to the car and drive your daughter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cause you are l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drive 40 miles per hou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 30 mph speed limit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81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fter a 15-minute delay and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$60.00 traffic fine away, you arrive at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Garamond"/>
              </a:rPr>
              <a:t>Your daughter runs into the building without saying goodb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fter arriving at the office 20 minute l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alize you forgot your brief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day has started terrible. As it continues, it seems to get worse and wor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You look forward to coming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011"/>
          <p:cNvPicPr/>
          <p:nvPr/>
        </p:nvPicPr>
        <p:blipFill>
          <a:blip r:embed="rId1"/>
          <a:stretch/>
        </p:blipFill>
        <p:spPr>
          <a:xfrm>
            <a:off x="2643120" y="280368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815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you arrive home, you find a small w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your relationship with your wife and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ecause of how you reacted in the morning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Why did you have a bad 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B20-216171"/>
          <p:cNvPicPr/>
          <p:nvPr/>
        </p:nvPicPr>
        <p:blipFill>
          <a:blip r:embed="rId1"/>
          <a:stretch/>
        </p:blipFill>
        <p:spPr>
          <a:xfrm>
            <a:off x="2500200" y="1922400"/>
            <a:ext cx="409284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817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286080" y="189000"/>
            <a:ext cx="5678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) Did the coffee caus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) Did your daughter caus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) Did the policeman caus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) Did you caus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The answer is “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6f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had no control over what happened with the coff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How you reacted in those 5 seco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is what caused your bad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re is what could have and should have hap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014"/>
          <p:cNvPicPr/>
          <p:nvPr/>
        </p:nvPicPr>
        <p:blipFill>
          <a:blip r:embed="rId1"/>
          <a:stretch/>
        </p:blipFill>
        <p:spPr>
          <a:xfrm>
            <a:off x="2714760" y="264312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55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offe splashes over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Your daughter is about to c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ff"/>
                </a:solidFill>
                <a:latin typeface="Garamond"/>
              </a:rPr>
              <a:t>You gently s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ff"/>
                </a:solidFill>
                <a:latin typeface="Times New Roman"/>
              </a:rPr>
              <a:t>“</a:t>
            </a:r>
            <a:r>
              <a:rPr b="0" i="1" lang="es-ES" sz="2000" spc="-1" strike="noStrike">
                <a:solidFill>
                  <a:srgbClr val="ffccff"/>
                </a:solidFill>
                <a:latin typeface="Times New Roman"/>
              </a:rPr>
              <a:t>It’s okay, honey, you just need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ff"/>
                </a:solidFill>
                <a:latin typeface="Times New Roman"/>
              </a:rPr>
              <a:t>More careful next tim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Garamond"/>
              </a:rPr>
              <a:t>Grabbing a towel you go upstairs and change your shirt. </a:t>
            </a:r>
            <a:br>
              <a:rPr sz="2000"/>
            </a:br>
            <a:r>
              <a:rPr b="0" lang="es-ES" sz="2000" spc="-1" strike="noStrike">
                <a:solidFill>
                  <a:srgbClr val="ccecff"/>
                </a:solidFill>
                <a:latin typeface="Garamond"/>
              </a:rPr>
              <a:t>You grab your briefcase, and you come back down in time to look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Garamond"/>
              </a:rPr>
              <a:t>the window and see your child getting on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Garamond"/>
              </a:rPr>
              <a:t>She turns and waves. You arrive 5 minutes early a cheerfully greet the sta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tice the differen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37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2 Rectángulo"/>
          <p:cNvSpPr/>
          <p:nvPr/>
        </p:nvSpPr>
        <p:spPr>
          <a:xfrm>
            <a:off x="1428840" y="1143000"/>
            <a:ext cx="3286080" cy="5000760"/>
          </a:xfrm>
          <a:prstGeom prst="rect">
            <a:avLst/>
          </a:prstGeom>
          <a:gradFill rotWithShape="0">
            <a:gsLst>
              <a:gs pos="0">
                <a:srgbClr val="20589c"/>
              </a:gs>
              <a:gs pos="100000">
                <a:srgbClr val="0014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3 Rectángulo"/>
          <p:cNvSpPr/>
          <p:nvPr/>
        </p:nvSpPr>
        <p:spPr>
          <a:xfrm rot="5400000">
            <a:off x="4035960" y="2250000"/>
            <a:ext cx="2786040" cy="5000760"/>
          </a:xfrm>
          <a:prstGeom prst="rect">
            <a:avLst/>
          </a:prstGeom>
          <a:gradFill rotWithShape="0">
            <a:gsLst>
              <a:gs pos="0">
                <a:srgbClr val="20589c"/>
              </a:gs>
              <a:gs pos="100000">
                <a:srgbClr val="0014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wo different scen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th started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th ended diffe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                                                                        </a:t>
            </a: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ff"/>
                </a:solidFill>
                <a:latin typeface="Garamond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Because of how you reacted</a:t>
            </a:r>
            <a:r>
              <a:rPr b="0" lang="en-US" sz="1600" spc="-1" strike="noStrike">
                <a:solidFill>
                  <a:srgbClr val="ffcc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ally have no control over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what happens in your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other 90% was determined by your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16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re are some ways to apply the 90/10 Princi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If someone says something negative about y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do not be a spo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Let the attack roll off like water on g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You do not have to let the negative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affec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React properly and it will not ruin your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A wrong reaction could result in losing a frie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being fired, or getting stressed 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09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How do you react if someone cuts you off in the traff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Do you lose your tem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Pound on the steering wheel? </a:t>
            </a:r>
            <a:r>
              <a:rPr b="0" i="1" lang="en-US" sz="1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(a friend of mine had the steering wheel fall off)</a:t>
            </a: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Do you curse? Does your blood pressure skyrock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Who cares if you arrive 10 seconds later at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Why let the cars ruin your dr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671a8"/>
          <p:cNvPicPr/>
          <p:nvPr/>
        </p:nvPicPr>
        <p:blipFill>
          <a:blip r:embed="rId1"/>
          <a:srcRect l="886" t="0" r="0" b="0"/>
          <a:stretch/>
        </p:blipFill>
        <p:spPr>
          <a:xfrm>
            <a:off x="2540160" y="3429000"/>
            <a:ext cx="40622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a09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Remember the 90/10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and don’t worry abou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are told you lost your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y lose sleep and get irritat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will work 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Use your worrying energy a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to find a new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5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081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0" y="4176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hor: Stephen Co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3206880" y="1136520"/>
            <a:ext cx="2722320" cy="27925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"/>
          <p:cNvSpPr/>
          <p:nvPr/>
        </p:nvSpPr>
        <p:spPr>
          <a:xfrm>
            <a:off x="0" y="5105520"/>
            <a:ext cx="9144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Garamond"/>
              </a:rPr>
              <a:t>Discover the 90/10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Garamond"/>
              </a:rPr>
              <a:t>It will change your life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Garamond"/>
              </a:rPr>
              <a:t>(or at least, the way you react to situations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909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The plane is late. It is going to mangle your schedule for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Why take out your frustration on the flight attend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She has no control over what is going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your time to study, get to know the other passenger, why stress 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will just make things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Boeing 747-4H6 aircraft picture">
            <a:hlinkClick r:id="rId1"/>
          </p:cNvPr>
          <p:cNvPicPr/>
          <p:nvPr/>
        </p:nvPicPr>
        <p:blipFill>
          <a:blip r:embed="rId2"/>
          <a:srcRect l="0" t="0" r="0" b="7264"/>
          <a:stretch/>
        </p:blipFill>
        <p:spPr>
          <a:xfrm>
            <a:off x="1978200" y="447840"/>
            <a:ext cx="5022720" cy="319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5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098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w you know the 90/10 Princi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ply it and you will be amazed at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will lose nothing if you try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The 90/10 Principle is incred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Very few know and apply this Prin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Garamond"/>
              </a:rPr>
              <a:t>The resu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will see it by yoursel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09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2 Rectángulo redondeado"/>
          <p:cNvSpPr/>
          <p:nvPr/>
        </p:nvSpPr>
        <p:spPr>
          <a:xfrm>
            <a:off x="1928880" y="4786200"/>
            <a:ext cx="5429160" cy="1143000"/>
          </a:xfrm>
          <a:prstGeom prst="roundRect">
            <a:avLst>
              <a:gd name="adj" fmla="val 16667"/>
            </a:avLst>
          </a:prstGeom>
          <a:solidFill>
            <a:srgbClr val="81097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llions of people are s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om undeserved stres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als, problems and headac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e all must understand and appl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90/10 Prin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can change your li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Enjoy i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It only takes willpower to give 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permission to make the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094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0" y="16164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solutely everything we do, give, say, or even think, it’s like a Boomerang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will come back to u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If we want to receive, we need to learn to give first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Maybe we will end with our hands emp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Garamond"/>
              </a:rPr>
              <a:t>but our heart will be filled with lov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And those who love lif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aramond"/>
              </a:rPr>
              <a:t>have that feeling marked in their heart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9" descr="bumeran1"/>
          <p:cNvPicPr/>
          <p:nvPr/>
        </p:nvPicPr>
        <p:blipFill>
          <a:blip r:embed="rId1"/>
          <a:stretch/>
        </p:blipFill>
        <p:spPr>
          <a:xfrm>
            <a:off x="2357280" y="1173240"/>
            <a:ext cx="450072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5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54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094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0" y="5824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c1a36"/>
                </a:solidFill>
                <a:latin typeface="Garamond"/>
              </a:rPr>
              <a:t>Re-edition , concepts and photography using free access images from the 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c1a36"/>
                </a:solidFill>
                <a:latin typeface="Garamond"/>
              </a:rPr>
              <a:t>Courtesy of Carlos Ran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3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1c0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35 Rectángulo"/>
          <p:cNvGrpSpPr/>
          <p:nvPr/>
        </p:nvGrpSpPr>
        <p:grpSpPr>
          <a:xfrm>
            <a:off x="938160" y="1779480"/>
            <a:ext cx="7212240" cy="4511880"/>
            <a:chOff x="938160" y="1779480"/>
            <a:chExt cx="7212240" cy="4511880"/>
          </a:xfrm>
        </p:grpSpPr>
        <p:pic>
          <p:nvPicPr>
            <p:cNvPr id="506" name="35 Rectángulo" descr=""/>
            <p:cNvPicPr/>
            <p:nvPr/>
          </p:nvPicPr>
          <p:blipFill>
            <a:blip r:embed="rId1"/>
            <a:stretch/>
          </p:blipFill>
          <p:spPr>
            <a:xfrm>
              <a:off x="938160" y="1779480"/>
              <a:ext cx="7212240" cy="45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942840" y="1785960"/>
              <a:ext cx="7201080" cy="45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18 Rectángulo"/>
          <p:cNvSpPr/>
          <p:nvPr/>
        </p:nvSpPr>
        <p:spPr>
          <a:xfrm>
            <a:off x="2743200" y="2665440"/>
            <a:ext cx="3600360" cy="900000"/>
          </a:xfrm>
          <a:prstGeom prst="rect">
            <a:avLst/>
          </a:prstGeom>
          <a:solidFill>
            <a:srgbClr val="ffff99">
              <a:alpha val="30000"/>
            </a:srgbClr>
          </a:solidFill>
          <a:ln cap="sq" w="3240">
            <a:solidFill>
              <a:srgbClr val="e4d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36 Rectángulo"/>
          <p:cNvSpPr/>
          <p:nvPr/>
        </p:nvSpPr>
        <p:spPr>
          <a:xfrm>
            <a:off x="942840" y="1785960"/>
            <a:ext cx="7201080" cy="4500720"/>
          </a:xfrm>
          <a:prstGeom prst="rect">
            <a:avLst/>
          </a:prstGeom>
          <a:noFill/>
          <a:ln cap="sq" w="12600">
            <a:solidFill>
              <a:srgbClr val="d05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What is this Princi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% of life is mad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what happens to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…</a:t>
            </a: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90% of life is decid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how you rea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3e0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does thi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e really have NO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 10% of what happens to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2600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lluvia6"/>
          <p:cNvPicPr/>
          <p:nvPr/>
        </p:nvPicPr>
        <p:blipFill>
          <a:blip r:embed="rId1"/>
          <a:stretch/>
        </p:blipFill>
        <p:spPr>
          <a:xfrm>
            <a:off x="1643040" y="668160"/>
            <a:ext cx="5857920" cy="37609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79280" y="4716000"/>
            <a:ext cx="878544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e cannot stop the car from breaking d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lane will be late arriving, which throws our whole schedule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driver may cut us off in the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7a0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We have NO control over this 1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other 90% i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determine the other 9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Garamond"/>
              </a:rPr>
              <a:t>How?... By your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b810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cannot control a red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you can control your re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Do not let people fool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YOU can control how you re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us use an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c810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You are having breakfast with your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Your daughter knocks over a cup of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Onto your business sh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have no control over what has just happ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aramond"/>
              </a:rPr>
              <a:t>What happens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ff"/>
                </a:solidFill>
                <a:latin typeface="Garamond"/>
              </a:rPr>
              <a:t>will be determined by how you re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one more cup of coffe ´fore I go"/>
          <p:cNvPicPr/>
          <p:nvPr/>
        </p:nvPicPr>
        <p:blipFill>
          <a:blip r:embed="rId1"/>
          <a:stretch/>
        </p:blipFill>
        <p:spPr>
          <a:xfrm>
            <a:off x="3276720" y="2276640"/>
            <a:ext cx="260352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810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c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harshly scold your daughter for knocking the cup o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She breaks down in t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fter scolding her, you turn to your w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you criticize her for placing the c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o close to the edge of the 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Garamond"/>
              </a:rPr>
              <a:t>A short verbal battle foll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storm upstairs and change your shi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ck downstairs, you find your daughter has been too busy cry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finish her breakfast and getting ready to go to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Garamond"/>
              </a:rPr>
              <a:t>She misses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0:28:18Z</dcterms:created>
  <dc:creator>Carlos Rangel</dc:creator>
  <dc:description/>
  <dc:language>en-US</dc:language>
  <cp:lastModifiedBy>admin</cp:lastModifiedBy>
  <dcterms:modified xsi:type="dcterms:W3CDTF">2009-02-08T00:17:37Z</dcterms:modified>
  <cp:revision>88</cp:revision>
  <dc:subject/>
  <dc:title>Slide 1</dc:title>
</cp:coreProperties>
</file>