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2.gif" ContentType="image/gif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02%20Guitar%20Revery.wav" ContentType="audio/x-wav"/>
  <Override PartName="/ppt/media/image3.gif" ContentType="image/gif"/>
  <Override PartName="/ppt/media/image4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42D-8B26-4353-AA8B-5425C66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B29-1D20-4FA2-9EE7-38877AD0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1F2-7951-46E6-BF86-98584C50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B18-1A9D-4AFA-B888-542DCCA8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CC1-1202-4EFE-8DEE-59F8384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6A9-E5B9-4D39-8852-988B2D1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23F-B320-4B44-9945-52C133EB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411-9F85-4B12-9BC4-3FA5015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EF3-E659-49FB-A7FD-8AFBC45B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D15-2B97-47BA-8F1D-BD6DE96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1D8-F2CE-4F16-8BDA-9DB2C60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2DC-E4DA-48A8-9E78-E5C6F817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2BC1-28A2-46D0-B447-0168AC2BE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audio" Target="../media/02%20Guitar%20Revery.wav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5.gif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80880"/>
            <a:ext cx="5105160" cy="5639040"/>
            <a:chOff x="533520" y="380880"/>
            <a:chExt cx="5105160" cy="5639040"/>
          </a:xfrm>
        </p:grpSpPr>
        <p:sp>
          <p:nvSpPr>
            <p:cNvPr id="42" name=""/>
            <p:cNvSpPr txBox="1"/>
            <p:nvPr/>
          </p:nvSpPr>
          <p:spPr>
            <a:xfrm>
              <a:off x="533520" y="380880"/>
              <a:ext cx="5029200" cy="56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hopinScript"/>
                </a:rPr>
                <a:t>A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hopinScript"/>
                <a:ea typeface="ChopinScrip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ChopinScript"/>
                </a:rPr>
                <a:t>Frail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ChopinScript"/>
                <a:ea typeface="ChopinScrip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ChopinScript"/>
                </a:rPr>
                <a:t>Old Angel' s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ChopinScript"/>
                <a:ea typeface="ChopinScrip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ChopinScript"/>
                </a:rPr>
                <a:t>Cry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ChopinScript"/>
                <a:ea typeface="ChopinScript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609480" y="380880"/>
              <a:ext cx="5029200" cy="56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opinScript"/>
                </a:rPr>
                <a:t>A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opinScript"/>
                <a:ea typeface="ChopinScrip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opinScript"/>
                </a:rPr>
                <a:t>Frail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opinScript"/>
                <a:ea typeface="ChopinScrip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opinScript"/>
                </a:rPr>
                <a:t>Old Angel 's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opinScript"/>
                <a:ea typeface="ChopinScrip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hopinScript"/>
                </a:rPr>
                <a:t>Cry </a:t>
              </a:r>
              <a:endPara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opinScript"/>
                <a:ea typeface="ChopinScript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0"/>
          <a:stretch/>
        </p:blipFill>
        <p:spPr>
          <a:xfrm>
            <a:off x="228600" y="228600"/>
            <a:ext cx="2181240" cy="363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1"/>
          <a:stretch/>
        </p:blipFill>
        <p:spPr>
          <a:xfrm>
            <a:off x="5562720" y="4648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2"/>
          <a:stretch/>
        </p:blipFill>
        <p:spPr>
          <a:xfrm>
            <a:off x="8458200" y="4572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3"/>
          <a:stretch/>
        </p:blipFill>
        <p:spPr>
          <a:xfrm>
            <a:off x="5638680" y="76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4"/>
          <a:stretch/>
        </p:blipFill>
        <p:spPr>
          <a:xfrm>
            <a:off x="1752480" y="14479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horz"/>
    <p:sndAc>
      <p:stSnd>
        <p:snd r:embed="rId15" name="02%20Guitar%20Reve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00400" y="152280"/>
            <a:ext cx="52736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Last night I had a dream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t had a tale to tell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 dreamed I saw an Angel;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Poor thing, he wasn't feeling well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05320" y="4191120"/>
            <a:ext cx="5273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His body bruised and battered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His wings were ripped and torn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This Angel could hardly walk,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21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He looked so tired and worn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22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3"/>
          <a:stretch/>
        </p:blipFill>
        <p:spPr>
          <a:xfrm>
            <a:off x="7848720" y="38088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00400" y="152280"/>
            <a:ext cx="52736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 walked right up to him to ask;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Angel? How can this be?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He turned around and paused a (bit),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Then he spoke these words to me: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4191120"/>
            <a:ext cx="5273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"I'm Your Guardian Angel,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A great task as you can see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You've run amok most all your life: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Look what it's done to me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1"/>
          <a:stretch/>
        </p:blipFill>
        <p:spPr>
          <a:xfrm>
            <a:off x="7848720" y="38088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00400" y="152280"/>
            <a:ext cx="527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These bruises are from shielding you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n times both dire and ill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Those alcoholic bouts and drugs you've used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've often paid the bill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4191120"/>
            <a:ext cx="5273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 could not believe all I had heard,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Let alone how much he cared.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 wept upon his shoulder,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Then left him in despair.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7924680" y="6858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400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01028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819520" y="990720"/>
            <a:ext cx="5654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The next day I sat and pondered: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Should I really try?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and in the distance I thought I heard;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A frail Old Angel Cry.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7848720" y="38088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200400" y="152280"/>
            <a:ext cx="52736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If only you can make it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Standing on your own; 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05320" y="4724280"/>
            <a:ext cx="5273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Xiby PowerPoint Show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848720" y="3808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352680" y="5029200"/>
            <a:ext cx="5273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Black Chancery"/>
              </a:rPr>
              <a:t>Please Share</a:t>
            </a:r>
            <a:endParaRPr b="0" lang="en-US" sz="32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Black Chancery"/>
              <a:ea typeface="Black Chancery"/>
            </a:endParaRPr>
          </a:p>
        </p:txBody>
      </p:sp>
    </p:spTree>
  </p:cSld>
  <p:transition spd="slow"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xit" presetID="5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0.0033 -0.55555 E">
                                      <p:cBhvr>
                                        <p:cTn id="11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8:58:55Z</dcterms:created>
  <dc:creator>Xiby</dc:creator>
  <dc:description/>
  <dc:language>en-US</dc:language>
  <cp:lastModifiedBy>Xiby</cp:lastModifiedBy>
  <dcterms:modified xsi:type="dcterms:W3CDTF">2007-05-18T11:58:15Z</dcterms:modified>
  <cp:revision>5</cp:revision>
  <dc:subject/>
  <dc:title>Slide 1</dc:title>
</cp:coreProperties>
</file>