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iovanni%20marradi%20-%20blueberry%20hill@.wav" ContentType="audio/x-wav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3E8-7CA7-4653-BB95-97F95C35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7FF-A415-46FD-B502-0C90DD4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55E-C81B-4878-A01A-ADA1BA91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EDD-661D-46D5-BDD2-3C49AF68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C90-95BB-4360-898B-22752777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817-8193-4609-9209-00EFF8E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00F-9CC5-46E3-9ED0-CC9C5FED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CD8-0182-42BD-B8AC-0468E8D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06A-6BE7-4041-9663-9A835C5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D19-C729-410A-B111-CB810AB0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C91-1A88-42A7-BC73-CA719F0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B73-4AE0-4880-813A-62012DE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F691-19F3-454D-A7C7-318182E57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iovanni%20marradi%20-%20blueberry%20hill@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2"/>
          <a:stretch/>
        </p:blipFill>
        <p:spPr>
          <a:xfrm>
            <a:off x="633240" y="1017720"/>
            <a:ext cx="5139000" cy="3116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00040" y="4857840"/>
            <a:ext cx="6572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  poem by Jill Eisnau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ell MT"/>
              </a:rPr>
              <a:t>This poem was written as a request from the poet’s 80-year old, second grade teacher. The poem is used, during school reunion in May, as a memorial tribute to the students, who passed aw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dissolve/>
    <p:sndAc>
      <p:stSnd>
        <p:snd r:embed="rId3" name="giovanni%20marradi%20-%20blueberry%20hill@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71880" y="281160"/>
            <a:ext cx="5857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We gather here, a class once more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To reminiscence, like years before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Upon the days and joys we knew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Before our school-aged time was through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Yet, as we meet, with memories near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We think of those, always held dear -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Our friends and classmates, passed away</a:t>
            </a:r>
            <a:br>
              <a:rPr sz="2200"/>
            </a:b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To be with God, every school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21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8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8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8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" dur="8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286000" y="281160"/>
            <a:ext cx="66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They sit at desks, resting on clouds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Surrounded by angelic crowds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Where they shall be forevermore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The friends and schoolmates we adore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They’ll be with us in every prayer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Until the day, we join them there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Within the walls of Heaven’s class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Where friendships formed shall always l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21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" dur="8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500120" y="2571840"/>
            <a:ext cx="7215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Until that hour, we join again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An empty chair, we will maintain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In honor of the life-long bond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e forged with those, now passed beyond 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The friends with whom we learned life’s truth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hose bonds lasted far from our youth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And shall remain forever near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hen we gather, year after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mph" presetID="21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49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2" dur="8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28760" y="8571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This is an empty room with an empty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But what is now void can yet be filled, if on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you share this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with your relatives or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mph" presetID="21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5" dur="8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8:32:46Z</dcterms:created>
  <dc:creator>XIBY</dc:creator>
  <dc:description/>
  <dc:language>en-US</dc:language>
  <cp:lastModifiedBy>XIBY</cp:lastModifiedBy>
  <dcterms:modified xsi:type="dcterms:W3CDTF">2008-03-20T23:47:47Z</dcterms:modified>
  <cp:revision>7</cp:revision>
  <dc:subject/>
  <dc:title>Slide 1</dc:title>
</cp:coreProperties>
</file>