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8.png" ContentType="image/png"/>
  <Override PartName="/ppt/media/image7.jpeg" ContentType="image/jpeg"/>
  <Override PartName="/ppt/media/image6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3.jpeg" ContentType="image/jpeg"/>
  <Override PartName="/ppt/media/image4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11%20keiko%20matsui%20-%20souvenir.wav" ContentType="audio/x-wav"/>
  <Override PartName="/ppt/media/image12.png" ContentType="image/pn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D915-8DC0-4FFF-8B52-A44900FB3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FEE8-2E63-4423-9534-EA6FD63F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4598-B7FA-483A-94D7-2CCE01D33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78C1-5475-450A-8822-B551180FB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8ADF-C72C-4244-98BE-9234D528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044E-4DE1-4F6B-B2D4-C7BC0E02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A856-FDE0-4A6E-A8C9-42FD27F9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2E3D-DC25-4FE4-A0EE-B4A089D9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EEEC-CA43-481C-98E7-AB05697E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4099-9509-4931-BC0E-B17AD04A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FC1D-9BD5-4CDD-BFEF-32FB8033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CD95-FEAA-4A29-A760-939CBCF7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88C0-DE8B-465A-A4A1-E510A3B422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11%20keiko%20matsui%20-%20souvenir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3" descr=""/>
          <p:cNvPicPr/>
          <p:nvPr/>
        </p:nvPicPr>
        <p:blipFill>
          <a:blip r:embed="rId2"/>
          <a:stretch/>
        </p:blipFill>
        <p:spPr>
          <a:xfrm>
            <a:off x="450720" y="4065480"/>
            <a:ext cx="8285400" cy="26593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trips dir="ru"/>
    <p:sndAc>
      <p:stSnd>
        <p:snd r:embed="rId3" name="11%20keiko%20matsui%20-%20souveni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TextBox 3" descr=""/>
          <p:cNvPicPr/>
          <p:nvPr/>
        </p:nvPicPr>
        <p:blipFill>
          <a:blip r:embed="rId2"/>
          <a:stretch/>
        </p:blipFill>
        <p:spPr>
          <a:xfrm>
            <a:off x="853920" y="4065480"/>
            <a:ext cx="7661520" cy="32990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trips dir="r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extBox 1" descr=""/>
          <p:cNvPicPr/>
          <p:nvPr/>
        </p:nvPicPr>
        <p:blipFill>
          <a:blip r:embed="rId2"/>
          <a:stretch/>
        </p:blipFill>
        <p:spPr>
          <a:xfrm>
            <a:off x="-79200" y="4206960"/>
            <a:ext cx="9442440" cy="351612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strips dir="r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TextBox 1" descr=""/>
          <p:cNvPicPr/>
          <p:nvPr/>
        </p:nvPicPr>
        <p:blipFill>
          <a:blip r:embed="rId2"/>
          <a:stretch/>
        </p:blipFill>
        <p:spPr>
          <a:xfrm>
            <a:off x="4791240" y="633240"/>
            <a:ext cx="4456080" cy="57312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trips dir="r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TextBox 1" descr=""/>
          <p:cNvPicPr/>
          <p:nvPr/>
        </p:nvPicPr>
        <p:blipFill>
          <a:blip r:embed="rId2"/>
          <a:stretch/>
        </p:blipFill>
        <p:spPr>
          <a:xfrm>
            <a:off x="4681440" y="981000"/>
            <a:ext cx="4578480" cy="46339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strips dir="r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TextBox 1" descr=""/>
          <p:cNvPicPr/>
          <p:nvPr/>
        </p:nvPicPr>
        <p:blipFill>
          <a:blip r:embed="rId2"/>
          <a:stretch/>
        </p:blipFill>
        <p:spPr>
          <a:xfrm>
            <a:off x="208080" y="3949560"/>
            <a:ext cx="8740800" cy="3915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trips dir="r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TextBox 1" descr=""/>
          <p:cNvPicPr/>
          <p:nvPr/>
        </p:nvPicPr>
        <p:blipFill>
          <a:blip r:embed="rId2"/>
          <a:stretch/>
        </p:blipFill>
        <p:spPr>
          <a:xfrm>
            <a:off x="5048280" y="822240"/>
            <a:ext cx="4181400" cy="51818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trips dir="ru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Untitled-2.gif"/>
          <p:cNvPicPr/>
          <p:nvPr/>
        </p:nvPicPr>
        <p:blipFill>
          <a:blip r:embed="rId2"/>
          <a:stretch/>
        </p:blipFill>
        <p:spPr>
          <a:xfrm>
            <a:off x="4340160" y="4151160"/>
            <a:ext cx="4810320" cy="207360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4" descr=""/>
          <p:cNvPicPr/>
          <p:nvPr/>
        </p:nvPicPr>
        <p:blipFill>
          <a:blip r:embed="rId3"/>
          <a:stretch/>
        </p:blipFill>
        <p:spPr>
          <a:xfrm>
            <a:off x="208080" y="133200"/>
            <a:ext cx="8582040" cy="5597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6:03:56Z</dcterms:created>
  <dc:creator>XIBBY</dc:creator>
  <dc:description/>
  <dc:language>en-US</dc:language>
  <cp:lastModifiedBy>XIBBY</cp:lastModifiedBy>
  <dcterms:modified xsi:type="dcterms:W3CDTF">2008-02-15T18:53:56Z</dcterms:modified>
  <cp:revision>18</cp:revision>
  <dc:subject/>
  <dc:title>Slide 1</dc:title>
</cp:coreProperties>
</file>