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5.png" ContentType="image/png"/>
  <Override PartName="/ppt/media/selection%20from%20El%20Protegido.wav" ContentType="audio/x-wav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2BE-4C05-4A3B-9324-F448B48F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028-C70B-40F6-9EE6-5C685BBF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921-3E27-4F6B-98EB-FBE8EE24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7E0-CB08-479A-9AF6-D7F1929D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922-F3DB-42B9-BE65-770A538B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D88-69EC-4D2B-BEA4-A4B62C9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28F-3B88-4497-B1DD-F3AA955B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477-7EFF-41A9-B793-D09B288D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2FF-91CF-430A-B668-5AD4F7F0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3CB-A470-424A-A0C3-0F90DF8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DF1-0D0F-4D64-A251-FC1FA42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91E-CAAC-4D7F-BECB-EC1C84F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E9B-8BFB-4697-99F6-F824642983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election%20from%20El%20Protegido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407880" y="1554120"/>
            <a:ext cx="8034480" cy="1712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Untitled-2.gif"/>
          <p:cNvPicPr/>
          <p:nvPr/>
        </p:nvPicPr>
        <p:blipFill>
          <a:blip r:embed="rId3"/>
          <a:stretch/>
        </p:blipFill>
        <p:spPr>
          <a:xfrm>
            <a:off x="-1219320" y="1206360"/>
            <a:ext cx="11296800" cy="2013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500280" y="3429000"/>
            <a:ext cx="535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d5b5"/>
                </a:solidFill>
                <a:latin typeface="Calibri"/>
              </a:rPr>
              <a:t>Have you ever done it? Have you ever flipped your Bible open to a random verse hoping that God might meet you in the flipping and the pointing and spill a word for your lif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split dir="out" orient="horz"/>
    <p:sndAc>
      <p:stSnd>
        <p:snd r:embed="rId4" name="selection%20from%20El%20Protegi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5" descr=""/>
          <p:cNvPicPr/>
          <p:nvPr/>
        </p:nvPicPr>
        <p:blipFill>
          <a:blip r:embed="rId2"/>
          <a:stretch/>
        </p:blipFill>
        <p:spPr>
          <a:xfrm>
            <a:off x="353880" y="2498760"/>
            <a:ext cx="8363160" cy="3938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786720" y="642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dd9c3"/>
                </a:solidFill>
                <a:latin typeface="Aharoni"/>
                <a:ea typeface="Aharoni"/>
              </a:rPr>
              <a:t>1 John 4: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5" descr=""/>
          <p:cNvPicPr/>
          <p:nvPr/>
        </p:nvPicPr>
        <p:blipFill>
          <a:blip r:embed="rId2"/>
          <a:stretch/>
        </p:blipFill>
        <p:spPr>
          <a:xfrm>
            <a:off x="390600" y="469800"/>
            <a:ext cx="8326440" cy="3949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4786200" y="6215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dd9c3"/>
                </a:solidFill>
                <a:latin typeface="Calibri"/>
              </a:rPr>
              <a:t>Isaiah 41: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5" descr=""/>
          <p:cNvPicPr/>
          <p:nvPr/>
        </p:nvPicPr>
        <p:blipFill>
          <a:blip r:embed="rId2"/>
          <a:stretch/>
        </p:blipFill>
        <p:spPr>
          <a:xfrm>
            <a:off x="1195560" y="2706840"/>
            <a:ext cx="7540560" cy="703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785880" y="285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dd9c3"/>
                </a:solidFill>
                <a:latin typeface="Calibri"/>
              </a:rPr>
              <a:t>John 14: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5" descr=""/>
          <p:cNvPicPr/>
          <p:nvPr/>
        </p:nvPicPr>
        <p:blipFill>
          <a:blip r:embed="rId2"/>
          <a:stretch/>
        </p:blipFill>
        <p:spPr>
          <a:xfrm>
            <a:off x="847800" y="353880"/>
            <a:ext cx="7735680" cy="3084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214280" y="62150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Proverbs 15:1 New Living Translation Bib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split dir="out" orient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2"/>
          <a:stretch/>
        </p:blipFill>
        <p:spPr>
          <a:xfrm>
            <a:off x="401760" y="304920"/>
            <a:ext cx="8272440" cy="2876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572160" y="52149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Daniel 9: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5" descr=""/>
          <p:cNvPicPr/>
          <p:nvPr/>
        </p:nvPicPr>
        <p:blipFill>
          <a:blip r:embed="rId2"/>
          <a:stretch/>
        </p:blipFill>
        <p:spPr>
          <a:xfrm>
            <a:off x="506520" y="530280"/>
            <a:ext cx="4846680" cy="5608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215120" y="142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Calibri"/>
              </a:rPr>
              <a:t>1 Peter 3: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32:31Z</dcterms:created>
  <dc:creator>XIBY</dc:creator>
  <dc:description/>
  <dc:language>en-US</dc:language>
  <cp:lastModifiedBy>XIBY</cp:lastModifiedBy>
  <dcterms:modified xsi:type="dcterms:W3CDTF">2009-03-30T19:24:35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491269</vt:lpwstr>
  </property>
  <property fmtid="{D5CDD505-2E9C-101B-9397-08002B2CF9AE}" pid="3" name="NXPowerLiteVersion">
    <vt:lpwstr>D3.7.2</vt:lpwstr>
  </property>
</Properties>
</file>