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0AD0-3091-4D13-8E6E-B1FECF98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9B5E-B74D-4982-A976-7954C049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1B7-8297-4CBB-A34E-C0E17632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E0DD-066D-47B4-9731-868FDC1E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B2B-D743-4E42-8881-1A197D12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218-87F5-4671-840F-E5FE6626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9E41-6A70-4EBB-AC17-5BD981AA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841-3C5D-40A6-8510-AB3E1441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9690-D454-4F71-840A-50FFF238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89F-5614-4D44-9F4A-4AA57F9F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03C-F144-465C-9E73-2474B53D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61C-1D26-42FB-A0BC-2A2534AC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B6CF-428E-434E-AFA5-A70E01F40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42:03Z</dcterms:created>
  <dc:creator>rosario</dc:creator>
  <dc:description/>
  <dc:language>en-US</dc:language>
  <cp:lastModifiedBy>rosario</cp:lastModifiedBy>
  <dcterms:modified xsi:type="dcterms:W3CDTF">2009-03-23T18:40:21Z</dcterms:modified>
  <cp:revision>6</cp:revision>
  <dc:subject/>
  <dc:title>Slide 1</dc:title>
</cp:coreProperties>
</file>