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labut.wav" ContentType="audio/x-wav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70D-9A88-4FE9-80DB-4EEC6069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022-8666-4857-8BE3-14E685CE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584-E4DD-483A-B794-170826BA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E901-02E9-4AB7-9A35-89D4CF6C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2C22-9F5D-4295-9ADE-EA75CD33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8A1-B401-40D2-85EC-2CDC0684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B0E-15E3-4F08-8AB2-329FB092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4DE-EF71-4258-A8F8-A9231962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745A-8256-4BCB-9478-7C3C2F64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2BF-BAB7-40A9-BF6A-3BBD9471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F040-988F-4BF3-B313-520BF3CE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161-F568-49D0-B2E5-8FEC92D3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B0E6-58F8-4B96-B082-7BD4C317B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labut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1920" y="406440"/>
            <a:ext cx="625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68920" y="2046240"/>
            <a:ext cx="734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zoom dir="in"/>
    <p:sndAc>
      <p:stSnd>
        <p:snd r:embed="rId3" name="labu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6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6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6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6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6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6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6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7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7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6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6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6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6000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6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6000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6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67640" y="6165720"/>
            <a:ext cx="1074600" cy="351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in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6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7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6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7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7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6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6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20:50:57Z</dcterms:created>
  <dc:creator>Miloš - nobbody</dc:creator>
  <dc:description/>
  <cp:keywords>prezentace v power pointu</cp:keywords>
  <dc:language>en-US</dc:language>
  <cp:lastModifiedBy>Miloš - nobbody</cp:lastModifiedBy>
  <dcterms:modified xsi:type="dcterms:W3CDTF">2008-04-23T21:22:19Z</dcterms:modified>
  <cp:revision>3</cp:revision>
  <dc:subject/>
  <dc:title>Křídla motýlí</dc:title>
</cp:coreProperties>
</file>