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4819-045F-4840-BC98-28A08BE77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E9F4-5A03-46DA-A5DF-FE8588C41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E2AF-1B4C-461B-BE31-2D33DF307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754F-3448-4A62-8843-EECF27BE6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2847-5E5D-49AD-9783-9EB19ECE1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6E10-CBD8-4F4F-A531-689EBA87C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3FBF-31EF-41D6-AA48-4E1BD1C1C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7C1B-B062-4AC3-BFCA-6FE34B596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EA94-1225-4350-B259-8FE960DDE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2B10-9B90-4FFF-91DD-FB33C9D1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AFEB-4BFD-4B16-B94B-9BBB5E7A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DCFA-E805-402A-ACE4-336752D0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1A8E2-213B-487D-8964-7B0CB5E98F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66"/>
                </a:solidFill>
                <a:latin typeface="Times New Roman"/>
              </a:rPr>
              <a:t>The Cactus</a:t>
            </a:r>
            <a:br>
              <a:rPr sz="6000"/>
            </a:br>
            <a:r>
              <a:rPr b="0" lang="en-US" sz="6000" spc="-1" strike="noStrike">
                <a:solidFill>
                  <a:srgbClr val="ff0066"/>
                </a:solidFill>
                <a:latin typeface="Times New Roman"/>
              </a:rPr>
              <a:t>Wild Beaut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-684360" y="4149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C:\Documents and Settings\jb\Bureau\cactus\Oroya peruviana.jpg"/>
          <p:cNvPicPr/>
          <p:nvPr/>
        </p:nvPicPr>
        <p:blipFill>
          <a:blip r:embed="rId1"/>
          <a:stretch/>
        </p:blipFill>
        <p:spPr>
          <a:xfrm>
            <a:off x="2352600" y="142920"/>
            <a:ext cx="6791400" cy="67150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4"/>
          <p:cNvSpPr/>
          <p:nvPr/>
        </p:nvSpPr>
        <p:spPr>
          <a:xfrm>
            <a:off x="762120" y="6469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Oroya peruvian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b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C:\Documents and Settings\jb\Bureau\cactus\Echinocereus polyacanthus.jpg"/>
          <p:cNvPicPr/>
          <p:nvPr/>
        </p:nvPicPr>
        <p:blipFill>
          <a:blip r:embed="rId1"/>
          <a:stretch/>
        </p:blipFill>
        <p:spPr>
          <a:xfrm>
            <a:off x="1176480" y="61920"/>
            <a:ext cx="6791040" cy="67341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>
            <a:off x="1219320" y="6392880"/>
            <a:ext cx="236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Echinocereus polyacanth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C:\Documents and Settings\jb\Bureau\cactus\Escobaria minima.jpg"/>
          <p:cNvPicPr/>
          <p:nvPr/>
        </p:nvPicPr>
        <p:blipFill>
          <a:blip r:embed="rId1"/>
          <a:stretch/>
        </p:blipFill>
        <p:spPr>
          <a:xfrm>
            <a:off x="304920" y="790560"/>
            <a:ext cx="8572320" cy="60674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380880" y="63928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Escobaria minim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69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Documents and Settings\jb\Bureau\cactus\Escobaria wissmannii.jpg"/>
          <p:cNvPicPr/>
          <p:nvPr/>
        </p:nvPicPr>
        <p:blipFill>
          <a:blip r:embed="rId1"/>
          <a:stretch/>
        </p:blipFill>
        <p:spPr>
          <a:xfrm>
            <a:off x="571680" y="104760"/>
            <a:ext cx="8572320" cy="67532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152280" y="52578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Escobaria wissmanni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a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C:\Documents and Settings\jb\Bureau\cactus\Mammillaria albiflora.jpg"/>
          <p:cNvPicPr/>
          <p:nvPr/>
        </p:nvPicPr>
        <p:blipFill>
          <a:blip r:embed="rId1"/>
          <a:stretch/>
        </p:blipFill>
        <p:spPr>
          <a:xfrm>
            <a:off x="609480" y="114480"/>
            <a:ext cx="7896240" cy="67435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1295280" y="640080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Mammillaria albiflor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C:\Documents and Settings\jb\Bureau\Rebutia pallida.jpg"/>
          <p:cNvPicPr/>
          <p:nvPr/>
        </p:nvPicPr>
        <p:blipFill>
          <a:blip r:embed="rId1"/>
          <a:stretch/>
        </p:blipFill>
        <p:spPr>
          <a:xfrm>
            <a:off x="990720" y="114480"/>
            <a:ext cx="7448400" cy="67435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228600" y="639288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Rebutia pallid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Documents and Settings\jb\Bureau\cactus\Matucana krahnii.jpg"/>
          <p:cNvPicPr/>
          <p:nvPr/>
        </p:nvPicPr>
        <p:blipFill>
          <a:blip r:embed="rId1"/>
          <a:stretch/>
        </p:blipFill>
        <p:spPr>
          <a:xfrm>
            <a:off x="814320" y="57240"/>
            <a:ext cx="7515360" cy="674352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685800" y="6469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Matucana krahni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4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C:\Documents and Settings\jb\Bureau\cactus\Neowerdermannia vorwerkii.jpg"/>
          <p:cNvPicPr/>
          <p:nvPr/>
        </p:nvPicPr>
        <p:blipFill>
          <a:blip r:embed="rId1"/>
          <a:stretch/>
        </p:blipFill>
        <p:spPr>
          <a:xfrm>
            <a:off x="2200320" y="114480"/>
            <a:ext cx="6943680" cy="67435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0" y="64008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Neowerdermannia vorwerki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C:\Documents and Settings\jb\Bureau\Nouveau dossier\Astrophytum coahuilense.jpg"/>
          <p:cNvPicPr/>
          <p:nvPr/>
        </p:nvPicPr>
        <p:blipFill>
          <a:blip r:embed="rId1"/>
          <a:stretch/>
        </p:blipFill>
        <p:spPr>
          <a:xfrm>
            <a:off x="2514600" y="114480"/>
            <a:ext cx="6305400" cy="67435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457200" y="63928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Astrophytum coahuilen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C:\Documents and Settings\jb\Bureau\Discocactus pugionacanthus.jpg"/>
          <p:cNvPicPr/>
          <p:nvPr/>
        </p:nvPicPr>
        <p:blipFill>
          <a:blip r:embed="rId1"/>
          <a:stretch/>
        </p:blipFill>
        <p:spPr>
          <a:xfrm>
            <a:off x="2438280" y="114480"/>
            <a:ext cx="5857920" cy="67435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0" y="639288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Discocactus pugionacanth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d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C:\Documents and Settings\jb\Bureau\cactus\Cochemiea poselgeri.jpg"/>
          <p:cNvPicPr/>
          <p:nvPr/>
        </p:nvPicPr>
        <p:blipFill>
          <a:blip r:embed="rId1"/>
          <a:stretch/>
        </p:blipFill>
        <p:spPr>
          <a:xfrm>
            <a:off x="0" y="1057320"/>
            <a:ext cx="9144000" cy="5800680"/>
          </a:xfrm>
          <a:prstGeom prst="rect">
            <a:avLst/>
          </a:prstGeom>
          <a:ln w="0">
            <a:noFill/>
          </a:ln>
        </p:spPr>
      </p:pic>
      <p:sp>
        <p:nvSpPr>
          <p:cNvPr id="44" name="Text Box 4"/>
          <p:cNvSpPr/>
          <p:nvPr/>
        </p:nvSpPr>
        <p:spPr>
          <a:xfrm>
            <a:off x="152280" y="640080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Cochemiea poselger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6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C:\Documents and Settings\jb\Bureau\Nouveau dossier\Echinocereus klapperi.jpg"/>
          <p:cNvPicPr/>
          <p:nvPr/>
        </p:nvPicPr>
        <p:blipFill>
          <a:blip r:embed="rId1"/>
          <a:stretch/>
        </p:blipFill>
        <p:spPr>
          <a:xfrm>
            <a:off x="914400" y="114480"/>
            <a:ext cx="7257960" cy="67435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1066680" y="631656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Echinocereus klapper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4d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C:\Documents and Settings\jb\Bureau\Nouveau dossier\Echinocereus reichenbachii.jpg"/>
          <p:cNvPicPr/>
          <p:nvPr/>
        </p:nvPicPr>
        <p:blipFill>
          <a:blip r:embed="rId1"/>
          <a:stretch/>
        </p:blipFill>
        <p:spPr>
          <a:xfrm>
            <a:off x="1143000" y="114480"/>
            <a:ext cx="6858000" cy="67435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1219320" y="63244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Echinocereus reichenbachi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e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Documents and Settings\jb\Bureau\Nouveau dossier\Echinocereus subinermis.jpg"/>
          <p:cNvPicPr/>
          <p:nvPr/>
        </p:nvPicPr>
        <p:blipFill>
          <a:blip r:embed="rId1"/>
          <a:stretch/>
        </p:blipFill>
        <p:spPr>
          <a:xfrm>
            <a:off x="0" y="447840"/>
            <a:ext cx="8953560" cy="64101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838080" y="624060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Echinocereus subinermi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49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C:\Documents and Settings\jb\Bureau\Nouveau dossier\Echinomastus durangensis.jpg"/>
          <p:cNvPicPr/>
          <p:nvPr/>
        </p:nvPicPr>
        <p:blipFill>
          <a:blip r:embed="rId1"/>
          <a:stretch/>
        </p:blipFill>
        <p:spPr>
          <a:xfrm>
            <a:off x="380880" y="285840"/>
            <a:ext cx="8763120" cy="65721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0" y="63244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Echinomastus durangensi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C:\Documents and Settings\jb\Bureau\Ferobergia hybride.jpg"/>
          <p:cNvPicPr/>
          <p:nvPr/>
        </p:nvPicPr>
        <p:blipFill>
          <a:blip r:embed="rId1"/>
          <a:stretch/>
        </p:blipFill>
        <p:spPr>
          <a:xfrm>
            <a:off x="1362240" y="114480"/>
            <a:ext cx="7781760" cy="67435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0" y="63928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Ferobergia hybri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C:\Documents and Settings\jb\Bureau\Nouveau dossier\Lobivia cinnabarin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6248520" y="654516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Lobivia cinnabarin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3a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C:\Documents and Settings\jb\Bureau\Nouveau dossier\Lobivia peclardiana.jpg"/>
          <p:cNvPicPr/>
          <p:nvPr/>
        </p:nvPicPr>
        <p:blipFill>
          <a:blip r:embed="rId1"/>
          <a:stretch/>
        </p:blipFill>
        <p:spPr>
          <a:xfrm>
            <a:off x="762120" y="114480"/>
            <a:ext cx="7629480" cy="67435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228600" y="64771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Lobivia peclardian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565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C:\Documents and Settings\jb\Bureau\Nouveau dossier\Mammillaria slevinii.jpg"/>
          <p:cNvPicPr/>
          <p:nvPr/>
        </p:nvPicPr>
        <p:blipFill>
          <a:blip r:embed="rId1"/>
          <a:stretch/>
        </p:blipFill>
        <p:spPr>
          <a:xfrm>
            <a:off x="1066680" y="114480"/>
            <a:ext cx="7039080" cy="67435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380880" y="646920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Mammillaria slevini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C:\Documents and Settings\jb\Bureau\Copiapoa tenuissima.jpg"/>
          <p:cNvPicPr/>
          <p:nvPr/>
        </p:nvPicPr>
        <p:blipFill>
          <a:blip r:embed="rId1"/>
          <a:stretch/>
        </p:blipFill>
        <p:spPr>
          <a:xfrm>
            <a:off x="1981080" y="114480"/>
            <a:ext cx="6524640" cy="67435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152280" y="6248520"/>
            <a:ext cx="24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Copiapoa tenuissim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C:\Documents and Settings\jb\Bureau\Nouveau dossier\Ortegocactus macdougallii.jpg"/>
          <p:cNvPicPr/>
          <p:nvPr/>
        </p:nvPicPr>
        <p:blipFill>
          <a:blip r:embed="rId1"/>
          <a:stretch/>
        </p:blipFill>
        <p:spPr>
          <a:xfrm>
            <a:off x="1657440" y="114480"/>
            <a:ext cx="7486560" cy="67435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"/>
          <p:cNvSpPr/>
          <p:nvPr/>
        </p:nvSpPr>
        <p:spPr>
          <a:xfrm>
            <a:off x="0" y="6240600"/>
            <a:ext cx="19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Ortegocactus macdougalli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26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C:\Documents and Settings\jb\Bureau\cactus\Echinocereus pectinatus.jpg"/>
          <p:cNvPicPr/>
          <p:nvPr/>
        </p:nvPicPr>
        <p:blipFill>
          <a:blip r:embed="rId1"/>
          <a:stretch/>
        </p:blipFill>
        <p:spPr>
          <a:xfrm>
            <a:off x="0" y="428760"/>
            <a:ext cx="8953560" cy="64292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7"/>
          <p:cNvSpPr/>
          <p:nvPr/>
        </p:nvSpPr>
        <p:spPr>
          <a:xfrm>
            <a:off x="304920" y="632448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Echinocereus pectinat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5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C:\Documents and Settings\jb\Bureau\Nouveau dossier\Parodia spaniosa.jpg"/>
          <p:cNvPicPr/>
          <p:nvPr/>
        </p:nvPicPr>
        <p:blipFill>
          <a:blip r:embed="rId1"/>
          <a:stretch/>
        </p:blipFill>
        <p:spPr>
          <a:xfrm>
            <a:off x="1219320" y="114480"/>
            <a:ext cx="7924680" cy="67435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228600" y="639288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Parodia spanios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C:\Documents and Settings\jb\Bureau\Nouveau dossier\Strombocactus pulcherrimu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"/>
          <p:cNvSpPr/>
          <p:nvPr/>
        </p:nvSpPr>
        <p:spPr>
          <a:xfrm>
            <a:off x="228600" y="64771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Parodia spanios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22280" y="5516640"/>
            <a:ext cx="42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4400" spc="-1" strike="noStrike">
                <a:solidFill>
                  <a:srgbClr val="ff33cc"/>
                </a:solidFill>
                <a:latin typeface="Times New Roman"/>
              </a:rPr>
              <a:t>Isn’t it beautifu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C:\Documents and Settings\jb\Bureau\cactus\Coryphantha wohlschlager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1676520" y="6316560"/>
            <a:ext cx="24382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Coryphantha wohlschlager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C:\Documents and Settings\jb\Bureau\cactus\Lobivia tiegeliana.jpg"/>
          <p:cNvPicPr/>
          <p:nvPr/>
        </p:nvPicPr>
        <p:blipFill>
          <a:blip r:embed="rId1"/>
          <a:stretch/>
        </p:blipFill>
        <p:spPr>
          <a:xfrm>
            <a:off x="0" y="523800"/>
            <a:ext cx="8953560" cy="63342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7010280" y="65530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Lobivia tiegelian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C:\Documents and Settings\jb\Bureau\cactus\Astrophytum super kabuto.jpg"/>
          <p:cNvPicPr/>
          <p:nvPr/>
        </p:nvPicPr>
        <p:blipFill>
          <a:blip r:embed="rId1"/>
          <a:stretch/>
        </p:blipFill>
        <p:spPr>
          <a:xfrm>
            <a:off x="0" y="523800"/>
            <a:ext cx="8953560" cy="63342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4"/>
          <p:cNvSpPr/>
          <p:nvPr/>
        </p:nvSpPr>
        <p:spPr>
          <a:xfrm>
            <a:off x="152280" y="640080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Astrophytum super kabu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Documents and Settings\jb\Bureau\cactus\Rebutia poecilantha.jpg"/>
          <p:cNvPicPr/>
          <p:nvPr/>
        </p:nvPicPr>
        <p:blipFill>
          <a:blip r:embed="rId1"/>
          <a:stretch/>
        </p:blipFill>
        <p:spPr>
          <a:xfrm>
            <a:off x="190440" y="523800"/>
            <a:ext cx="8953560" cy="63342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152280" y="6545160"/>
            <a:ext cx="289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Rebutia poecilanth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Documents and Settings\jb\Bureau\cactus\Lobivia robust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228600" y="6324480"/>
            <a:ext cx="281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Lobivia robus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b0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C:\Documents and Settings\jb\Bureau\cactus\Discocactus horstii.jpg"/>
          <p:cNvPicPr/>
          <p:nvPr/>
        </p:nvPicPr>
        <p:blipFill>
          <a:blip r:embed="rId1"/>
          <a:stretch/>
        </p:blipFill>
        <p:spPr>
          <a:xfrm>
            <a:off x="1542960" y="71280"/>
            <a:ext cx="6058080" cy="67154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990720" y="624060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Discocactus horsti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3T11:06:53Z</dcterms:created>
  <dc:creator>jb</dc:creator>
  <dc:description/>
  <dc:language>en-US</dc:language>
  <cp:lastModifiedBy>Errald</cp:lastModifiedBy>
  <dcterms:modified xsi:type="dcterms:W3CDTF">2009-01-26T15:37:17Z</dcterms:modified>
  <cp:revision>47</cp:revision>
  <dc:subject/>
  <dc:title>Présentation PowerPoint</dc:title>
</cp:coreProperties>
</file>