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Clayderman-Sleepy%20Shores-3.24.wav" ContentType="audio/x-wav"/>
  <Override PartName="/ppt/media/image21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A9B-BA11-46A2-81C8-478F9F35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F3C-3F95-4D70-9002-719EF61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5B7-0D9B-49A6-9E7E-8849FDA9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FD6-0D6D-42EC-9675-3D4E6608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6CD-84D2-4088-B0D5-3FECB425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2CF-EFFC-400B-B213-C523176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559-776C-4887-88CE-63DB09D0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023-F70D-4F06-9C37-436E8DDB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63E-BDF1-4FEE-9394-17EBAD1F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BB0-FACE-4DF9-88D5-370B0F8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9FF-7CC2-4F69-8FA6-BE03C6DE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EBB-FF21-4024-9066-0D4964C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D0FE-06FA-47C3-8A49-69290E2B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yderman-Sleepy%20Shores-3.24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84200" y="1700280"/>
            <a:ext cx="631512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Capturing</a:t>
            </a:r>
            <a:endParaRPr b="1" i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the Moment</a:t>
            </a:r>
            <a:endParaRPr b="1" i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8480" y="647712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ic: Clayderman’s “Sleepy Sho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47760" y="647712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des Chang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00120" y="0"/>
            <a:ext cx="6073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58840"/>
            <a:ext cx="9144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37107" b="0"/>
          <a:stretch/>
        </p:blipFill>
        <p:spPr>
          <a:xfrm>
            <a:off x="0" y="1306440"/>
            <a:ext cx="9144000" cy="42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09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3200" t="0" r="16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85960" y="0"/>
            <a:ext cx="733428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9524" t="0" r="28571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321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98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828" t="0" r="42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158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411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3310" r="0" b="49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54360" y="0"/>
            <a:ext cx="544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49520" y="0"/>
            <a:ext cx="5841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458" r="0" b="0"/>
          <a:stretch/>
        </p:blipFill>
        <p:spPr>
          <a:xfrm>
            <a:off x="188424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2667" r="0" b="0"/>
          <a:stretch/>
        </p:blipFill>
        <p:spPr>
          <a:xfrm>
            <a:off x="16146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3840" y="0"/>
            <a:ext cx="5965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32120" y="0"/>
            <a:ext cx="5251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13:48Z</dcterms:created>
  <dc:creator>Lyman Smith</dc:creator>
  <dc:description>verteilt durch www.funmail2u.de - einem unverbindlichen Service, der dir jeden Tag kostenlos Dateien in dieser Art per Mail senden kann, wenn du dich dort anmeldest...</dc:description>
  <dc:language>en-US</dc:language>
  <cp:lastModifiedBy>flama</cp:lastModifiedBy>
  <dcterms:modified xsi:type="dcterms:W3CDTF">2009-10-08T07:53:32Z</dcterms:modified>
  <cp:revision>6</cp:revision>
  <dc:subject/>
  <dc:title>Slide 1</dc:title>
</cp:coreProperties>
</file>