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enya%20-%20enigma%20-%20enigma%20-%20sadness.wav" ContentType="audio/x-wav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60F-03FD-4048-B684-C8B8536E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6BE-47DE-4038-A2C4-7463153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7B7-5D40-422A-9A53-CB083E87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028-15A4-4132-9B23-E4853CAF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6D8-319A-42D5-A034-B7CF107F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49E-E894-460D-A246-09C4736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E13-B7F3-44FC-AA57-9B70CB1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D9F-700B-45A1-A09E-FF294A7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444-36BA-44A1-BE46-C12DDD6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DEC-3EDD-428A-A02C-4D8FD4B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6A9-2368-44F6-B000-F132ED4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2F5-74EE-4277-8EE0-5C0B10D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6CD-BC61-40FC-8731-EC3AED2C26C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nya%20-%20enigma%20-%20enigma%20-%20sadnes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ay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Slay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enya%20-%20enigma%20-%20enigma%20-%20sadne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ayt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Slayt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ayt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Slayt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ayt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Slayt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ayt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66" name="Slayt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ayt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Slayt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ayt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Slayt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Slayt3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ayt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Slayt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ayt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Slayt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ayt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Slayt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ayt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layt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ayt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Slayt12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ayt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Slayt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ayt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Slayt16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ayt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Slayt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2:05:08Z</dcterms:created>
  <dc:creator>ilker</dc:creator>
  <dc:description/>
  <dc:language>en-US</dc:language>
  <cp:lastModifiedBy>../</cp:lastModifiedBy>
  <dcterms:modified xsi:type="dcterms:W3CDTF">2008-04-10T07:05:42Z</dcterms:modified>
  <cp:revision>9</cp:revision>
  <dc:subject/>
  <dc:title>PowerPoint Sunusu</dc:title>
</cp:coreProperties>
</file>