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alcazar%20Layer-3.wav" ContentType="audio/x-wav"/>
  <Override PartName="/ppt/media/image1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FDD3-624E-45AA-A42B-DD2FDC14D81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C32C-83C6-4DAE-9A46-912B5C251CB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8A80-86E1-4A5C-B466-DE46E338D05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81DB-4FD8-4D45-9570-A8931B4A5A6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631A-E320-4A13-9F25-C9F141128C4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14EA-DA3C-4197-BC83-6585785F9D6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7708-4444-4939-AD39-173207BFDFD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4144-3788-4E7C-9EA1-368CA377342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302D-3166-4AA4-ADCC-7511FA88928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7E26-5A1C-4A50-AB11-EDA29B35CF2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3494-78BF-412D-888A-187D656195F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6524-AF0D-4F76-A9A1-5AE1F4FE603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24CF-436D-401E-B386-68E7D301708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8FBA-8E00-4AE6-9322-C0A0D0ABAE8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1A3B-B01A-4497-84BA-CB2678F8298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B913-1C85-4D71-B1BF-6433C71BA87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6764-754D-4A9A-8D05-2F970B225B3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4594-C1A9-4CCF-A33D-CA609330351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5271-2512-4058-9B58-637055C3E7A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2E6C-7BAD-438B-99F2-CD7F30C1028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37E5-4C65-43F8-9E05-1D66E85150B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6E58-1F37-439F-B5BA-82B1D531076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2D48-0A80-4793-B765-B01439D764F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928F-97EF-426C-9AFA-4A89ECF87B9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B126-4CB2-4589-8322-12E999570CB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4843-1AE0-4D95-B313-0D6B67021B4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528A-CFB2-4BA6-97FC-AA92C7AA7D6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63B2-34FB-4402-B57E-2D81F712C5B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76AA-8E2D-47E3-829C-48E43B20CEE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7C18-76E7-4F8B-B9B3-D733B2F34B5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670E-BA92-4C78-BFFC-5E09DD36CE5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9AC3-D9A2-443C-A1EF-FEA1C48E498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85BB-8189-4520-A9AD-42B69343E15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FD5B-775E-4215-9975-8153F4F616E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CB9E-62B1-407F-B23D-B1B6931A124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224D-EDC9-4CF3-9F3C-E66AEFF1C80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A0D4-B6B2-4F9D-A2B3-D5508D2BFAF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F06-24FD-4F49-B045-66286D6B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F5C-B82C-4E46-97B8-24B7F7DA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AB6-3E62-4212-85EE-8A4C172B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3FD-D1E6-4C28-B353-1645A0A8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094-A1DB-4823-9C73-F8CDDD97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113-B465-4EC1-B8F8-C9DA0484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6C9-F1E3-4FDC-8552-688A0BAF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112-8870-4E05-9D0E-82205547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51C-2E7C-4F5A-BB7A-A54FEA1D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479-8EC6-4848-995F-E2EF2D29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D4A-F95A-4A3D-8D39-7B6CDA42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EED-844B-46B6-A6E0-7CD7B71A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BB65-1CBA-4D12-A010-F81AF05D09A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cazar%20Layer-3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http://www.animalliberationfront.com/News/AnimalPhotos/Animals_131-140/catdogear.jpg"/>
          <p:cNvPicPr/>
          <p:nvPr/>
        </p:nvPicPr>
        <p:blipFill>
          <a:blip r:embed="rId1"/>
          <a:stretch/>
        </p:blipFill>
        <p:spPr>
          <a:xfrm>
            <a:off x="833400" y="500040"/>
            <a:ext cx="772020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www.animalliberationfront.com/News/AnimalPhotos/Animals_91-100/duckshelter.jpg"/>
          <p:cNvPicPr/>
          <p:nvPr/>
        </p:nvPicPr>
        <p:blipFill>
          <a:blip r:embed="rId1"/>
          <a:stretch/>
        </p:blipFill>
        <p:spPr>
          <a:xfrm>
            <a:off x="928800" y="1214280"/>
            <a:ext cx="73580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http://www.animalliberationfront.com/News/AnimalPhotos/Animals_101-110/dogcatnap3.jpg"/>
          <p:cNvPicPr/>
          <p:nvPr/>
        </p:nvPicPr>
        <p:blipFill>
          <a:blip r:embed="rId1"/>
          <a:stretch/>
        </p:blipFill>
        <p:spPr>
          <a:xfrm>
            <a:off x="285840" y="1500120"/>
            <a:ext cx="857412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GGEKcte"/>
          <p:cNvPicPr/>
          <p:nvPr/>
        </p:nvPicPr>
        <p:blipFill>
          <a:blip r:embed="rId1"/>
          <a:stretch/>
        </p:blipFill>
        <p:spPr>
          <a:xfrm>
            <a:off x="2195640" y="260280"/>
            <a:ext cx="43322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2010061"/>
          <p:cNvPicPr/>
          <p:nvPr/>
        </p:nvPicPr>
        <p:blipFill>
          <a:blip r:embed="rId1"/>
          <a:stretch/>
        </p:blipFill>
        <p:spPr>
          <a:xfrm>
            <a:off x="3492360" y="0"/>
            <a:ext cx="490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www.animalliberationfront.com/News/AnimalPhotos/Animals_81-90/gorilla-kitten.jpg"/>
          <p:cNvPicPr/>
          <p:nvPr/>
        </p:nvPicPr>
        <p:blipFill>
          <a:blip r:embed="rId1"/>
          <a:stretch/>
        </p:blipFill>
        <p:spPr>
          <a:xfrm>
            <a:off x="928800" y="1000080"/>
            <a:ext cx="757224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58944784845"/>
          <p:cNvPicPr/>
          <p:nvPr/>
        </p:nvPicPr>
        <p:blipFill>
          <a:blip r:embed="rId1"/>
          <a:stretch/>
        </p:blipFill>
        <p:spPr>
          <a:xfrm>
            <a:off x="539640" y="333360"/>
            <a:ext cx="812808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1"/>
          <p:cNvPicPr/>
          <p:nvPr/>
        </p:nvPicPr>
        <p:blipFill>
          <a:blip r:embed="rId1"/>
          <a:stretch/>
        </p:blipFill>
        <p:spPr>
          <a:xfrm>
            <a:off x="684360" y="907920"/>
            <a:ext cx="79200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riend"/>
          <p:cNvPicPr/>
          <p:nvPr/>
        </p:nvPicPr>
        <p:blipFill>
          <a:blip r:embed="rId1"/>
          <a:stretch/>
        </p:blipFill>
        <p:spPr>
          <a:xfrm>
            <a:off x="720720" y="72072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odbor999992_35"/>
          <p:cNvPicPr/>
          <p:nvPr/>
        </p:nvPicPr>
        <p:blipFill>
          <a:blip r:embed="rId1"/>
          <a:stretch/>
        </p:blipFill>
        <p:spPr>
          <a:xfrm>
            <a:off x="826920" y="836640"/>
            <a:ext cx="75600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5" descr="http://www.animalliberationfront.com/News/AnimalPhotos/Animals_111-120/micecatdog.jpg"/>
          <p:cNvPicPr/>
          <p:nvPr/>
        </p:nvPicPr>
        <p:blipFill>
          <a:blip r:embed="rId1"/>
          <a:srcRect l="0" t="0" r="0" b="48750"/>
          <a:stretch/>
        </p:blipFill>
        <p:spPr>
          <a:xfrm>
            <a:off x="1143000" y="357120"/>
            <a:ext cx="692928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www.animalliberationfront.com/News/AnimalPhotos/Animals_151-160/mouseoncat.jpg"/>
          <p:cNvPicPr/>
          <p:nvPr/>
        </p:nvPicPr>
        <p:blipFill>
          <a:blip r:embed="rId1"/>
          <a:stretch/>
        </p:blipFill>
        <p:spPr>
          <a:xfrm>
            <a:off x="928800" y="357120"/>
            <a:ext cx="742932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ttp://www.animalliberationfront.com/Saints/Media/190beardpossum.jpg"/>
          <p:cNvPicPr/>
          <p:nvPr/>
        </p:nvPicPr>
        <p:blipFill>
          <a:blip r:embed="rId1"/>
          <a:stretch/>
        </p:blipFill>
        <p:spPr>
          <a:xfrm>
            <a:off x="1428840" y="857160"/>
            <a:ext cx="65577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Secrets"/>
          <p:cNvPicPr/>
          <p:nvPr/>
        </p:nvPicPr>
        <p:blipFill>
          <a:blip r:embed="rId1"/>
          <a:stretch/>
        </p:blipFill>
        <p:spPr>
          <a:xfrm>
            <a:off x="971640" y="54936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2310066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9848948"/>
          <p:cNvPicPr/>
          <p:nvPr/>
        </p:nvPicPr>
        <p:blipFill>
          <a:blip r:embed="rId1"/>
          <a:stretch/>
        </p:blipFill>
        <p:spPr>
          <a:xfrm>
            <a:off x="2214720" y="50004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f1812066"/>
          <p:cNvPicPr/>
          <p:nvPr/>
        </p:nvPicPr>
        <p:blipFill>
          <a:blip r:embed="rId1"/>
          <a:stretch/>
        </p:blipFill>
        <p:spPr>
          <a:xfrm>
            <a:off x="611280" y="404640"/>
            <a:ext cx="784836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2111063"/>
          <p:cNvPicPr/>
          <p:nvPr/>
        </p:nvPicPr>
        <p:blipFill>
          <a:blip r:embed="rId1"/>
          <a:stretch/>
        </p:blipFill>
        <p:spPr>
          <a:xfrm>
            <a:off x="539640" y="692280"/>
            <a:ext cx="820116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http://www.animalliberationfront.com/News/AnimalPhotos/Animals_1-10/mi-lu.jpg"/>
          <p:cNvPicPr/>
          <p:nvPr/>
        </p:nvPicPr>
        <p:blipFill>
          <a:blip r:embed="rId1"/>
          <a:stretch/>
        </p:blipFill>
        <p:spPr>
          <a:xfrm>
            <a:off x="1071720" y="487440"/>
            <a:ext cx="7072200" cy="59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kw815609"/>
          <p:cNvPicPr/>
          <p:nvPr/>
        </p:nvPicPr>
        <p:blipFill>
          <a:blip r:embed="rId1"/>
          <a:stretch/>
        </p:blipFill>
        <p:spPr>
          <a:xfrm>
            <a:off x="826920" y="404640"/>
            <a:ext cx="748836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26"/>
          <p:cNvPicPr/>
          <p:nvPr/>
        </p:nvPicPr>
        <p:blipFill>
          <a:blip r:embed="rId1"/>
          <a:stretch/>
        </p:blipFill>
        <p:spPr>
          <a:xfrm>
            <a:off x="900000" y="476280"/>
            <a:ext cx="755964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http://www.animalliberationfront.com/News/AnimalPhotos/Animals_141-150/humpbackwhaleanddolphin.jpg"/>
          <p:cNvPicPr/>
          <p:nvPr/>
        </p:nvPicPr>
        <p:blipFill>
          <a:blip r:embed="rId1"/>
          <a:stretch/>
        </p:blipFill>
        <p:spPr>
          <a:xfrm>
            <a:off x="857160" y="642960"/>
            <a:ext cx="76518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5"/>
          <p:cNvPicPr/>
          <p:nvPr/>
        </p:nvPicPr>
        <p:blipFill>
          <a:blip r:embed="rId1"/>
          <a:stretch/>
        </p:blipFill>
        <p:spPr>
          <a:xfrm>
            <a:off x="1357200" y="301680"/>
            <a:ext cx="678672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http://www.animalliberationfront.com/News/AnimalPhotos/Animals_161-170/bearman.jpg"/>
          <p:cNvPicPr/>
          <p:nvPr/>
        </p:nvPicPr>
        <p:blipFill>
          <a:blip r:embed="rId1"/>
          <a:stretch/>
        </p:blipFill>
        <p:spPr>
          <a:xfrm>
            <a:off x="1785960" y="214200"/>
            <a:ext cx="5981760" cy="635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90414"/>
          <p:cNvPicPr/>
          <p:nvPr/>
        </p:nvPicPr>
        <p:blipFill>
          <a:blip r:embed="rId1"/>
          <a:stretch/>
        </p:blipFill>
        <p:spPr>
          <a:xfrm>
            <a:off x="2357280" y="285840"/>
            <a:ext cx="464364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http://www.animalliberationfront.com/News/AnimalPhotos/Animals_171-180/squirrel_deer.jpg"/>
          <p:cNvPicPr/>
          <p:nvPr/>
        </p:nvPicPr>
        <p:blipFill>
          <a:blip r:embed="rId1"/>
          <a:stretch/>
        </p:blipFill>
        <p:spPr>
          <a:xfrm>
            <a:off x="928800" y="428760"/>
            <a:ext cx="7143480" cy="59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ttp://www.animalliberationfront.com/News/AnimalPhotos/Animals_151-160/cat_chicks1b.jpg"/>
          <p:cNvPicPr/>
          <p:nvPr/>
        </p:nvPicPr>
        <p:blipFill>
          <a:blip r:embed="rId1"/>
          <a:srcRect l="0" t="50271" r="0" b="0"/>
          <a:stretch/>
        </p:blipFill>
        <p:spPr>
          <a:xfrm>
            <a:off x="928800" y="500040"/>
            <a:ext cx="735804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http://www.animalliberationfront.com/News/AnimalPhotos/Animals_171-180/beardog3.jpg"/>
          <p:cNvPicPr/>
          <p:nvPr/>
        </p:nvPicPr>
        <p:blipFill>
          <a:blip r:embed="rId1"/>
          <a:stretch/>
        </p:blipFill>
        <p:spPr>
          <a:xfrm>
            <a:off x="357120" y="642960"/>
            <a:ext cx="82519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dierz.nl/dierz/multimedia/archive/00064/monkey_dog_jpg_64223a.jpg"/>
          <p:cNvPicPr/>
          <p:nvPr/>
        </p:nvPicPr>
        <p:blipFill>
          <a:blip r:embed="rId1"/>
          <a:stretch/>
        </p:blipFill>
        <p:spPr>
          <a:xfrm>
            <a:off x="2143080" y="214200"/>
            <a:ext cx="450072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http://www.animalliberationfront.com/News/AnimalPhotos/Animals_161-170/monkey_pigeon.jpg"/>
          <p:cNvPicPr/>
          <p:nvPr/>
        </p:nvPicPr>
        <p:blipFill>
          <a:blip r:embed="rId1"/>
          <a:stretch/>
        </p:blipFill>
        <p:spPr>
          <a:xfrm>
            <a:off x="714240" y="928800"/>
            <a:ext cx="79297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watermark"/>
          <p:cNvPicPr/>
          <p:nvPr/>
        </p:nvPicPr>
        <p:blipFill>
          <a:blip r:embed="rId1"/>
          <a:stretch/>
        </p:blipFill>
        <p:spPr>
          <a:xfrm>
            <a:off x="826920" y="189000"/>
            <a:ext cx="762012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http://www.animalliberationfront.com/News/AnimalPhotos/Animals_81-90/boy-babyelephant.jpg"/>
          <p:cNvPicPr/>
          <p:nvPr/>
        </p:nvPicPr>
        <p:blipFill>
          <a:blip r:embed="rId1"/>
          <a:stretch/>
        </p:blipFill>
        <p:spPr>
          <a:xfrm>
            <a:off x="1071720" y="857160"/>
            <a:ext cx="699912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4th_05_55_57_roberts-gary_ELEPHANTORPHANS1"/>
          <p:cNvPicPr/>
          <p:nvPr/>
        </p:nvPicPr>
        <p:blipFill>
          <a:blip r:embed="rId1"/>
          <a:stretch/>
        </p:blipFill>
        <p:spPr>
          <a:xfrm>
            <a:off x="395280" y="404640"/>
            <a:ext cx="8137440" cy="576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60713-124849-big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www.animalliberationfront.com/News/AnimalPhotos/Animals_91-100/goat_cat.jpg"/>
          <p:cNvPicPr/>
          <p:nvPr/>
        </p:nvPicPr>
        <p:blipFill>
          <a:blip r:embed="rId1"/>
          <a:stretch/>
        </p:blipFill>
        <p:spPr>
          <a:xfrm>
            <a:off x="571680" y="857160"/>
            <a:ext cx="82231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4_kartinki_ziza_41814"/>
          <p:cNvPicPr/>
          <p:nvPr/>
        </p:nvPicPr>
        <p:blipFill>
          <a:blip r:embed="rId1"/>
          <a:stretch/>
        </p:blipFill>
        <p:spPr>
          <a:xfrm>
            <a:off x="755640" y="476280"/>
            <a:ext cx="7488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2:15:59Z</dcterms:created>
  <dc:creator>Remigiusz</dc:creator>
  <dc:description/>
  <dc:language>en-US</dc:language>
  <cp:lastModifiedBy>Cristina</cp:lastModifiedBy>
  <dcterms:modified xsi:type="dcterms:W3CDTF">2008-04-29T21:57:51Z</dcterms:modified>
  <cp:revision>13</cp:revision>
  <dc:subject/>
  <dc:title>Slajd 1</dc:title>
</cp:coreProperties>
</file>