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adagio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882-964F-4CD2-B419-E106CB75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542-45E0-4AD1-8970-89B4028F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7B2-DDF1-408E-9CD8-81F21F57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29A-676D-4889-A39A-81C3C018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3E5-CD7D-476B-914E-9F639AE1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8D7-8A5A-4A58-9D15-E356F83C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015-F58F-43B1-BFB5-FDBD3396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6FA-30BB-4CE7-B07A-94D6F17C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61E-E288-4635-9077-A53B4A73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EDC-72F0-4FEB-8FBC-843E3D17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433-3A49-4291-9CD6-61819AF3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75F-0D2C-42E8-8DE6-4BE83F3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15A4-4A0A-4480-9D70-6F191A5B0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dagi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Ren\My Documents\My Photos\June Whaun\Cool Pictures 30\image.3501.jpg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11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Ren\My Documents\My Photos\June Whaun\Cool Pictures 30\image.3510.jpg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Ren\My Documents\My Photos\June Whaun\Cool Pictures 30\image.35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Ren\My Documents\My Photos\June Whaun\Cool Pictures 30\image.35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Ren\My Documents\My Photos\June Whaun\Cool Pictures 30\image.3513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Ren\My Documents\My Photos\June Whaun\Cool Pictures 30\image.3514.jpg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Ren\My Documents\My Photos\June Whaun\Cool Pictures 30\image.3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Ren\My Documents\My Photos\June Whaun\Cool Pictures 30\image.3516.jpg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Ren\My Documents\My Photos\June Whaun\Cool Pictures 30\image.35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Ren\My Documents\My Photos\June Whaun\Cool Pictures 30\image.3518.jpg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Ren\My Documents\My Photos\June Whaun\Cool Pictures 30\image.3519.jpg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Ren\My Documents\My Photos\June Whaun\Cool Pictures 30\image.3502.jpg"/>
          <p:cNvPicPr/>
          <p:nvPr/>
        </p:nvPicPr>
        <p:blipFill>
          <a:blip r:embed="rId1"/>
          <a:stretch/>
        </p:blipFill>
        <p:spPr>
          <a:xfrm>
            <a:off x="185760" y="0"/>
            <a:ext cx="87631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Ren\My Documents\My Photos\June Whaun\Cool Pictures 30\image.3520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Ren\My Documents\My Photos\June Whaun\Cool Pictures 30\image.3521.jpg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Ren\My Documents\My Photos\June Whaun\Cool Pictures 30\image.3522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Ren\My Documents\My Photos\June Whaun\Cool Pictures 30\image.35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Ren\My Documents\My Photos\June Whaun\Cool Pictures 30\image.3524.jpg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Ren\My Documents\My Photos\June Whaun\Cool Pictures 30\image.3525.jpg"/>
          <p:cNvPicPr/>
          <p:nvPr/>
        </p:nvPicPr>
        <p:blipFill>
          <a:blip r:embed="rId1"/>
          <a:stretch/>
        </p:blipFill>
        <p:spPr>
          <a:xfrm>
            <a:off x="719280" y="0"/>
            <a:ext cx="769608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Ren\My Documents\My Photos\June Whaun\Cool Pictures 30\image.3526.jpg"/>
          <p:cNvPicPr/>
          <p:nvPr/>
        </p:nvPicPr>
        <p:blipFill>
          <a:blip r:embed="rId1"/>
          <a:stretch/>
        </p:blipFill>
        <p:spPr>
          <a:xfrm>
            <a:off x="0" y="433440"/>
            <a:ext cx="8991720" cy="598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Ren\My Documents\My Photos\June Whaun\Cool Pictures 30\image.3526.jpg"/>
          <p:cNvPicPr/>
          <p:nvPr/>
        </p:nvPicPr>
        <p:blipFill>
          <a:blip r:embed="rId2"/>
          <a:stretch/>
        </p:blipFill>
        <p:spPr>
          <a:xfrm>
            <a:off x="0" y="37944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Ren\My Documents\My Photos\June Whaun\Cool Pictures 30\image.3527.jpg"/>
          <p:cNvPicPr/>
          <p:nvPr/>
        </p:nvPicPr>
        <p:blipFill>
          <a:blip r:embed="rId1"/>
          <a:stretch/>
        </p:blipFill>
        <p:spPr>
          <a:xfrm>
            <a:off x="0" y="1081080"/>
            <a:ext cx="9144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Ren\My Documents\My Photos\June Whaun\Cool Pictures 30\image.3528.jpg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Ren\My Documents\My Photos\June Whaun\Cool Pictures 30\image.35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Ren\My Documents\My Photos\June Whaun\Cool Pictures 30\image.35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Ren\My Documents\My Photos\June Whaun\Cool Pictures 30\image.3530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Ren\My Documents\My Photos\June Whaun\Cool Pictures 30\image.3504.jp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Ren\My Documents\My Photos\June Whaun\Cool Pictures 30\image.3505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Ren\My Documents\My Photos\June Whaun\Cool Pictures 30\image.3506.jpg"/>
          <p:cNvPicPr/>
          <p:nvPr/>
        </p:nvPicPr>
        <p:blipFill>
          <a:blip r:embed="rId1"/>
          <a:stretch/>
        </p:blipFill>
        <p:spPr>
          <a:xfrm>
            <a:off x="1109520" y="0"/>
            <a:ext cx="69343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Ren\My Documents\My Photos\June Whaun\Cool Pictures 30\image.3507.jpg"/>
          <p:cNvPicPr/>
          <p:nvPr/>
        </p:nvPicPr>
        <p:blipFill>
          <a:blip r:embed="rId1"/>
          <a:stretch/>
        </p:blipFill>
        <p:spPr>
          <a:xfrm>
            <a:off x="0" y="43668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Ren\My Documents\My Photos\June Whaun\Cool Pictures 30\image.35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Ren\My Documents\My Photos\June Whaun\Cool Pictures 30\image.3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0:42:05Z</dcterms:created>
  <dc:creator/>
  <dc:description/>
  <dc:language>en-US</dc:language>
  <cp:lastModifiedBy>Samir Eldib</cp:lastModifiedBy>
  <dcterms:modified xsi:type="dcterms:W3CDTF">2008-10-23T07:01:33Z</dcterms:modified>
  <cp:revision>5</cp:revision>
  <dc:subject/>
  <dc:title>PowerPoint Presentation</dc:title>
</cp:coreProperties>
</file>