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3E4A-B91F-443B-9B30-3AAD9C613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C795-12D6-42FF-98B3-2836EB0CC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FC48-1B70-412F-B00C-EF99FBE63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C943-1E57-45F6-9DB1-FA4D41673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CC03-BD74-4F0A-BA0D-BC561940D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8AC9-CBBB-42C4-8BA4-700BB11E7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3B0C-1255-417E-A491-2822DEFD8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655B-1318-4771-B138-36E928AA2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54CC-E519-4F8D-9F04-014998103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619E-7614-476A-9685-6C86FA79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F7D8-F816-4318-8CDF-08C7AEF50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E8E1-9859-404F-B9ED-5E84201B4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D6E78-3D2F-49A9-89A3-050CC4549A9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ShockwaveFlash1"/>
          <p:cNvGraphicFramePr/>
          <p:nvPr/>
        </p:nvGraphicFramePr>
        <p:xfrm>
          <a:off x="0" y="762120"/>
          <a:ext cx="9144000" cy="533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2120"/>
                    <a:ext cx="9144000" cy="5333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31T11:56:39Z</dcterms:created>
  <dc:creator>Michael Graber</dc:creator>
  <dc:description/>
  <dc:language>en-US</dc:language>
  <cp:lastModifiedBy>Michael Graber</cp:lastModifiedBy>
  <dcterms:modified xsi:type="dcterms:W3CDTF">2007-07-18T11:43:38Z</dcterms:modified>
  <cp:revision>3</cp:revision>
  <dc:subject/>
  <dc:title>Slide 1</dc:title>
</cp:coreProperties>
</file>