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sound001.wav" ContentType="audio/x-wav"/>
  <Override PartName="/ppt/media/image7.jpeg" ContentType="image/jpeg"/>
  <Override PartName="/ppt/media/image11.jpeg" ContentType="image/jpeg"/>
  <Override PartName="/ppt/media/image9.jpeg" ContentType="image/jpeg"/>
  <Override PartName="/ppt/media/image19.gif" ContentType="image/gif"/>
  <Override PartName="/ppt/media/image1.gif" ContentType="image/gif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9100-9A08-497C-BC57-44D83FD50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EBF0-4FEE-4580-A1F8-847A2A5A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F7FE-EE50-41E0-B989-1E63C5864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8D68-00AF-41D5-88E4-B1545777D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5EB4-87E0-4A58-9835-F0E1BDA1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D1DC-71AB-4DF4-A824-62466D21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9422-FC8B-4220-96C9-66ED39D6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7BC1-0C04-4032-AA57-FC8AEAC2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784B-2CA1-4927-AD32-B4C97290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6417-8906-4A14-9A58-65C8405E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76C9-3A50-401B-8E80-9ADC5279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DBD5-A01B-4957-967B-5C4FEC4C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5EF8-6426-4721-A6A6-FD6BB481DC5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audio" Target="../media/sound001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23600" y="1052640"/>
            <a:ext cx="563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David"/>
              </a:rPr>
              <a:t>About dogs and people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08000" y="2781360"/>
            <a:ext cx="1955880" cy="1342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43280" y="2133720"/>
            <a:ext cx="2448000" cy="3733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3" name="sound001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763640" y="620640"/>
            <a:ext cx="6443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If I have any beliefs about immortality,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it is that certain dogs I have known will go to heave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And very, very few pers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- James Thur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763640" y="549360"/>
            <a:ext cx="1676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y dog is worried about the economy because Alpo is up to $3 a c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hat’s almost $21 in dog mone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- Joe Weins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971640" y="1557360"/>
            <a:ext cx="1676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If your dog is fat, you aren’t getting enough exerci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72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3860640"/>
            <a:ext cx="1828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y Goal in life is to be as good of a person as my dog already thinks I 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71640" y="476280"/>
            <a:ext cx="2133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Dogs love their friends and bite their enemies, quite unlike people, who are incapabl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Pure love and always have to mix love and h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- Sigmund Fre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838080" y="312408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189000"/>
            <a:ext cx="1371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Dogs are not our whole life, but they make our lives who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- Roger Ca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077320" cy="5048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84960" y="404640"/>
            <a:ext cx="90824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reason a dog has so many friends is that he wags his tail instead of his tong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nonymo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50920" y="5445000"/>
            <a:ext cx="8672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Women and cats will do as they please, and men and dogs should relax and 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used to the ide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Robert A. Heinl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7315200" cy="488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09800" y="2000160"/>
            <a:ext cx="712440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393200" y="1197000"/>
            <a:ext cx="5135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If there are no dogs in Heaven,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then when I die I want to go where they w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Will Rog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764520" y="20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你默默的回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43080" y="0"/>
            <a:ext cx="48578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9640" y="1916280"/>
            <a:ext cx="14479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The average dog is a nicer person than the average pers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- Andy Ro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012000" y="620640"/>
            <a:ext cx="2743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If you pick up a starving dog and make him prosperous, he will not bite you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that is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principal difference between a dog and a m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- Mark Tw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40880" y="1628640"/>
            <a:ext cx="746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There is no psychiatrist in the world like a puppy licking your f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- Ben Willi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20" y="609480"/>
            <a:ext cx="916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on’t accept your dog’s admiration as conclusive evidence that you are wonderfu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- Ann Lan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0720" y="5516640"/>
            <a:ext cx="835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I wonder if other dogs think poodles are members of a weird religious cult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Rita Rud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55640" y="620640"/>
            <a:ext cx="22096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Ever consider what our dogs must think of us? I mean, here we come back from a groc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Store with the most amazing haul – chicken, pork, half a cow. They must think we’re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Greatest hunters on earth!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- Anne Ty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124000" y="6922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Anybody who doesn’t know what soap tastes like never washed a do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- Franklin P. J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0T16:34:52Z</dcterms:created>
  <dc:creator> </dc:creator>
  <dc:description> </dc:description>
  <cp:keywords/>
  <dc:language>en-US</dc:language>
  <cp:lastModifiedBy>garavagliam</cp:lastModifiedBy>
  <dcterms:modified xsi:type="dcterms:W3CDTF">2007-07-30T20:05:50Z</dcterms:modified>
  <cp:revision>33</cp:revision>
  <dc:subject> </dc:subject>
  <dc:title> </dc:title>
</cp:coreProperties>
</file>