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Continue%20to%20be%20-%20David%20Arkenstone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E3C-1467-4359-89FC-9B5C6C8E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29C-2C03-4294-8732-B336C488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A5E-447E-43B9-A34B-016080FF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796-DEDD-4684-9CDD-C5D5F84F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017-3CB1-401A-8144-B09F88D8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F24-3068-42CD-9232-906DEE3A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ECF-40DA-4D96-B729-CE12DDB2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94B-AD47-4C01-BEA5-A1D7D225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FC2-A139-4C23-8ACC-23DAC97F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CA3-70C8-4B21-9C07-26031555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585-F96D-4A2E-BB9D-F25534F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CB1-BB66-4B8F-A92F-65CF5C6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17C8-2C73-439E-AF92-7A735C339D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ontinue%20to%20be%20-%20David%20Arkenston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0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560"/>
            <a:ext cx="81025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cccff"/>
                </a:solidFill>
                <a:latin typeface="Arial"/>
              </a:rPr>
              <a:t>BLUE BEAUTY</a:t>
            </a: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Photos by Astronaut Sunita Willi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ff0000"/>
                </a:solidFill>
                <a:latin typeface="Verdana"/>
              </a:rPr>
              <a:t>SPECTACULA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205000"/>
            <a:ext cx="8642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Satellite photo of Europe and Africa at night on a cloudless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ghts are already on in Paris, Barcelona but not in London, Lisbon or Madrid, where there is still dayligh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You can see the Azores in the middle of the ocean.  A little below Madeira and further Canary Islands and Cape Ver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You can observe the continent platforms from the British Isles to Canada and Iceland in the midd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64000" y="2276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747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Ice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12000" y="3340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11592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Contin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2720" y="764640"/>
            <a:ext cx="431640" cy="142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762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Eng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Á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9080" y="242100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836640"/>
            <a:ext cx="35856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620640"/>
            <a:ext cx="287640" cy="720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668720" y="3141720"/>
            <a:ext cx="28764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50532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Already night time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92428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2763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65760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9440" y="14842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Atl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105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00"/>
                </a:solidFill>
                <a:latin typeface="Arial"/>
              </a:rPr>
              <a:t>Cabo Verde I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41008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19112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038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Canary Is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800" y="256536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slas de la Madera y Az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2852640"/>
            <a:ext cx="14436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5486400"/>
            <a:ext cx="333360" cy="4827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70440" y="5369040"/>
            <a:ext cx="347400" cy="27288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81480" y="4292640"/>
            <a:ext cx="304560" cy="433440"/>
          </a:xfrm>
          <a:custGeom>
            <a:avLst/>
            <a:gdLst/>
            <a:ahLst/>
            <a:rect l="l" t="t" r="r" b="b"/>
            <a:pathLst>
              <a:path w="192" h="273">
                <a:moveTo>
                  <a:pt x="0" y="0"/>
                </a:moveTo>
                <a:lnTo>
                  <a:pt x="192" y="273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962520"/>
            <a:ext cx="333360" cy="48240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94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Grande São Pa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562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io de Jan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elo Horiz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Sal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04812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Atlan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76440" y="1225440"/>
            <a:ext cx="582840" cy="1800"/>
          </a:xfrm>
          <a:custGeom>
            <a:avLst/>
            <a:gdLst/>
            <a:ahLst/>
            <a:rect l="l" t="t" r="r" b="b"/>
            <a:pathLst>
              <a:path w="367" h="1">
                <a:moveTo>
                  <a:pt x="36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762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razilian Continental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NIGHTFALL IN 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81280" y="5562720"/>
            <a:ext cx="457200" cy="3045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5715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Grande São Pa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5410080"/>
            <a:ext cx="533520" cy="7632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io de Jan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533520" cy="22860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276720"/>
            <a:ext cx="457200" cy="152280"/>
          </a:xfrm>
          <a:custGeom>
            <a:avLst/>
            <a:gdLst/>
            <a:ahLst/>
            <a:rect l="l" t="t" r="r" b="b"/>
            <a:pathLst>
              <a:path w="172" h="148">
                <a:moveTo>
                  <a:pt x="172" y="14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Sal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ec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5600" y="2424240"/>
            <a:ext cx="420480" cy="112680"/>
          </a:xfrm>
          <a:custGeom>
            <a:avLst/>
            <a:gdLst/>
            <a:ahLst/>
            <a:rect l="l" t="t" r="r" b="b"/>
            <a:pathLst>
              <a:path w="265" h="71">
                <a:moveTo>
                  <a:pt x="265" y="0"/>
                </a:moveTo>
                <a:lnTo>
                  <a:pt x="0" y="71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209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Fortal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rasí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905120" y="3351960"/>
            <a:ext cx="1371600" cy="83844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Goiâ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828800" y="3962520"/>
            <a:ext cx="1295280" cy="45720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Uberlâ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209680" y="4571280"/>
            <a:ext cx="1067040" cy="15228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elo Horiz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962520" y="4800600"/>
            <a:ext cx="761760" cy="7632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6172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Florianó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6019920"/>
            <a:ext cx="457200" cy="30456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19560" y="2971800"/>
            <a:ext cx="243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IGHTFALL IN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ANDSTORM LEAVING NORTH AFRICA TOWARDS THE ATLANTIC – CANARY 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15000" y="2981160"/>
            <a:ext cx="371520" cy="149400"/>
          </a:xfrm>
          <a:custGeom>
            <a:avLst/>
            <a:gdLst/>
            <a:ahLst/>
            <a:rect l="l" t="t" r="r" b="b"/>
            <a:pathLst>
              <a:path w="234" h="94">
                <a:moveTo>
                  <a:pt x="234" y="9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25909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The biggest concentration of lights (from top to bottom) are the cities of Boston, New York, Philadelphia and Washing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029200"/>
            <a:ext cx="371520" cy="149400"/>
          </a:xfrm>
          <a:custGeom>
            <a:avLst/>
            <a:gdLst/>
            <a:ahLst/>
            <a:rect l="l" t="t" r="r" b="b"/>
            <a:pathLst>
              <a:path w="234" h="94">
                <a:moveTo>
                  <a:pt x="234" y="9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M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72000"/>
            <a:ext cx="333360" cy="4827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25600" y="4145040"/>
            <a:ext cx="495360" cy="369720"/>
          </a:xfrm>
          <a:custGeom>
            <a:avLst/>
            <a:gdLst/>
            <a:ahLst/>
            <a:rect l="l" t="t" r="r" b="b"/>
            <a:pathLst>
              <a:path w="312" h="233">
                <a:moveTo>
                  <a:pt x="0" y="233"/>
                </a:moveTo>
                <a:lnTo>
                  <a:pt x="312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D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6520" y="2548080"/>
            <a:ext cx="432000" cy="172800"/>
          </a:xfrm>
          <a:custGeom>
            <a:avLst/>
            <a:gdLst/>
            <a:ahLst/>
            <a:rect l="l" t="t" r="r" b="b"/>
            <a:pathLst>
              <a:path w="272" h="109">
                <a:moveTo>
                  <a:pt x="0" y="0"/>
                </a:moveTo>
                <a:lnTo>
                  <a:pt x="272" y="109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2276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9800" y="2895480"/>
            <a:ext cx="61920" cy="297000"/>
          </a:xfrm>
          <a:custGeom>
            <a:avLst/>
            <a:gdLst/>
            <a:ahLst/>
            <a:rect l="l" t="t" r="r" b="b"/>
            <a:pathLst>
              <a:path w="39" h="187">
                <a:moveTo>
                  <a:pt x="0" y="0"/>
                </a:moveTo>
                <a:lnTo>
                  <a:pt x="39" y="1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Still daylight in Califor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1341360"/>
            <a:ext cx="231840" cy="773280"/>
          </a:xfrm>
          <a:custGeom>
            <a:avLst/>
            <a:gdLst/>
            <a:ahLst/>
            <a:rect l="l" t="t" r="r" b="b"/>
            <a:pathLst>
              <a:path w="146" h="487">
                <a:moveTo>
                  <a:pt x="146" y="0"/>
                </a:moveTo>
                <a:lnTo>
                  <a:pt x="0" y="4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06880" y="46530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uerto 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5013360"/>
            <a:ext cx="231480" cy="772920"/>
          </a:xfrm>
          <a:custGeom>
            <a:avLst/>
            <a:gdLst/>
            <a:ahLst/>
            <a:rect l="l" t="t" r="r" b="b"/>
            <a:pathLst>
              <a:path w="146" h="487">
                <a:moveTo>
                  <a:pt x="146" y="0"/>
                </a:moveTo>
                <a:lnTo>
                  <a:pt x="0" y="4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014200"/>
            <a:ext cx="777240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66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657600" y="61722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TRANSLATION TO ENGLISH AND EDITED MSW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76720" y="270828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564000" y="3860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851280" y="3068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211640" y="4292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148360" y="40053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4284720" y="37893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492360" y="3429000"/>
            <a:ext cx="508320" cy="49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3348000" y="292428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5580000" y="32130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 rot="6025800">
            <a:off x="3994920" y="2707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 rot="6025800">
            <a:off x="4923720" y="3292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 rot="6025800">
            <a:off x="3699720" y="44445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 rot="6025800">
            <a:off x="4707720" y="4300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 rot="6025800">
            <a:off x="5715720" y="3796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 rot="6025800">
            <a:off x="5715720" y="2860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 rot="6025800">
            <a:off x="6003360" y="2788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 rot="6025800">
            <a:off x="3050640" y="3580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 rot="6025800">
            <a:off x="3268080" y="4084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 rot="6025800">
            <a:off x="2691720" y="3941280"/>
            <a:ext cx="507960" cy="492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38080" y="2286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Isn’t this magic ?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So our children can enjoy these spectacular views for a long time, please forward this message to as many people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IBRALTAR S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88000" y="638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IGHT ARRIVES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BETWEEN EUROPE &amp;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SS AL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C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228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UR PLANET IN THE MIDDLE OF THE UNIVERSE AT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8:47:51Z</dcterms:created>
  <dc:creator>JM</dc:creator>
  <dc:description/>
  <dc:language>en-US</dc:language>
  <cp:lastModifiedBy>Hugh Rountree</cp:lastModifiedBy>
  <dcterms:modified xsi:type="dcterms:W3CDTF">2008-02-28T01:32:56Z</dcterms:modified>
  <cp:revision>2</cp:revision>
  <dc:subject/>
  <dc:title>Slide 1</dc:title>
</cp:coreProperties>
</file>