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kingofthefairi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4F4-7387-49C5-B918-305DDF45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449-7875-43F5-AA88-B155BB5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BE0-3EE2-45AE-B0DB-3FA62D14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087-6347-4B85-A799-6CD32F0A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28C-E1F0-470C-83FB-7B53C47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A12-3B46-4F54-A529-B9CDFD7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698-2915-437B-BE42-4B070DE7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E53-B0AD-412E-A6BA-A1EBF53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ACA-5697-4D73-9FB2-6842DE0D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5BB-AE42-4951-8509-BD98133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29E-D976-4AAC-A6E2-C6A42D1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FA9-B73E-4618-90D2-11A4395B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0DC-5EEC-4EE9-B44E-20DDEE10F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ngofthefairi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5638680"/>
            <a:ext cx="6019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9900"/>
                  </a:outerShdw>
                </a:effectLst>
                <a:latin typeface="Informal Roman"/>
              </a:rPr>
              <a:t>Earth Teach Me to Remember 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009900"/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320" y="195120"/>
            <a:ext cx="1447920" cy="133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Text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John Yellow Lark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heel/>
    <p:sndAc>
      <p:stSnd>
        <p:snd r:embed="rId2" name="kingofthefairi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regeneration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seeds which rise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in the spring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to forget myself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melted snow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forgets its life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556272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to remember kindness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dry fields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weep in the rain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320" y="76320"/>
            <a:ext cx="17413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9900">
                      <a:alpha val="80000"/>
                    </a:srgbClr>
                  </a:outerShdw>
                </a:effectLst>
                <a:latin typeface="Arial Black"/>
              </a:rPr>
              <a:t>Xib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9900">
                      <a:alpha val="80000"/>
                    </a:srgbClr>
                  </a:outerShdw>
                </a:effectLst>
                <a:latin typeface="Arial Black"/>
              </a:rPr>
              <a:t>PowerPoi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9900">
                      <a:alpha val="80000"/>
                    </a:srgbClr>
                  </a:outerShdw>
                </a:effectLst>
                <a:latin typeface="Arial Black"/>
              </a:rPr>
              <a:t>Show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stillness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grasses are stilled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with light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suffering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old stones suffer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with memory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humility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blossoms are humble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with beginning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caring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mother who secures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her young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courage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tree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which stands alone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limitation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ant which crawls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on the ground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freedom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eagle which soars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in the sky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38080" y="55627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Earth teach me resignation..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as the leaves which die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ff6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5b983c"/>
                  </a:outerShdw>
                </a:effectLst>
                <a:latin typeface="Arial Black"/>
              </a:rPr>
              <a:t>in the fall. </a:t>
            </a:r>
            <a:endParaRPr b="0" lang="en-US" sz="1800" spc="1" strike="noStrike">
              <a:ln w="9360">
                <a:solidFill>
                  <a:srgbClr val="99ff6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5b983c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9000">
    <p:wheel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44:41Z</dcterms:created>
  <dc:creator>Xiby</dc:creator>
  <dc:description/>
  <dc:language>en-US</dc:language>
  <cp:lastModifiedBy>Xiby</cp:lastModifiedBy>
  <dcterms:modified xsi:type="dcterms:W3CDTF">2007-02-01T18:43:03Z</dcterms:modified>
  <cp:revision>5</cp:revision>
  <dc:subject/>
  <dc:title>Slide 1</dc:title>
</cp:coreProperties>
</file>