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E30-D568-43FF-AD1D-C5B4ABAE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593-CD02-499C-AD5A-C5490FB4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442-B0CD-4E38-AF30-66AE30A5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C1B-AAA3-4B71-AB80-0553B9AF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E2B-C999-490E-8132-9834D3A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DBD-F4EE-4A90-AD5E-2350D9E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364-355C-4B1C-96C0-1B7792D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D57-3EAF-465B-AA5C-46B9A77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950-A38B-41D2-8E82-E64323B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62C-6737-4F4C-A9F2-3884FB6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22C-5843-4AA7-9236-91B538F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0B8-545B-46CB-9681-BBE391B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922-A69B-4109-9D6F-54AFDFF32A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tommyswindow.com/" TargetMode="External"/><Relationship Id="rId3" Type="http://schemas.openxmlformats.org/officeDocument/2006/relationships/hyperlink" Target="http://www.tommyswindow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82280" y="6248520"/>
            <a:ext cx="39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a"/>
                </a:solidFill>
                <a:latin typeface="Arial"/>
              </a:rPr>
              <a:t>Front Template courtesy of Powerbacks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on your sp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443376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a7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3ebf1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e3ebf1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266760"/>
            <a:ext cx="8534160" cy="62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124080" y="220968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4473d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c7ca8"/>
                  </a:outerShdw>
                </a:effectLst>
                <a:latin typeface="Times New Roman"/>
              </a:rPr>
              <a:t>Failure does not equ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4473d0"/>
                  </a:gs>
                </a:gsLst>
                <a:lin ang="5400000"/>
              </a:gradFill>
              <a:effectLst>
                <a:outerShdw dist="17819" dir="2700000" blurRad="0" rotWithShape="0">
                  <a:srgbClr val="7c7ca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37339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4473d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c7ca8"/>
                  </a:outerShdw>
                </a:effectLst>
                <a:latin typeface="Times New Roman"/>
              </a:rPr>
              <a:t>DEF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4473d0"/>
                  </a:gs>
                </a:gsLst>
                <a:lin ang="5400000"/>
              </a:gradFill>
              <a:effectLst>
                <a:outerShdw dist="17819" dir="2700000" blurRad="0" rotWithShape="0">
                  <a:srgbClr val="7c7ca8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4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2560680"/>
            <a:ext cx="37335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ilure is a part of every life; everyone fails at ti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Defeat is when you don't rebound, but instead allow failure to turn what could be a successful life into a wasted one through self-pity and fear of the opinions of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Feelings of inferiority are Satan's attempts to deny the power of God within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304920"/>
            <a:ext cx="792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Failure does not equal defeat;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they are two separate thing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2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501" t="2608" r="1667" b="33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2286000"/>
            <a:ext cx="43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t's not the failing that counts,                but what you do with 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No one has ever made a discovery, won a victory, or had a breakthrough without first experiencing some failures, yet refusing to let those failures defeat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304920"/>
            <a:ext cx="7925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One good thing about failure is that you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appreciate the victory all the more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9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51814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your own programs crumble into dust, He’s right there with a new      blueprint for something much bet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You can fail many times—in different things—and you wi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f6"/>
                </a:solidFill>
                <a:latin typeface="Arial"/>
                <a:ea typeface="MS PGothic"/>
              </a:rPr>
              <a:t>But you're not a failure as long as you keep getting up and trying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38098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Failing is often God’s way of helping you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to zero in on His highest and best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lways remember that there's a difference between failure,                                    —which happens many times in our lives, and being a failure                           —which only happens if we decide to give up and qu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75248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There's a big difference between saying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I fail" and "I'm a failure."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27672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here's no disgrace in saying the first—which is just a fact of life—but you should never say "I'm a failure" unless you've decided to give 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85800" y="3657600"/>
            <a:ext cx="7696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No one is a failure who can truly say,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8d0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"I have done my best.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8d0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3049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The basic rules for succes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may be defined as follows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7920" y="1523880"/>
            <a:ext cx="6324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Know what you want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Find out what it takes to get it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Act on it and persevere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5530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tommyswindow.com</a:t>
            </a:r>
            <a:r>
              <a:rPr b="0" lang="es-CO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6553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5a3ff"/>
                </a:solidFill>
                <a:latin typeface="Arial"/>
              </a:rPr>
              <a:t>For more PowerPoint shows, visi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3.33333E-006 -0.37777 E">
                                      <p:cBhvr>
                                        <p:cTn id="121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23:58Z</dcterms:created>
  <dc:creator>Martha</dc:creator>
  <dc:description>Copyright © 2008 Tommy's Window. 
All Rights Reserved
 DO NOT modify.</dc:description>
  <dc:language>en-US</dc:language>
  <cp:lastModifiedBy>Martha</cp:lastModifiedBy>
  <dcterms:modified xsi:type="dcterms:W3CDTF">2008-08-17T19:28:49Z</dcterms:modified>
  <cp:revision>326</cp:revision>
  <dc:subject/>
  <dc:title>Failure does not equal defeat.</dc:title>
</cp:coreProperties>
</file>