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3.jpeg" ContentType="image/jpeg"/>
  <Override PartName="/ppt/media/image21.gif" ContentType="image/gif"/>
  <Override PartName="/ppt/media/image20.jpeg" ContentType="image/jpeg"/>
  <Override PartName="/ppt/media/image26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15.jpeg" ContentType="image/jpeg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8.gif" ContentType="image/gif"/>
  <Override PartName="/ppt/media/image18.jpeg" ContentType="image/jpeg"/>
  <Override PartName="/ppt/media/image13.gif" ContentType="image/gif"/>
  <Override PartName="/ppt/media/image9.gif" ContentType="image/gif"/>
  <Override PartName="/ppt/media/image31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10.gif" ContentType="image/gif"/>
  <Override PartName="/ppt/media/image39.jpeg" ContentType="image/jpeg"/>
  <Override PartName="/ppt/media/image24.jpeg" ContentType="image/jpeg"/>
  <Override PartName="/ppt/media/image30.gif" ContentType="image/gif"/>
  <Override PartName="/ppt/media/image41.jpeg" ContentType="image/jpeg"/>
  <Override PartName="/ppt/media/image14.jpeg" ContentType="image/jpeg"/>
  <Override PartName="/ppt/media/image40.jpeg" ContentType="image/jpeg"/>
  <Override PartName="/ppt/media/image6.gif" ContentType="image/gif"/>
  <Override PartName="/ppt/media/image5.gif" ContentType="image/gif"/>
  <Override PartName="/ppt/media/image38.jpeg" ContentType="image/jpeg"/>
  <Override PartName="/ppt/media/image43.gif" ContentType="image/gif"/>
  <Override PartName="/ppt/media/Andr%C3%A9%20Rieu%20-%20The%20Last%20Rose%20of%20Summer.wav" ContentType="audio/x-wav"/>
  <Override PartName="/ppt/media/image29.jpeg" ContentType="image/jpeg"/>
  <Override PartName="/ppt/media/image7.gif" ContentType="image/gif"/>
  <Override PartName="/ppt/media/image11.gif" ContentType="image/gif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71D-9C90-4467-BB44-4C88268A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683-737B-4706-BDF6-068A30F7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665-0543-48F0-A1E8-FB2F5B11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E21-0332-482D-A5D2-5D6F1A71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0CB-8AFC-4989-8509-43922D14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896-58AB-48E8-B320-51358EEF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BF2-9B1B-4F1E-A39C-FB6E61B6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2AD-4826-48E5-A991-97626E9D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7A3-82EB-43ED-B836-02956C30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CA1-9AE0-47C3-978F-7F1D1C97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A1D-7F07-4022-ABFF-551DE62A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6C2-82FC-49C6-9C0A-9C3EFF13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2EA2-2AA0-4022-B983-C7EC1CE138C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nimaatjes.nl/alfabet/F.gif&apos;,189,131,&apos;bloemen/" TargetMode="External"/><Relationship Id="rId3" Type="http://schemas.openxmlformats.org/officeDocument/2006/relationships/image" Target="../media/image2.gif"/><Relationship Id="rId4" Type="http://schemas.openxmlformats.org/officeDocument/2006/relationships/hyperlink" Target="http://www.animaatjes.nl/alfabet/L.gif&apos;,189,133,&apos;bloemen/" TargetMode="External"/><Relationship Id="rId5" Type="http://schemas.openxmlformats.org/officeDocument/2006/relationships/image" Target="../media/image3.gif"/><Relationship Id="rId6" Type="http://schemas.openxmlformats.org/officeDocument/2006/relationships/hyperlink" Target="http://www.animaatjes.nl/alfabet/O.gif&apos;,189,140,&apos;bloemen/" TargetMode="External"/><Relationship Id="rId7" Type="http://schemas.openxmlformats.org/officeDocument/2006/relationships/image" Target="../media/image4.gif"/><Relationship Id="rId8" Type="http://schemas.openxmlformats.org/officeDocument/2006/relationships/hyperlink" Target="http://www.animaatjes.nl/alfabet/W.gif&apos;,189,147,&apos;bloemen/" TargetMode="External"/><Relationship Id="rId9" Type="http://schemas.openxmlformats.org/officeDocument/2006/relationships/image" Target="../media/image5.gif"/><Relationship Id="rId10" Type="http://schemas.openxmlformats.org/officeDocument/2006/relationships/hyperlink" Target="http://www.animaatjes.nl/alfabet/E.gif&apos;,189,131,&apos;bloemen/" TargetMode="External"/><Relationship Id="rId11" Type="http://schemas.openxmlformats.org/officeDocument/2006/relationships/image" Target="../media/image6.gif"/><Relationship Id="rId12" Type="http://schemas.openxmlformats.org/officeDocument/2006/relationships/hyperlink" Target="http://www.animaatjes.nl/alfabet/R.gif&apos;,189,135,&apos;bloemen/" TargetMode="External"/><Relationship Id="rId13" Type="http://schemas.openxmlformats.org/officeDocument/2006/relationships/image" Target="../media/image7.gif"/><Relationship Id="rId14" Type="http://schemas.openxmlformats.org/officeDocument/2006/relationships/hyperlink" Target="http://www.animaatjes.nl/alfabet/S.gif&apos;,189,130,&apos;bloemen/" TargetMode="External"/><Relationship Id="rId15" Type="http://schemas.openxmlformats.org/officeDocument/2006/relationships/image" Target="../media/image8.gif"/><Relationship Id="rId16" Type="http://schemas.openxmlformats.org/officeDocument/2006/relationships/hyperlink" Target="http://www.animaatjes.nl/alfabet/A.gif&apos;,189,136,&apos;bloemen/" TargetMode="External"/><Relationship Id="rId17" Type="http://schemas.openxmlformats.org/officeDocument/2006/relationships/image" Target="../media/image9.gif"/><Relationship Id="rId18" Type="http://schemas.openxmlformats.org/officeDocument/2006/relationships/hyperlink" Target="http://www.animaatjes.nl/alfabet/L.gif&apos;,189,133,&apos;bloemen/" TargetMode="External"/><Relationship Id="rId19" Type="http://schemas.openxmlformats.org/officeDocument/2006/relationships/image" Target="../media/image3.gif"/><Relationship Id="rId20" Type="http://schemas.openxmlformats.org/officeDocument/2006/relationships/hyperlink" Target="http://www.animaatjes.nl/alfabet/P.gif&apos;,189,135,&apos;bloemen/" TargetMode="External"/><Relationship Id="rId21" Type="http://schemas.openxmlformats.org/officeDocument/2006/relationships/image" Target="../media/image10.gif"/><Relationship Id="rId22" Type="http://schemas.openxmlformats.org/officeDocument/2006/relationships/hyperlink" Target="http://www.animaatjes.nl/alfabet/H.gif&apos;,189,134,&apos;bloemen/" TargetMode="External"/><Relationship Id="rId23" Type="http://schemas.openxmlformats.org/officeDocument/2006/relationships/image" Target="../media/image11.gif"/><Relationship Id="rId24" Type="http://schemas.openxmlformats.org/officeDocument/2006/relationships/hyperlink" Target="http://www.animaatjes.nl/alfabet/A.gif&apos;,189,136,&apos;bloemen/" TargetMode="External"/><Relationship Id="rId25" Type="http://schemas.openxmlformats.org/officeDocument/2006/relationships/image" Target="../media/image9.gif"/><Relationship Id="rId26" Type="http://schemas.openxmlformats.org/officeDocument/2006/relationships/hyperlink" Target="http://www.animaatjes.nl/alfabet/B.gif&apos;,189,134,&apos;bloemen/" TargetMode="External"/><Relationship Id="rId27" Type="http://schemas.openxmlformats.org/officeDocument/2006/relationships/image" Target="../media/image12.gif"/><Relationship Id="rId28" Type="http://schemas.openxmlformats.org/officeDocument/2006/relationships/hyperlink" Target="http://www.animaatjes.nl/alfabet/E.gif&apos;,189,131,&apos;bloemen/" TargetMode="External"/><Relationship Id="rId29" Type="http://schemas.openxmlformats.org/officeDocument/2006/relationships/image" Target="../media/image6.gif"/><Relationship Id="rId30" Type="http://schemas.openxmlformats.org/officeDocument/2006/relationships/hyperlink" Target="http://www.animaatjes.nl/alfabet/T.gif&apos;,189,129,&apos;bloemen/" TargetMode="External"/><Relationship Id="rId31" Type="http://schemas.openxmlformats.org/officeDocument/2006/relationships/image" Target="../media/image13.gif"/><Relationship Id="rId32" Type="http://schemas.openxmlformats.org/officeDocument/2006/relationships/audio" Target="../media/Andr&#233;%20Rieu%20-%20The%20Last%20Rose%20of%20Summer.wav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nimaatjes.nl/alfabet/I.gif&apos;,189,117,&apos;bloemen/" TargetMode="External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nimaatjes.nl/alfabet/N.gif&apos;,189,134,&apos;bloemen/" TargetMode="External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nimaatjes.nl/alfabet/P.gif&apos;,189,135,&apos;bloemen/" TargetMode="External"/><Relationship Id="rId2" Type="http://schemas.openxmlformats.org/officeDocument/2006/relationships/image" Target="../media/image10.gif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nimaatjes.nl/alfabet/R.gif&apos;,189,135,&apos;bloemen/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nimaatjes.nl/alfabet/S.gif&apos;,189,130,&apos;bloemen/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imaatjes.nl/alfabet/B.gif&apos;,189,134,&apos;bloemen/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imaatjes.nl/alfabet/E.gif&apos;,189,131,&apos;bloemen/" TargetMode="External"/><Relationship Id="rId2" Type="http://schemas.openxmlformats.org/officeDocument/2006/relationships/image" Target="../media/image6.gi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nimaatjes.nl/alfabet/F.gif&apos;,189,131,&apos;bloemen/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nimaatjes.nl/alfabet/G.gif&apos;,189,138,&apos;bloemen/" TargetMode="External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89000"/>
            <a:ext cx="792000" cy="672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11280" y="115920"/>
            <a:ext cx="865440" cy="735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19640" y="189000"/>
            <a:ext cx="792000" cy="672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356000" y="189000"/>
            <a:ext cx="792360" cy="67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292720" y="189000"/>
            <a:ext cx="792000" cy="672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227640" y="115920"/>
            <a:ext cx="865440" cy="73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164360" y="189000"/>
            <a:ext cx="719280" cy="61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68360" y="6002280"/>
            <a:ext cx="1008000" cy="855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619280" y="6124680"/>
            <a:ext cx="863640" cy="73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627280" y="6122880"/>
            <a:ext cx="865080" cy="7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635280" y="6122880"/>
            <a:ext cx="863640" cy="73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4716360" y="6186600"/>
            <a:ext cx="792360" cy="67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5651640" y="6184800"/>
            <a:ext cx="792000" cy="67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6659640" y="618156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7667640" y="6184800"/>
            <a:ext cx="792000" cy="6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47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7778880" cy="5543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58920" y="47628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arcissus or Daffod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42920" y="1106640"/>
            <a:ext cx="7705800" cy="556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71640" y="47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an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7777080" cy="552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549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7705800" cy="556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42920" y="1125360"/>
            <a:ext cx="7740720" cy="5543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42920" y="1125360"/>
            <a:ext cx="7777080" cy="5543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49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un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042920" y="1106640"/>
            <a:ext cx="7705800" cy="5562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0" t="0" r="0" b="5673"/>
          <a:stretch/>
        </p:blipFill>
        <p:spPr>
          <a:xfrm>
            <a:off x="1042920" y="1125360"/>
            <a:ext cx="7740720" cy="5543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26240" cy="5753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24000" y="6237360"/>
            <a:ext cx="482436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Bimini"/>
              </a:rPr>
              <a:t>André Rieu - Last Rose of Summer</a:t>
            </a:r>
            <a:endParaRPr b="0" lang="en-US" sz="1800" spc="1" strike="noStrike">
              <a:ln w="324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Bimini"/>
              <a:ea typeface="Bimin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451640" y="5373720"/>
            <a:ext cx="79236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4953" r="0" b="0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nthu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8920" y="47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7740720" cy="554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58920" y="47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ame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l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ah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42920" y="1106640"/>
            <a:ext cx="7705800" cy="5562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58920" y="47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delwe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7740720" cy="5543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4292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orsyt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33440" cy="1133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47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Monotype Corsiva"/>
              </a:rPr>
              <a:t>erb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7740720" cy="554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042920" y="1125360"/>
            <a:ext cx="7705800" cy="5543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042920" y="1125360"/>
            <a:ext cx="7740720" cy="554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4:57:37Z</dcterms:created>
  <dc:creator>R</dc:creator>
  <dc:description/>
  <dc:language>en-US</dc:language>
  <cp:lastModifiedBy>Backhausen</cp:lastModifiedBy>
  <dcterms:modified xsi:type="dcterms:W3CDTF">2010-01-29T22:32:15Z</dcterms:modified>
  <cp:revision>14</cp:revision>
  <dc:subject/>
  <dc:title>Flowers alphabet</dc:title>
</cp:coreProperties>
</file>