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27.jpeg" ContentType="image/jpeg"/>
  <Override PartName="/ppt/media/Eva%20Cassidy%20over%20rainbow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33E-E213-4E18-8E24-AF2E6227F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D586-DB7E-409C-9C79-E918665F3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333C-FE51-4C88-BEAC-F4987AA8D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E5E7-FBB9-431A-A0BD-51E8D09AE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0DF-72B2-4D26-8477-1308FE00A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2C1B-1C96-451C-93C0-D12983D86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DFE3-5DD5-4A43-9B1A-DF83F86C8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3753-ECF5-445B-BC00-28AE3C4AF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33F2-AFD8-49C6-B1D9-D83EA2CFB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9BE-FBD4-426F-8C33-67B1BF49C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741-F9B5-4805-A888-D9F1C7D6C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3DF-433A-44D9-A796-2F569CEA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1ECE-B4BE-41FA-ADDC-17C152C2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795-2C4B-461E-A5E3-B70A487CB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097-C972-4013-9C61-047B93484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CCCF-667A-4081-8551-0AD15A9B7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8F0-094B-47F6-A9F3-4ECA2CA2B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5B8D-44FF-403D-9B3B-5227F13DC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6F40-18B0-464E-AC4C-3D0A4F128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BB5-509C-454D-AC09-0C7C7EA47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FF6-1D0F-47EF-B9A1-5420CACA1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267-C826-4B7B-86D0-4F253C65E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599-1262-4F89-8A8F-6291C678B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1BB2-E28D-4A18-B23A-9BCE5AEF9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318-97FB-42A8-A819-35C791B6D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30D-E640-430E-AD11-ADA4F59E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9881-A8DD-40C9-8918-9097370B9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CB7-FDCE-4464-BD2F-D502DA369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AFE-3903-4C64-8CAB-67D94BEBD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2A7-B338-4D3C-A9E3-23D8F4FC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509-2955-4958-B0F0-133814C9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A8-78B9-43B2-8B64-BB35407D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A56-C340-45CD-92AC-27F81FA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13E-6866-4A13-97C3-3C3E713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77D-6B6B-4262-8958-1B461A2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E78-0D82-4D18-97AD-BF0F9D9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24-44FC-4CCE-A35E-A260129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12C-4B54-4033-A158-C94F9A4D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D8F-E27D-443E-AA88-DFA5A95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6DE-6D15-4350-B0C4-1EA4747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E23-6834-449E-857C-1E5191B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707-1AEA-47D6-88E1-E0264277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a%20Cassidy%20over%20rainb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lveston Tree Carv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215120" y="3929040"/>
            <a:ext cx="1714680" cy="173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otos and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ck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643880" y="55720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15120" y="59292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the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788960" y="585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43760" y="62150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 bar advance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5000760" y="28584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 hats  off  to  the   peopl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lveston’s Historic Distric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  worked and restored this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it’s pre 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alveston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al2.bmp"/>
          <p:cNvPicPr/>
          <p:nvPr/>
        </p:nvPicPr>
        <p:blipFill>
          <a:blip r:embed="rId2"/>
          <a:stretch/>
        </p:blipFill>
        <p:spPr>
          <a:xfrm>
            <a:off x="750096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al2.bmp"/>
          <p:cNvPicPr/>
          <p:nvPr/>
        </p:nvPicPr>
        <p:blipFill>
          <a:blip r:embed="rId3"/>
          <a:stretch/>
        </p:blipFill>
        <p:spPr>
          <a:xfrm>
            <a:off x="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4"/>
          <a:stretch/>
        </p:blipFill>
        <p:spPr>
          <a:xfrm>
            <a:off x="1743120" y="4614840"/>
            <a:ext cx="5718240" cy="148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exas1a3.gif"/>
          <p:cNvPicPr/>
          <p:nvPr/>
        </p:nvPicPr>
        <p:blipFill>
          <a:blip r:embed="rId5"/>
          <a:stretch/>
        </p:blipFill>
        <p:spPr>
          <a:xfrm>
            <a:off x="3981600" y="5857920"/>
            <a:ext cx="1180800" cy="285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714920" y="571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357720" y="6211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jcrossoo2@comcas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7215120" y="357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08:45Z</dcterms:created>
  <dc:creator>Jack</dc:creator>
  <dc:description/>
  <dc:language>en-US</dc:language>
  <cp:lastModifiedBy>Jack</cp:lastModifiedBy>
  <dcterms:modified xsi:type="dcterms:W3CDTF">2010-06-09T05:24:29Z</dcterms:modified>
  <cp:revision>6</cp:revision>
  <dc:subject/>
  <dc:title>Slide 1</dc:title>
</cp:coreProperties>
</file>