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3.png" ContentType="image/pn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78390-FEE6-4A03-833C-AE42F976A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4EEB9-75AF-472C-A2F7-A7A9B7767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ADE5D-760B-4C45-94D8-C960552EC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7F2B4-E4B6-405C-9C31-BF5424000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72745-1A82-4788-AB7C-3B0F907D7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2FA7A-B603-42C7-9554-0A9369DAA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042EC-8C13-426C-8CE2-5DBCB9974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BF483-B7CD-4254-9A7C-30FFB8EB0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74C04-EF45-4E62-85D0-B56A2A58E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76A36-E5E9-4F71-AF71-80BB9039D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7E41C-11EC-4120-9E9B-56045E6C1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B2E28-1D01-4CA9-90D8-EC161F333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8D5F5-9F4F-4DEC-BCC4-247BA71B5DC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5.jpeg"/><Relationship Id="rId3" Type="http://schemas.openxmlformats.org/officeDocument/2006/relationships/hyperlink" Target="http://www.tommyswindow.com/" TargetMode="External"/><Relationship Id="rId4" Type="http://schemas.openxmlformats.org/officeDocument/2006/relationships/hyperlink" Target="http://www.tommyswindow.com/" TargetMode="External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594520" y="6476400"/>
            <a:ext cx="3952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ffffff"/>
                </a:solidFill>
                <a:latin typeface="Times New Roman"/>
              </a:rPr>
              <a:t>Copyright © 2008 Tommy's Window. All Rights Reserv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895480" y="3946680"/>
            <a:ext cx="358164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♫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urn on your speak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8280" y="4433760"/>
            <a:ext cx="411480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979ff"/>
                </a:solidFill>
                <a:latin typeface="Arial"/>
              </a:rPr>
              <a:t>CLICK TO ADVANCE SLID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2847960" y="2610000"/>
            <a:ext cx="332424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6699"/>
                    </a:gs>
                    <a:gs pos="100000">
                      <a:srgbClr val="7979ff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Arial Black"/>
              </a:rPr>
              <a:t>Tommy's Window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6699"/>
                  </a:gs>
                  <a:gs pos="100000">
                    <a:srgbClr val="7979ff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6699"/>
                    </a:gs>
                    <a:gs pos="100000">
                      <a:srgbClr val="7979ff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Arial Black"/>
              </a:rPr>
              <a:t>Slideshow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6699"/>
                  </a:gs>
                  <a:gs pos="100000">
                    <a:srgbClr val="7979ff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304920" y="304920"/>
            <a:ext cx="8534160" cy="62481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 txBox="1"/>
          <p:nvPr/>
        </p:nvSpPr>
        <p:spPr>
          <a:xfrm>
            <a:off x="1143000" y="2438280"/>
            <a:ext cx="685800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cc00"/>
                    </a:gs>
                    <a:gs pos="100000">
                      <a:srgbClr val="990033"/>
                    </a:gs>
                  </a:gsLst>
                  <a:lin ang="5400000"/>
                </a:gradFill>
                <a:effectLst>
                  <a:outerShdw dist="89604" dir="2700000" blurRad="0" rotWithShape="0">
                    <a:srgbClr val="000000"/>
                  </a:outerShdw>
                </a:effectLst>
                <a:latin typeface="Abadi MT Condensed Extra Bold"/>
              </a:rPr>
              <a:t>God's Plan for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cc00"/>
                  </a:gs>
                  <a:gs pos="100000">
                    <a:srgbClr val="990033"/>
                  </a:gs>
                </a:gsLst>
                <a:lin ang="5400000"/>
              </a:gradFill>
              <a:effectLst>
                <a:outerShdw dist="89604" dir="2700000" blurRad="0" rotWithShape="0">
                  <a:srgbClr val="000000"/>
                </a:outerShdw>
              </a:effectLst>
              <a:latin typeface="Abadi MT Condensed Extra Bold"/>
              <a:ea typeface="Abadi MT Condensed Extra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cc00"/>
                    </a:gs>
                    <a:gs pos="100000">
                      <a:srgbClr val="990033"/>
                    </a:gs>
                  </a:gsLst>
                  <a:lin ang="5400000"/>
                </a:gradFill>
                <a:effectLst>
                  <a:outerShdw dist="89604" dir="2700000" blurRad="0" rotWithShape="0">
                    <a:srgbClr val="000000"/>
                  </a:outerShdw>
                </a:effectLst>
                <a:latin typeface="Abadi MT Condensed Extra Bold"/>
              </a:rPr>
              <a:t>Financial Health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cc00"/>
                  </a:gs>
                  <a:gs pos="100000">
                    <a:srgbClr val="990033"/>
                  </a:gs>
                </a:gsLst>
                <a:lin ang="5400000"/>
              </a:gradFill>
              <a:effectLst>
                <a:outerShdw dist="89604" dir="2700000" blurRad="0" rotWithShape="0">
                  <a:srgbClr val="000000"/>
                </a:outerShdw>
              </a:effectLst>
              <a:latin typeface="Abadi MT Condensed Extra Bold"/>
              <a:ea typeface="Abadi MT Condensed Extra Bold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2514600" y="6095880"/>
            <a:ext cx="4124160" cy="15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effectLst>
                  <a:outerShdw dist="40186" dir="4303641" blurRad="0" rotWithShape="0">
                    <a:srgbClr val="000000">
                      <a:alpha val="80000"/>
                    </a:srgbClr>
                  </a:outerShdw>
                </a:effectLst>
                <a:latin typeface="Arial Black"/>
              </a:rPr>
              <a:t>Text by David Brandt Berg &amp; Maria Fontaine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000000"/>
              </a:solidFill>
              <a:effectLst>
                <a:outerShdw dist="40186" dir="4303641" blurRad="0" rotWithShape="0">
                  <a:srgbClr val="00000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med">
    <p:comb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nodeType="with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5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" dur="1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53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4300"/>
                            </p:stCondLst>
                            <p:childTnLst>
                              <p:par>
                                <p:cTn id="28" nodeType="afterEffect" fill="hold" presetClass="entr" presetID="17" presetSubtype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304920" y="380880"/>
            <a:ext cx="8534160" cy="6172200"/>
          </a:xfrm>
          <a:prstGeom prst="rect">
            <a:avLst/>
          </a:prstGeom>
          <a:noFill/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800600" y="2514600"/>
            <a:ext cx="3792600" cy="3733920"/>
          </a:xfrm>
          <a:prstGeom prst="rect">
            <a:avLst/>
          </a:prstGeom>
          <a:noFill/>
          <a:ln w="28440">
            <a:solidFill>
              <a:srgbClr val="0055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762120"/>
            <a:ext cx="77724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55d2"/>
                    </a:gs>
                    <a:gs pos="100000">
                      <a:srgbClr val="7979ff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000000"/>
                  </a:outerShdw>
                </a:effectLst>
                <a:latin typeface="Arial Black"/>
              </a:rPr>
              <a:t>We can show Him our appreciation by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55d2"/>
                  </a:gs>
                  <a:gs pos="100000">
                    <a:srgbClr val="7979ff"/>
                  </a:gs>
                </a:gsLst>
                <a:lin ang="5400000"/>
              </a:gradFill>
              <a:effectLst>
                <a:outerShdw dist="53966" dir="2700000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55d2"/>
                    </a:gs>
                    <a:gs pos="100000">
                      <a:srgbClr val="7979ff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000000"/>
                  </a:outerShdw>
                </a:effectLst>
                <a:latin typeface="Arial Black"/>
              </a:rPr>
              <a:t>thanking and praising Him regularly—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55d2"/>
                  </a:gs>
                  <a:gs pos="100000">
                    <a:srgbClr val="7979ff"/>
                  </a:gs>
                </a:gsLst>
                <a:lin ang="5400000"/>
              </a:gradFill>
              <a:effectLst>
                <a:outerShdw dist="53966" dir="2700000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55d2"/>
                    </a:gs>
                    <a:gs pos="100000">
                      <a:srgbClr val="7979ff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000000"/>
                  </a:outerShdw>
                </a:effectLst>
                <a:latin typeface="Arial Black"/>
              </a:rPr>
              <a:t>by not taking His generosity for granted. 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55d2"/>
                  </a:gs>
                  <a:gs pos="100000">
                    <a:srgbClr val="7979ff"/>
                  </a:gs>
                </a:gsLst>
                <a:lin ang="5400000"/>
              </a:gradFill>
              <a:effectLst>
                <a:outerShdw dist="53966" dir="2700000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914400" y="2819520"/>
            <a:ext cx="3505320" cy="31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effectLst>
                  <a:outerShdw dist="53966" dir="2700000" blurRad="0" rotWithShape="0">
                    <a:srgbClr val="000000"/>
                  </a:outerShdw>
                </a:effectLst>
                <a:latin typeface="Arial Black"/>
              </a:rPr>
              <a:t>No benefactor would 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effectLst>
                <a:outerShdw dist="53966" dir="2700000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effectLst>
                  <a:outerShdw dist="53966" dir="2700000" blurRad="0" rotWithShape="0">
                    <a:srgbClr val="000000"/>
                  </a:outerShdw>
                </a:effectLst>
                <a:latin typeface="Arial Black"/>
              </a:rPr>
              <a:t>continue giving to 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effectLst>
                <a:outerShdw dist="53966" dir="2700000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effectLst>
                  <a:outerShdw dist="53966" dir="2700000" blurRad="0" rotWithShape="0">
                    <a:srgbClr val="000000"/>
                  </a:outerShdw>
                </a:effectLst>
                <a:latin typeface="Arial Black"/>
              </a:rPr>
              <a:t>someone who isn't 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effectLst>
                <a:outerShdw dist="53966" dir="2700000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effectLst>
                  <a:outerShdw dist="53966" dir="2700000" blurRad="0" rotWithShape="0">
                    <a:srgbClr val="000000"/>
                  </a:outerShdw>
                </a:effectLst>
                <a:latin typeface="Arial Black"/>
              </a:rPr>
              <a:t>grateful for what he 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effectLst>
                <a:outerShdw dist="53966" dir="2700000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effectLst>
                  <a:outerShdw dist="53966" dir="2700000" blurRad="0" rotWithShape="0">
                    <a:srgbClr val="000000"/>
                  </a:outerShdw>
                </a:effectLst>
                <a:latin typeface="Arial Black"/>
              </a:rPr>
              <a:t>or she has already 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effectLst>
                <a:outerShdw dist="53966" dir="2700000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effectLst>
                  <a:outerShdw dist="53966" dir="2700000" blurRad="0" rotWithShape="0">
                    <a:srgbClr val="000000"/>
                  </a:outerShdw>
                </a:effectLst>
                <a:latin typeface="Arial Black"/>
              </a:rPr>
              <a:t>been given.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effectLst>
                <a:outerShdw dist="53966" dir="2700000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rcRect l="0" t="33985" r="0" b="0"/>
          <a:stretch/>
        </p:blipFill>
        <p:spPr>
          <a:xfrm>
            <a:off x="5029200" y="2722680"/>
            <a:ext cx="3352680" cy="3309840"/>
          </a:xfrm>
          <a:prstGeom prst="rect">
            <a:avLst/>
          </a:prstGeom>
          <a:ln w="38160">
            <a:solidFill>
              <a:srgbClr val="990033"/>
            </a:solidFill>
            <a:miter/>
          </a:ln>
        </p:spPr>
      </p:pic>
    </p:spTree>
  </p:cSld>
  <p:transition spd="med">
    <p:comb dir="horz"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0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0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304920" y="380880"/>
            <a:ext cx="8534160" cy="61722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 txBox="1"/>
          <p:nvPr/>
        </p:nvSpPr>
        <p:spPr>
          <a:xfrm>
            <a:off x="1219320" y="685800"/>
            <a:ext cx="67816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55d2"/>
                    </a:gs>
                    <a:gs pos="100000">
                      <a:srgbClr val="8ba7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000000"/>
                  </a:outerShdw>
                </a:effectLst>
                <a:latin typeface="Arial Black"/>
              </a:rPr>
              <a:t>The more you learn to recognize God's goodness 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55d2"/>
                  </a:gs>
                  <a:gs pos="100000">
                    <a:srgbClr val="8ba7ff"/>
                  </a:gs>
                </a:gsLst>
                <a:lin ang="5400000"/>
              </a:gradFill>
              <a:effectLst>
                <a:outerShdw dist="40186" dir="4303641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55d2"/>
                    </a:gs>
                    <a:gs pos="100000">
                      <a:srgbClr val="8ba7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000000"/>
                  </a:outerShdw>
                </a:effectLst>
                <a:latin typeface="Arial Black"/>
              </a:rPr>
              <a:t>and the more you make it a habit to thank and 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55d2"/>
                  </a:gs>
                  <a:gs pos="100000">
                    <a:srgbClr val="8ba7ff"/>
                  </a:gs>
                </a:gsLst>
                <a:lin ang="5400000"/>
              </a:gradFill>
              <a:effectLst>
                <a:outerShdw dist="40186" dir="4303641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55d2"/>
                    </a:gs>
                    <a:gs pos="100000">
                      <a:srgbClr val="8ba7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000000"/>
                  </a:outerShdw>
                </a:effectLst>
                <a:latin typeface="Arial Black"/>
              </a:rPr>
              <a:t>praise Him at every turn, the more He will bless. 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55d2"/>
                  </a:gs>
                  <a:gs pos="100000">
                    <a:srgbClr val="8ba7ff"/>
                  </a:gs>
                </a:gsLst>
                <a:lin ang="5400000"/>
              </a:gradFill>
              <a:effectLst>
                <a:outerShdw dist="40186" dir="4303641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17" name=""/>
          <p:cNvSpPr/>
          <p:nvPr/>
        </p:nvSpPr>
        <p:spPr>
          <a:xfrm>
            <a:off x="4495680" y="6172200"/>
            <a:ext cx="307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 u="sng">
                <a:solidFill>
                  <a:srgbClr val="ffffff"/>
                </a:solidFill>
                <a:uFillTx/>
                <a:latin typeface="Arial"/>
                <a:hlinkClick r:id="rId3"/>
              </a:rPr>
              <a:t>www.tommyswindow.com</a:t>
            </a:r>
            <a:r>
              <a:rPr b="0" lang="es-CO" sz="1400" spc="-1" strike="noStrike" u="sng">
                <a:solidFill>
                  <a:srgbClr val="ffffff"/>
                </a:solidFill>
                <a:uFillTx/>
                <a:latin typeface="Arial"/>
                <a:hlinkClick r:id="rId4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828800" y="6172200"/>
            <a:ext cx="365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55d2"/>
                </a:solidFill>
                <a:latin typeface="Arial"/>
              </a:rPr>
              <a:t>For more PowerPoint shows, visit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676520" y="2057400"/>
            <a:ext cx="586728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8ba7ff"/>
                  </a:solidFill>
                  <a:miter/>
                </a:ln>
                <a:solidFill>
                  <a:srgbClr val="ffffff"/>
                </a:solidFill>
                <a:effectLst>
                  <a:outerShdw dist="53966" dir="2700000" blurRad="0" rotWithShape="0">
                    <a:srgbClr val="000000"/>
                  </a:outerShdw>
                </a:effectLst>
                <a:latin typeface="Arial Black"/>
              </a:rPr>
              <a:t>So tell Him how much you love Him and</a:t>
            </a:r>
            <a:endParaRPr b="1" lang="en-US" sz="1600" spc="1" strike="noStrike">
              <a:ln w="9360">
                <a:solidFill>
                  <a:srgbClr val="8ba7ff"/>
                </a:solidFill>
                <a:miter/>
              </a:ln>
              <a:solidFill>
                <a:srgbClr val="ffffff"/>
              </a:solidFill>
              <a:effectLst>
                <a:outerShdw dist="53966" dir="2700000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8ba7ff"/>
                  </a:solidFill>
                  <a:miter/>
                </a:ln>
                <a:solidFill>
                  <a:srgbClr val="ffffff"/>
                </a:solidFill>
                <a:effectLst>
                  <a:outerShdw dist="53966" dir="2700000" blurRad="0" rotWithShape="0">
                    <a:srgbClr val="000000"/>
                  </a:outerShdw>
                </a:effectLst>
                <a:latin typeface="Arial Black"/>
              </a:rPr>
              <a:t>how thankful you are for all He does for you. </a:t>
            </a:r>
            <a:endParaRPr b="1" lang="en-US" sz="1600" spc="1" strike="noStrike">
              <a:ln w="9360">
                <a:solidFill>
                  <a:srgbClr val="8ba7ff"/>
                </a:solidFill>
                <a:miter/>
              </a:ln>
              <a:solidFill>
                <a:srgbClr val="ffffff"/>
              </a:solidFill>
              <a:effectLst>
                <a:outerShdw dist="53966" dir="2700000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8ba7ff"/>
                  </a:solidFill>
                  <a:miter/>
                </a:ln>
                <a:solidFill>
                  <a:srgbClr val="ffffff"/>
                </a:solidFill>
                <a:effectLst>
                  <a:outerShdw dist="53966" dir="2700000" blurRad="0" rotWithShape="0">
                    <a:srgbClr val="000000"/>
                  </a:outerShdw>
                </a:effectLst>
                <a:latin typeface="Arial Black"/>
              </a:rPr>
              <a:t>As you praise and love Him, He loves you in </a:t>
            </a:r>
            <a:endParaRPr b="1" lang="en-US" sz="1600" spc="1" strike="noStrike">
              <a:ln w="9360">
                <a:solidFill>
                  <a:srgbClr val="8ba7ff"/>
                </a:solidFill>
                <a:miter/>
              </a:ln>
              <a:solidFill>
                <a:srgbClr val="ffffff"/>
              </a:solidFill>
              <a:effectLst>
                <a:outerShdw dist="53966" dir="2700000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8ba7ff"/>
                  </a:solidFill>
                  <a:miter/>
                </a:ln>
                <a:solidFill>
                  <a:srgbClr val="ffffff"/>
                </a:solidFill>
                <a:effectLst>
                  <a:outerShdw dist="53966" dir="2700000" blurRad="0" rotWithShape="0">
                    <a:srgbClr val="000000"/>
                  </a:outerShdw>
                </a:effectLst>
                <a:latin typeface="Arial Black"/>
              </a:rPr>
              <a:t>return and pours His blessings on you. </a:t>
            </a:r>
            <a:endParaRPr b="1" lang="en-US" sz="1600" spc="1" strike="noStrike">
              <a:ln w="9360">
                <a:solidFill>
                  <a:srgbClr val="8ba7ff"/>
                </a:solidFill>
                <a:miter/>
              </a:ln>
              <a:solidFill>
                <a:srgbClr val="ffffff"/>
              </a:solidFill>
              <a:effectLst>
                <a:outerShdw dist="53966" dir="2700000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838080" y="4952880"/>
            <a:ext cx="739152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8ba7ff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000000"/>
                  </a:outerShdw>
                </a:effectLst>
                <a:latin typeface="Arial Black"/>
              </a:rPr>
              <a:t>Praise down the blessings of God!</a:t>
            </a:r>
            <a:endParaRPr b="1" lang="en-US" sz="1600" spc="1" strike="noStrike">
              <a:ln w="9360">
                <a:solidFill>
                  <a:srgbClr val="8ba7ff"/>
                </a:solidFill>
                <a:miter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21" name=""/>
          <p:cNvSpPr/>
          <p:nvPr/>
        </p:nvSpPr>
        <p:spPr>
          <a:xfrm>
            <a:off x="304920" y="380880"/>
            <a:ext cx="8534160" cy="6172200"/>
          </a:xfrm>
          <a:prstGeom prst="rect">
            <a:avLst/>
          </a:prstGeom>
          <a:noFill/>
          <a:ln w="38160">
            <a:solidFill>
              <a:srgbClr val="0055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mb dir="horz"/>
  </p:transition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0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1000"/>
                            </p:stCondLst>
                            <p:childTnLst>
                              <p:par>
                                <p:cTn id="270" nodeType="afterEffect" fill="hold" presetClass="entr" presetID="53">
                                  <p:stCondLst>
                                    <p:cond delay="280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2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0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300"/>
                            </p:stCondLst>
                            <p:childTnLst>
                              <p:par>
                                <p:cTn id="287" nodeType="after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3.33333E-006 1.11111E-006 L 3.33333E-006 -0.53333 E">
                                      <p:cBhvr>
                                        <p:cTn id="288" dur="2000" fill="hold"/>
                                        <p:tgtEl>
                                          <p:spTgt spid="1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0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3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800"/>
                            </p:stCondLst>
                            <p:childTnLst>
                              <p:par>
                                <p:cTn id="29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4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6" dur="250" autoRev="1" fill="hold"/>
                                        <p:tgtEl>
                                          <p:spTgt spid="11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 txBox="1"/>
          <p:nvPr/>
        </p:nvSpPr>
        <p:spPr>
          <a:xfrm>
            <a:off x="685800" y="914400"/>
            <a:ext cx="411480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55d2"/>
                    </a:gs>
                    <a:gs pos="100000">
                      <a:srgbClr val="e3ebf1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000000">
                      <a:alpha val="50000"/>
                    </a:srgbClr>
                  </a:outerShdw>
                </a:effectLst>
                <a:latin typeface="Arial Black"/>
              </a:rPr>
              <a:t>Staying healthy financially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55d2"/>
                  </a:gs>
                  <a:gs pos="100000">
                    <a:srgbClr val="e3ebf1"/>
                  </a:gs>
                </a:gsLst>
                <a:lin ang="5400000"/>
              </a:gradFill>
              <a:effectLst>
                <a:outerShdw dist="17819" dir="2700000" blurRad="0" rotWithShape="0">
                  <a:srgbClr val="000000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55d2"/>
                    </a:gs>
                    <a:gs pos="100000">
                      <a:srgbClr val="e3ebf1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000000">
                      <a:alpha val="50000"/>
                    </a:srgbClr>
                  </a:outerShdw>
                </a:effectLst>
                <a:latin typeface="Arial Black"/>
              </a:rPr>
              <a:t> </a:t>
            </a: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55d2"/>
                    </a:gs>
                    <a:gs pos="100000">
                      <a:srgbClr val="e3ebf1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000000">
                      <a:alpha val="50000"/>
                    </a:srgbClr>
                  </a:outerShdw>
                </a:effectLst>
                <a:latin typeface="Arial Black"/>
              </a:rPr>
              <a:t>is a bit like staying 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55d2"/>
                  </a:gs>
                  <a:gs pos="100000">
                    <a:srgbClr val="e3ebf1"/>
                  </a:gs>
                </a:gsLst>
                <a:lin ang="5400000"/>
              </a:gradFill>
              <a:effectLst>
                <a:outerShdw dist="17819" dir="2700000" blurRad="0" rotWithShape="0">
                  <a:srgbClr val="000000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55d2"/>
                    </a:gs>
                    <a:gs pos="100000">
                      <a:srgbClr val="e3ebf1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000000">
                      <a:alpha val="50000"/>
                    </a:srgbClr>
                  </a:outerShdw>
                </a:effectLst>
                <a:latin typeface="Arial Black"/>
              </a:rPr>
              <a:t>healthy physically: 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55d2"/>
                  </a:gs>
                  <a:gs pos="100000">
                    <a:srgbClr val="e3ebf1"/>
                  </a:gs>
                </a:gsLst>
                <a:lin ang="5400000"/>
              </a:gradFill>
              <a:effectLst>
                <a:outerShdw dist="17819" dir="2700000" blurRad="0" rotWithShape="0">
                  <a:srgbClr val="000000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762120" y="3429000"/>
            <a:ext cx="380988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406bf6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rial Black"/>
              </a:rPr>
              <a:t>There aren't any shortcuts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406bf6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406bf6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rial Black"/>
              </a:rPr>
              <a:t> </a:t>
            </a: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406bf6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rial Black"/>
              </a:rPr>
              <a:t>or "magic pills," but rather 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406bf6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406bf6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rial Black"/>
              </a:rPr>
              <a:t>it's dependent on numerous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406bf6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406bf6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rial Black"/>
              </a:rPr>
              <a:t> </a:t>
            </a: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406bf6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rial Black"/>
              </a:rPr>
              <a:t>factors that have to be done 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406bf6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406bf6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rial Black"/>
              </a:rPr>
              <a:t>with regularity.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406bf6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3" name=""/>
          <p:cNvSpPr/>
          <p:nvPr/>
        </p:nvSpPr>
        <p:spPr>
          <a:xfrm>
            <a:off x="5181480" y="685800"/>
            <a:ext cx="3429000" cy="5562720"/>
          </a:xfrm>
          <a:prstGeom prst="rect">
            <a:avLst/>
          </a:prstGeom>
          <a:noFill/>
          <a:ln w="28440">
            <a:solidFill>
              <a:srgbClr val="0055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04920" y="380880"/>
            <a:ext cx="8534160" cy="6172200"/>
          </a:xfrm>
          <a:prstGeom prst="rect">
            <a:avLst/>
          </a:prstGeom>
          <a:noFill/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rcRect l="8514" t="8790" r="10635" b="7576"/>
          <a:stretch/>
        </p:blipFill>
        <p:spPr>
          <a:xfrm>
            <a:off x="5410080" y="914400"/>
            <a:ext cx="2936880" cy="5105520"/>
          </a:xfrm>
          <a:prstGeom prst="rect">
            <a:avLst/>
          </a:prstGeom>
          <a:ln w="38160">
            <a:solidFill>
              <a:srgbClr val="990033"/>
            </a:solidFill>
            <a:miter/>
          </a:ln>
        </p:spPr>
      </p:pic>
    </p:spTree>
  </p:cSld>
  <p:transition spd="med">
    <p:comb dir="horz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7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7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500"/>
                            </p:stCondLst>
                            <p:childTnLst>
                              <p:par>
                                <p:cTn id="48" nodeType="afterEffect" fill="hold" presetClass="entr" presetID="10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0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304920" y="380880"/>
            <a:ext cx="8534160" cy="6172200"/>
          </a:xfrm>
          <a:prstGeom prst="rect">
            <a:avLst/>
          </a:prstGeom>
          <a:noFill/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762120" y="685800"/>
            <a:ext cx="739116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55d2"/>
                    </a:gs>
                    <a:gs pos="100000">
                      <a:srgbClr val="e3ebf1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33">
                      <a:alpha val="50000"/>
                    </a:srgbClr>
                  </a:outerShdw>
                </a:effectLst>
                <a:latin typeface="Arial Black"/>
              </a:rPr>
              <a:t>To get healthy or stay healthy physically,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55d2"/>
                  </a:gs>
                  <a:gs pos="100000">
                    <a:srgbClr val="e3ebf1"/>
                  </a:gs>
                </a:gsLst>
                <a:lin ang="5400000"/>
              </a:gradFill>
              <a:effectLst>
                <a:outerShdw dist="17819" dir="2700000" blurRad="0" rotWithShape="0">
                  <a:srgbClr val="990033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55d2"/>
                    </a:gs>
                    <a:gs pos="100000">
                      <a:srgbClr val="e3ebf1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33">
                      <a:alpha val="50000"/>
                    </a:srgbClr>
                  </a:outerShdw>
                </a:effectLst>
                <a:latin typeface="Arial Black"/>
              </a:rPr>
              <a:t> </a:t>
            </a: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55d2"/>
                    </a:gs>
                    <a:gs pos="100000">
                      <a:srgbClr val="e3ebf1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33">
                      <a:alpha val="50000"/>
                    </a:srgbClr>
                  </a:outerShdw>
                </a:effectLst>
                <a:latin typeface="Arial Black"/>
              </a:rPr>
              <a:t>you must do a number of things in proper balance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55d2"/>
                  </a:gs>
                  <a:gs pos="100000">
                    <a:srgbClr val="e3ebf1"/>
                  </a:gs>
                </a:gsLst>
                <a:lin ang="5400000"/>
              </a:gradFill>
              <a:effectLst>
                <a:outerShdw dist="17819" dir="2700000" blurRad="0" rotWithShape="0">
                  <a:srgbClr val="990033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762120" y="4419720"/>
            <a:ext cx="41148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0">
                  <a:noFill/>
                </a:ln>
                <a:solidFill>
                  <a:srgbClr val="3366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rial Black"/>
              </a:rPr>
              <a:t>You can't only eat well and expect to be healthy; </a:t>
            </a:r>
            <a:endParaRPr b="1" lang="en-US" sz="1600" spc="1" strike="noStrike">
              <a:ln w="0">
                <a:noFill/>
              </a:ln>
              <a:solidFill>
                <a:srgbClr val="3366ff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0">
                  <a:noFill/>
                </a:ln>
                <a:solidFill>
                  <a:srgbClr val="3366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rial Black"/>
              </a:rPr>
              <a:t>you also need to do those other things.</a:t>
            </a:r>
            <a:endParaRPr b="1" lang="en-US" sz="1600" spc="1" strike="noStrike">
              <a:ln w="0">
                <a:noFill/>
              </a:ln>
              <a:solidFill>
                <a:srgbClr val="3366ff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0">
                  <a:noFill/>
                </a:ln>
                <a:solidFill>
                  <a:srgbClr val="3366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rial Black"/>
              </a:rPr>
              <a:t> </a:t>
            </a:r>
            <a:r>
              <a:rPr b="1" lang="en-US" sz="1600" spc="1" strike="noStrike">
                <a:ln w="0">
                  <a:noFill/>
                </a:ln>
                <a:solidFill>
                  <a:srgbClr val="3366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rial Black"/>
              </a:rPr>
              <a:t>Each is a part of God's health plan, and they all </a:t>
            </a:r>
            <a:endParaRPr b="1" lang="en-US" sz="1600" spc="1" strike="noStrike">
              <a:ln w="0">
                <a:noFill/>
              </a:ln>
              <a:solidFill>
                <a:srgbClr val="3366ff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0">
                  <a:noFill/>
                </a:ln>
                <a:solidFill>
                  <a:srgbClr val="3366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rial Black"/>
              </a:rPr>
              <a:t>work together to bring about the desired result.</a:t>
            </a:r>
            <a:endParaRPr b="1" lang="en-US" sz="1600" spc="1" strike="noStrike">
              <a:ln w="0">
                <a:noFill/>
              </a:ln>
              <a:solidFill>
                <a:srgbClr val="3366ff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685800" y="2209680"/>
            <a:ext cx="426708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8ba7ff"/>
                    </a:gs>
                    <a:gs pos="100000">
                      <a:srgbClr val="0055d2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000000"/>
                  </a:outerShdw>
                </a:effectLst>
                <a:latin typeface="Arial Black"/>
              </a:rPr>
              <a:t>—</a:t>
            </a: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8ba7ff"/>
                    </a:gs>
                    <a:gs pos="100000">
                      <a:srgbClr val="0055d2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000000"/>
                  </a:outerShdw>
                </a:effectLst>
                <a:latin typeface="Arial Black"/>
              </a:rPr>
              <a:t>eat well, sleep well, exercise regularly,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8ba7ff"/>
                  </a:gs>
                  <a:gs pos="100000">
                    <a:srgbClr val="0055d2"/>
                  </a:gs>
                </a:gsLst>
                <a:lin ang="5400000"/>
              </a:gradFill>
              <a:effectLst>
                <a:outerShdw dist="53966" dir="2700000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8ba7ff"/>
                    </a:gs>
                    <a:gs pos="100000">
                      <a:srgbClr val="0055d2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000000"/>
                  </a:outerShdw>
                </a:effectLst>
                <a:latin typeface="Arial Black"/>
              </a:rPr>
              <a:t> </a:t>
            </a: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8ba7ff"/>
                    </a:gs>
                    <a:gs pos="100000">
                      <a:srgbClr val="0055d2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000000"/>
                  </a:outerShdw>
                </a:effectLst>
                <a:latin typeface="Arial Black"/>
              </a:rPr>
              <a:t>drink plenty of water, dress appropriately 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8ba7ff"/>
                  </a:gs>
                  <a:gs pos="100000">
                    <a:srgbClr val="0055d2"/>
                  </a:gs>
                </a:gsLst>
                <a:lin ang="5400000"/>
              </a:gradFill>
              <a:effectLst>
                <a:outerShdw dist="53966" dir="2700000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8ba7ff"/>
                    </a:gs>
                    <a:gs pos="100000">
                      <a:srgbClr val="0055d2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000000"/>
                  </a:outerShdw>
                </a:effectLst>
                <a:latin typeface="Arial Black"/>
              </a:rPr>
              <a:t>for the weather, avoid stress, 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8ba7ff"/>
                  </a:gs>
                  <a:gs pos="100000">
                    <a:srgbClr val="0055d2"/>
                  </a:gs>
                </a:gsLst>
                <a:lin ang="5400000"/>
              </a:gradFill>
              <a:effectLst>
                <a:outerShdw dist="53966" dir="2700000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8ba7ff"/>
                    </a:gs>
                    <a:gs pos="100000">
                      <a:srgbClr val="0055d2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000000"/>
                  </a:outerShdw>
                </a:effectLst>
                <a:latin typeface="Arial Black"/>
              </a:rPr>
              <a:t>stay clean and avoid germs, etc. 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8ba7ff"/>
                  </a:gs>
                  <a:gs pos="100000">
                    <a:srgbClr val="0055d2"/>
                  </a:gs>
                </a:gsLst>
                <a:lin ang="5400000"/>
              </a:gradFill>
              <a:effectLst>
                <a:outerShdw dist="53966" dir="2700000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611680" y="2286000"/>
            <a:ext cx="2694240" cy="3781440"/>
          </a:xfrm>
          <a:prstGeom prst="rect">
            <a:avLst/>
          </a:prstGeom>
          <a:ln w="38160">
            <a:solidFill>
              <a:srgbClr val="990033"/>
            </a:solidFill>
            <a:miter/>
          </a:ln>
        </p:spPr>
      </p:pic>
      <p:sp>
        <p:nvSpPr>
          <p:cNvPr id="62" name=""/>
          <p:cNvSpPr/>
          <p:nvPr/>
        </p:nvSpPr>
        <p:spPr>
          <a:xfrm>
            <a:off x="5410080" y="2057400"/>
            <a:ext cx="3124440" cy="4191120"/>
          </a:xfrm>
          <a:prstGeom prst="rect">
            <a:avLst/>
          </a:prstGeom>
          <a:noFill/>
          <a:ln w="28440">
            <a:solidFill>
              <a:srgbClr val="0055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mb dir="horz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10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0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4300"/>
                            </p:stCondLst>
                            <p:childTnLst>
                              <p:par>
                                <p:cTn id="77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304920" y="380880"/>
            <a:ext cx="8534160" cy="6172200"/>
          </a:xfrm>
          <a:prstGeom prst="rect">
            <a:avLst/>
          </a:prstGeom>
          <a:noFill/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33520" y="2590920"/>
            <a:ext cx="2895480" cy="3733560"/>
          </a:xfrm>
          <a:prstGeom prst="rect">
            <a:avLst/>
          </a:prstGeom>
          <a:noFill/>
          <a:ln w="28440">
            <a:solidFill>
              <a:srgbClr val="0055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609480" y="685800"/>
            <a:ext cx="80010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8ba7ff"/>
                    </a:gs>
                    <a:gs pos="100000">
                      <a:srgbClr val="0055d2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33">
                      <a:alpha val="50000"/>
                    </a:srgbClr>
                  </a:outerShdw>
                </a:effectLst>
                <a:latin typeface="Arial Black"/>
              </a:rPr>
              <a:t>It's the same with getting healthy 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8ba7ff"/>
                  </a:gs>
                  <a:gs pos="100000">
                    <a:srgbClr val="0055d2"/>
                  </a:gs>
                </a:gsLst>
                <a:lin ang="5400000"/>
              </a:gradFill>
              <a:effectLst>
                <a:outerShdw dist="17819" dir="2700000" blurRad="0" rotWithShape="0">
                  <a:srgbClr val="990033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8ba7ff"/>
                    </a:gs>
                    <a:gs pos="100000">
                      <a:srgbClr val="0055d2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33">
                      <a:alpha val="50000"/>
                    </a:srgbClr>
                  </a:outerShdw>
                </a:effectLst>
                <a:latin typeface="Arial Black"/>
              </a:rPr>
              <a:t>and staying healthy financially. 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8ba7ff"/>
                  </a:gs>
                  <a:gs pos="100000">
                    <a:srgbClr val="0055d2"/>
                  </a:gs>
                </a:gsLst>
                <a:lin ang="5400000"/>
              </a:gradFill>
              <a:effectLst>
                <a:outerShdw dist="17819" dir="2700000" blurRad="0" rotWithShape="0">
                  <a:srgbClr val="990033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3733920" y="2971800"/>
            <a:ext cx="472428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406bf6"/>
                    </a:gs>
                    <a:gs pos="100000">
                      <a:srgbClr val="4784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000000"/>
                  </a:outerShdw>
                </a:effectLst>
                <a:latin typeface="Arial Black"/>
              </a:rPr>
              <a:t>That means first and foremost 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406bf6"/>
                  </a:gs>
                  <a:gs pos="100000">
                    <a:srgbClr val="4784ff"/>
                  </a:gs>
                </a:gsLst>
                <a:lin ang="5400000"/>
              </a:gradFill>
              <a:effectLst>
                <a:outerShdw dist="17819" dir="2700000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406bf6"/>
                    </a:gs>
                    <a:gs pos="100000">
                      <a:srgbClr val="4784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000000"/>
                  </a:outerShdw>
                </a:effectLst>
                <a:latin typeface="Arial Black"/>
              </a:rPr>
              <a:t>making time for your spiritual life 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406bf6"/>
                  </a:gs>
                  <a:gs pos="100000">
                    <a:srgbClr val="4784ff"/>
                  </a:gs>
                </a:gsLst>
                <a:lin ang="5400000"/>
              </a:gradFill>
              <a:effectLst>
                <a:outerShdw dist="17819" dir="2700000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406bf6"/>
                    </a:gs>
                    <a:gs pos="100000">
                      <a:srgbClr val="4784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000000"/>
                  </a:outerShdw>
                </a:effectLst>
                <a:latin typeface="Arial Black"/>
              </a:rPr>
              <a:t>and relationship with Him—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406bf6"/>
                  </a:gs>
                  <a:gs pos="100000">
                    <a:srgbClr val="4784ff"/>
                  </a:gs>
                </a:gsLst>
                <a:lin ang="5400000"/>
              </a:gradFill>
              <a:effectLst>
                <a:outerShdw dist="17819" dir="2700000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406bf6"/>
                    </a:gs>
                    <a:gs pos="100000">
                      <a:srgbClr val="4784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000000"/>
                  </a:outerShdw>
                </a:effectLst>
                <a:latin typeface="Arial Black"/>
              </a:rPr>
              <a:t>"Delight yourself in the Lord, 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406bf6"/>
                  </a:gs>
                  <a:gs pos="100000">
                    <a:srgbClr val="4784ff"/>
                  </a:gs>
                </a:gsLst>
                <a:lin ang="5400000"/>
              </a:gradFill>
              <a:effectLst>
                <a:outerShdw dist="17819" dir="2700000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406bf6"/>
                    </a:gs>
                    <a:gs pos="100000">
                      <a:srgbClr val="4784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000000"/>
                  </a:outerShdw>
                </a:effectLst>
                <a:latin typeface="Arial Black"/>
              </a:rPr>
              <a:t>and He shall give you the 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406bf6"/>
                  </a:gs>
                  <a:gs pos="100000">
                    <a:srgbClr val="4784ff"/>
                  </a:gs>
                </a:gsLst>
                <a:lin ang="5400000"/>
              </a:gradFill>
              <a:effectLst>
                <a:outerShdw dist="17819" dir="2700000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406bf6"/>
                    </a:gs>
                    <a:gs pos="100000">
                      <a:srgbClr val="4784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000000"/>
                  </a:outerShdw>
                </a:effectLst>
                <a:latin typeface="Arial Black"/>
              </a:rPr>
              <a:t>desires of your heart." 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406bf6"/>
                  </a:gs>
                  <a:gs pos="100000">
                    <a:srgbClr val="4784ff"/>
                  </a:gs>
                </a:gsLst>
                <a:lin ang="5400000"/>
              </a:gradFill>
              <a:effectLst>
                <a:outerShdw dist="17819" dir="2700000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838080" y="1981080"/>
            <a:ext cx="739152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53966" dir="2700000" blurRad="0" rotWithShape="0">
                    <a:srgbClr val="000000"/>
                  </a:outerShdw>
                </a:effectLst>
                <a:latin typeface="Arial Black"/>
              </a:rPr>
              <a:t>You have to follow God's financial health plan as best you can. 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53966" dir="2700000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5334120" y="5791320"/>
            <a:ext cx="129528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979ff"/>
                    </a:gs>
                    <a:gs pos="100000">
                      <a:srgbClr val="4784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000000"/>
                  </a:outerShdw>
                </a:effectLst>
                <a:latin typeface="Arial Black"/>
              </a:rPr>
              <a:t>Psalm 37:4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979ff"/>
                  </a:gs>
                  <a:gs pos="100000">
                    <a:srgbClr val="4784ff"/>
                  </a:gs>
                </a:gsLst>
                <a:lin ang="5400000"/>
              </a:gradFill>
              <a:effectLst>
                <a:outerShdw dist="17819" dir="2700000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rcRect l="4006" t="3012" r="4006" b="3765"/>
          <a:stretch/>
        </p:blipFill>
        <p:spPr>
          <a:xfrm>
            <a:off x="762120" y="2819520"/>
            <a:ext cx="2430360" cy="3276360"/>
          </a:xfrm>
          <a:prstGeom prst="rect">
            <a:avLst/>
          </a:prstGeom>
          <a:ln w="38160">
            <a:solidFill>
              <a:srgbClr val="990033"/>
            </a:solidFill>
            <a:miter/>
          </a:ln>
        </p:spPr>
      </p:pic>
    </p:spTree>
  </p:cSld>
  <p:transition spd="med">
    <p:comb dir="horz"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1000"/>
                            </p:stCondLst>
                            <p:childTnLst>
                              <p:par>
                                <p:cTn id="88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3500"/>
                            </p:stCondLst>
                            <p:childTnLst>
                              <p:par>
                                <p:cTn id="95" nodeType="afterEffect" fill="hold" presetClass="entr" presetID="10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7" presetSubtype="10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7" presetSubtype="10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800"/>
                            </p:stCondLst>
                            <p:childTnLst>
                              <p:par>
                                <p:cTn id="107" nodeType="afterEffect" fill="hold" presetClass="entr" presetID="10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304920" y="380880"/>
            <a:ext cx="8534160" cy="6172200"/>
          </a:xfrm>
          <a:prstGeom prst="rect">
            <a:avLst/>
          </a:prstGeom>
          <a:noFill/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38680" y="685800"/>
            <a:ext cx="3048120" cy="4343400"/>
          </a:xfrm>
          <a:prstGeom prst="rect">
            <a:avLst/>
          </a:prstGeom>
          <a:noFill/>
          <a:ln w="28440">
            <a:solidFill>
              <a:srgbClr val="0055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685800" y="762120"/>
            <a:ext cx="426708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e3ebf1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0033">
                      <a:alpha val="50000"/>
                    </a:srgbClr>
                  </a:outerShdw>
                </a:effectLst>
                <a:latin typeface="Arial Black"/>
              </a:rPr>
              <a:t>—</a:t>
            </a: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e3ebf1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0033">
                      <a:alpha val="50000"/>
                    </a:srgbClr>
                  </a:outerShdw>
                </a:effectLst>
                <a:latin typeface="Arial Black"/>
              </a:rPr>
              <a:t>but there's more to it 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ff"/>
                  </a:gs>
                  <a:gs pos="100000">
                    <a:srgbClr val="e3ebf1"/>
                  </a:gs>
                </a:gsLst>
                <a:lin ang="5400000"/>
              </a:gradFill>
              <a:effectLst>
                <a:outerShdw dist="53966" dir="2700000" blurRad="0" rotWithShape="0">
                  <a:srgbClr val="990033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e3ebf1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0033">
                      <a:alpha val="50000"/>
                    </a:srgbClr>
                  </a:outerShdw>
                </a:effectLst>
                <a:latin typeface="Arial Black"/>
              </a:rPr>
              <a:t>than that. 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ff"/>
                  </a:gs>
                  <a:gs pos="100000">
                    <a:srgbClr val="e3ebf1"/>
                  </a:gs>
                </a:gsLst>
                <a:lin ang="5400000"/>
              </a:gradFill>
              <a:effectLst>
                <a:outerShdw dist="53966" dir="2700000" blurRad="0" rotWithShape="0">
                  <a:srgbClr val="990033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533520" y="2666880"/>
            <a:ext cx="365760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effectLst>
                  <a:outerShdw dist="53966" dir="2700000" blurRad="0" rotWithShape="0">
                    <a:srgbClr val="000000"/>
                  </a:outerShdw>
                </a:effectLst>
                <a:latin typeface="Arial Black"/>
              </a:rPr>
              <a:t>You also need to work hard, 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effectLst>
                <a:outerShdw dist="53966" dir="2700000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effectLst>
                  <a:outerShdw dist="53966" dir="2700000" blurRad="0" rotWithShape="0">
                    <a:srgbClr val="000000"/>
                  </a:outerShdw>
                </a:effectLst>
                <a:latin typeface="Arial Black"/>
              </a:rPr>
              <a:t>be honest and fair in business, 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effectLst>
                <a:outerShdw dist="53966" dir="2700000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effectLst>
                  <a:outerShdw dist="53966" dir="2700000" blurRad="0" rotWithShape="0">
                    <a:srgbClr val="000000"/>
                  </a:outerShdw>
                </a:effectLst>
                <a:latin typeface="Arial Black"/>
              </a:rPr>
              <a:t>pray for His guidance before 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effectLst>
                <a:outerShdw dist="53966" dir="2700000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effectLst>
                  <a:outerShdw dist="53966" dir="2700000" blurRad="0" rotWithShape="0">
                    <a:srgbClr val="000000"/>
                  </a:outerShdw>
                </a:effectLst>
                <a:latin typeface="Arial Black"/>
              </a:rPr>
              <a:t>making financial decisions, 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effectLst>
                <a:outerShdw dist="53966" dir="2700000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effectLst>
                  <a:outerShdw dist="53966" dir="2700000" blurRad="0" rotWithShape="0">
                    <a:srgbClr val="000000"/>
                  </a:outerShdw>
                </a:effectLst>
                <a:latin typeface="Arial Black"/>
              </a:rPr>
              <a:t>be thankful for all He gives you, 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effectLst>
                <a:outerShdw dist="53966" dir="2700000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effectLst>
                  <a:outerShdw dist="53966" dir="2700000" blurRad="0" rotWithShape="0">
                    <a:srgbClr val="000000"/>
                  </a:outerShdw>
                </a:effectLst>
                <a:latin typeface="Arial Black"/>
              </a:rPr>
              <a:t>avoid waste, and give back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effectLst>
                <a:outerShdw dist="53966" dir="2700000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685800" y="4952880"/>
            <a:ext cx="33526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effectLst>
                  <a:outerShdw dist="53966" dir="2700000" blurRad="0" rotWithShape="0">
                    <a:srgbClr val="000000"/>
                  </a:outerShdw>
                </a:effectLst>
                <a:latin typeface="Arial Black"/>
              </a:rPr>
              <a:t>by supporting His work and 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effectLst>
                <a:outerShdw dist="53966" dir="2700000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effectLst>
                  <a:outerShdw dist="53966" dir="2700000" blurRad="0" rotWithShape="0">
                    <a:srgbClr val="000000"/>
                  </a:outerShdw>
                </a:effectLst>
                <a:latin typeface="Arial Black"/>
              </a:rPr>
              <a:t>workers, as well as giving 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effectLst>
                <a:outerShdw dist="53966" dir="2700000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effectLst>
                  <a:outerShdw dist="53966" dir="2700000" blurRad="0" rotWithShape="0">
                    <a:srgbClr val="000000"/>
                  </a:outerShdw>
                </a:effectLst>
                <a:latin typeface="Arial Black"/>
              </a:rPr>
              <a:t>to others in need, etc. 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effectLst>
                <a:outerShdw dist="53966" dir="2700000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5873760" y="914400"/>
            <a:ext cx="2584440" cy="3886200"/>
          </a:xfrm>
          <a:prstGeom prst="rect">
            <a:avLst/>
          </a:prstGeom>
          <a:ln w="38160">
            <a:solidFill>
              <a:srgbClr val="990033"/>
            </a:solidFill>
            <a:miter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4495680" y="3886200"/>
            <a:ext cx="2248200" cy="2286000"/>
          </a:xfrm>
          <a:prstGeom prst="rect">
            <a:avLst/>
          </a:prstGeom>
          <a:ln w="38160">
            <a:solidFill>
              <a:srgbClr val="990033"/>
            </a:solidFill>
            <a:miter/>
          </a:ln>
        </p:spPr>
      </p:pic>
      <p:sp>
        <p:nvSpPr>
          <p:cNvPr id="79" name=""/>
          <p:cNvSpPr/>
          <p:nvPr/>
        </p:nvSpPr>
        <p:spPr>
          <a:xfrm>
            <a:off x="4343400" y="3733920"/>
            <a:ext cx="2590920" cy="2590560"/>
          </a:xfrm>
          <a:prstGeom prst="rect">
            <a:avLst/>
          </a:prstGeom>
          <a:noFill/>
          <a:ln w="28440">
            <a:solidFill>
              <a:srgbClr val="0055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mb dir="horz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ntr" presetID="10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0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7" presetSubtype="10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7" presetSubtype="10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7" presetSubtype="10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7" presetSubtype="10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0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rcRect l="0" t="0" r="0" b="38711"/>
          <a:stretch/>
        </p:blipFill>
        <p:spPr>
          <a:xfrm>
            <a:off x="304920" y="380880"/>
            <a:ext cx="8534160" cy="61722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 txBox="1"/>
          <p:nvPr/>
        </p:nvSpPr>
        <p:spPr>
          <a:xfrm>
            <a:off x="838080" y="1523880"/>
            <a:ext cx="7620120" cy="243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979ff"/>
                    </a:gs>
                    <a:gs pos="100000">
                      <a:srgbClr val="406bf6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000000"/>
                  </a:outerShdw>
                </a:effectLst>
                <a:latin typeface="Arial Black"/>
              </a:rPr>
              <a:t>You have to enact each part of 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979ff"/>
                  </a:gs>
                  <a:gs pos="100000">
                    <a:srgbClr val="406bf6"/>
                  </a:gs>
                </a:gsLst>
                <a:lin ang="5400000"/>
              </a:gradFill>
              <a:effectLst>
                <a:outerShdw dist="53966" dir="2700000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979ff"/>
                    </a:gs>
                    <a:gs pos="100000">
                      <a:srgbClr val="406bf6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000000"/>
                  </a:outerShdw>
                </a:effectLst>
                <a:latin typeface="Arial Black"/>
              </a:rPr>
              <a:t>God's financial health plan 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979ff"/>
                  </a:gs>
                  <a:gs pos="100000">
                    <a:srgbClr val="406bf6"/>
                  </a:gs>
                </a:gsLst>
                <a:lin ang="5400000"/>
              </a:gradFill>
              <a:effectLst>
                <a:outerShdw dist="53966" dir="2700000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979ff"/>
                    </a:gs>
                    <a:gs pos="100000">
                      <a:srgbClr val="406bf6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000000"/>
                  </a:outerShdw>
                </a:effectLst>
                <a:latin typeface="Arial Black"/>
              </a:rPr>
              <a:t>and keep the right balance, 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979ff"/>
                  </a:gs>
                  <a:gs pos="100000">
                    <a:srgbClr val="406bf6"/>
                  </a:gs>
                </a:gsLst>
                <a:lin ang="5400000"/>
              </a:gradFill>
              <a:effectLst>
                <a:outerShdw dist="53966" dir="2700000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1752480" y="4191120"/>
            <a:ext cx="579132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406bf6"/>
                </a:solidFill>
                <a:effectLst>
                  <a:outerShdw dist="53966" dir="2700000" blurRad="0" rotWithShape="0">
                    <a:srgbClr val="000000"/>
                  </a:outerShdw>
                </a:effectLst>
                <a:latin typeface="Arial Black"/>
              </a:rPr>
              <a:t>or you can't expect His 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406bf6"/>
              </a:solidFill>
              <a:effectLst>
                <a:outerShdw dist="53966" dir="2700000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406bf6"/>
                </a:solidFill>
                <a:effectLst>
                  <a:outerShdw dist="53966" dir="2700000" blurRad="0" rotWithShape="0">
                    <a:srgbClr val="000000"/>
                  </a:outerShdw>
                </a:effectLst>
                <a:latin typeface="Arial Black"/>
              </a:rPr>
              <a:t>full blessing.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406bf6"/>
              </a:solidFill>
              <a:effectLst>
                <a:outerShdw dist="53966" dir="2700000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4" name=""/>
          <p:cNvSpPr/>
          <p:nvPr/>
        </p:nvSpPr>
        <p:spPr>
          <a:xfrm>
            <a:off x="304920" y="380880"/>
            <a:ext cx="8534160" cy="6172200"/>
          </a:xfrm>
          <a:prstGeom prst="rect">
            <a:avLst/>
          </a:prstGeom>
          <a:noFill/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mb dir="horz"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0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5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304920" y="380880"/>
            <a:ext cx="8534160" cy="6172200"/>
          </a:xfrm>
          <a:prstGeom prst="rect">
            <a:avLst/>
          </a:prstGeom>
          <a:noFill/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990720" y="609480"/>
            <a:ext cx="716256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55d2"/>
                </a:solidFill>
                <a:effectLst>
                  <a:outerShdw dist="53966" dir="2700000" blurRad="0" rotWithShape="0">
                    <a:srgbClr val="000000"/>
                  </a:outerShdw>
                </a:effectLst>
                <a:latin typeface="Arial Black"/>
              </a:rPr>
              <a:t>At the same time, you need to remember that 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55d2"/>
              </a:solidFill>
              <a:effectLst>
                <a:outerShdw dist="53966" dir="2700000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55d2"/>
                </a:solidFill>
                <a:effectLst>
                  <a:outerShdw dist="53966" dir="2700000" blurRad="0" rotWithShape="0">
                    <a:srgbClr val="000000"/>
                  </a:outerShdw>
                </a:effectLst>
                <a:latin typeface="Arial Black"/>
              </a:rPr>
              <a:t>having a good income and financial stability 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55d2"/>
              </a:solidFill>
              <a:effectLst>
                <a:outerShdw dist="53966" dir="2700000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55d2"/>
                </a:solidFill>
                <a:effectLst>
                  <a:outerShdw dist="53966" dir="2700000" blurRad="0" rotWithShape="0">
                    <a:srgbClr val="000000"/>
                  </a:outerShdw>
                </a:effectLst>
                <a:latin typeface="Arial Black"/>
              </a:rPr>
              <a:t>isn't the be-all or end-all of the Lord's blessing,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55d2"/>
              </a:solidFill>
              <a:effectLst>
                <a:outerShdw dist="53966" dir="2700000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55d2"/>
                </a:solidFill>
                <a:effectLst>
                  <a:outerShdw dist="53966" dir="2700000" blurRad="0" rotWithShape="0">
                    <a:srgbClr val="000000"/>
                  </a:outerShdw>
                </a:effectLst>
                <a:latin typeface="Arial Black"/>
              </a:rPr>
              <a:t>any more than it's the be-all or end-all of life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55d2"/>
              </a:solidFill>
              <a:effectLst>
                <a:outerShdw dist="53966" dir="2700000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990720" y="5410080"/>
            <a:ext cx="701028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8ba7ff"/>
                    </a:gs>
                    <a:gs pos="100000">
                      <a:srgbClr val="0055d2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000000"/>
                  </a:outerShdw>
                </a:effectLst>
                <a:latin typeface="Arial Black"/>
              </a:rPr>
              <a:t>— </a:t>
            </a: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8ba7ff"/>
                    </a:gs>
                    <a:gs pos="100000">
                      <a:srgbClr val="0055d2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000000"/>
                  </a:outerShdw>
                </a:effectLst>
                <a:latin typeface="Arial Black"/>
              </a:rPr>
              <a:t>or as Jesus put it, "One's life does not consist 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8ba7ff"/>
                  </a:gs>
                  <a:gs pos="100000">
                    <a:srgbClr val="0055d2"/>
                  </a:gs>
                </a:gsLst>
                <a:lin ang="5400000"/>
              </a:gradFill>
              <a:effectLst>
                <a:outerShdw dist="53966" dir="2700000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8ba7ff"/>
                    </a:gs>
                    <a:gs pos="100000">
                      <a:srgbClr val="0055d2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000000"/>
                  </a:outerShdw>
                </a:effectLst>
                <a:latin typeface="Arial Black"/>
              </a:rPr>
              <a:t>in the abundance of the things he possesses" 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8ba7ff"/>
                  </a:gs>
                  <a:gs pos="100000">
                    <a:srgbClr val="0055d2"/>
                  </a:gs>
                </a:gsLst>
                <a:lin ang="5400000"/>
              </a:gradFill>
              <a:effectLst>
                <a:outerShdw dist="53966" dir="2700000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3809880" y="6172200"/>
            <a:ext cx="121932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ba7ff"/>
                </a:solidFill>
                <a:effectLst>
                  <a:outerShdw dist="53966" dir="2700000" blurRad="0" rotWithShape="0">
                    <a:srgbClr val="000000"/>
                  </a:outerShdw>
                </a:effectLst>
                <a:latin typeface="Arial Black"/>
              </a:rPr>
              <a:t>(Luke 12:15). 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8ba7ff"/>
              </a:solidFill>
              <a:effectLst>
                <a:outerShdw dist="53966" dir="2700000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0" name=""/>
          <p:cNvSpPr/>
          <p:nvPr/>
        </p:nvSpPr>
        <p:spPr>
          <a:xfrm>
            <a:off x="2362320" y="2209680"/>
            <a:ext cx="4190760" cy="2971800"/>
          </a:xfrm>
          <a:prstGeom prst="rect">
            <a:avLst/>
          </a:prstGeom>
          <a:noFill/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rcRect l="1995" t="1500" r="1995" b="3020"/>
          <a:stretch/>
        </p:blipFill>
        <p:spPr>
          <a:xfrm>
            <a:off x="2514600" y="2362320"/>
            <a:ext cx="3886200" cy="2671560"/>
          </a:xfrm>
          <a:prstGeom prst="rect">
            <a:avLst/>
          </a:prstGeom>
          <a:ln w="38160">
            <a:solidFill>
              <a:srgbClr val="0055d2"/>
            </a:solidFill>
            <a:miter/>
          </a:ln>
        </p:spPr>
      </p:pic>
    </p:spTree>
  </p:cSld>
  <p:transition spd="med">
    <p:comb dir="horz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304920" y="380880"/>
            <a:ext cx="8534160" cy="6172200"/>
          </a:xfrm>
          <a:prstGeom prst="rect">
            <a:avLst/>
          </a:prstGeom>
          <a:noFill/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486400" y="1828800"/>
            <a:ext cx="3124080" cy="2666880"/>
          </a:xfrm>
          <a:prstGeom prst="rect">
            <a:avLst/>
          </a:prstGeom>
          <a:noFill/>
          <a:ln w="28440">
            <a:solidFill>
              <a:srgbClr val="0055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762120" y="685800"/>
            <a:ext cx="75438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55d2"/>
                    </a:gs>
                    <a:gs pos="100000">
                      <a:srgbClr val="7979ff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000000"/>
                  </a:outerShdw>
                </a:effectLst>
                <a:latin typeface="Arial Black"/>
              </a:rPr>
              <a:t>Sometimes His blessings come in other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55d2"/>
                  </a:gs>
                  <a:gs pos="100000">
                    <a:srgbClr val="7979ff"/>
                  </a:gs>
                </a:gsLst>
                <a:lin ang="5400000"/>
              </a:gradFill>
              <a:effectLst>
                <a:outerShdw dist="53966" dir="2700000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55d2"/>
                    </a:gs>
                    <a:gs pos="100000">
                      <a:srgbClr val="7979ff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000000"/>
                  </a:outerShdw>
                </a:effectLst>
                <a:latin typeface="Arial Black"/>
              </a:rPr>
              <a:t> </a:t>
            </a: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55d2"/>
                    </a:gs>
                    <a:gs pos="100000">
                      <a:srgbClr val="7979ff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000000"/>
                  </a:outerShdw>
                </a:effectLst>
                <a:latin typeface="Arial Black"/>
              </a:rPr>
              <a:t>forms that benefit us even more... 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55d2"/>
                  </a:gs>
                  <a:gs pos="100000">
                    <a:srgbClr val="7979ff"/>
                  </a:gs>
                </a:gsLst>
                <a:lin ang="5400000"/>
              </a:gradFill>
              <a:effectLst>
                <a:outerShdw dist="53966" dir="2700000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609480" y="2209680"/>
            <a:ext cx="441972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55d2"/>
                </a:solidFill>
                <a:effectLst>
                  <a:outerShdw dist="53966" dir="2700000" blurRad="0" rotWithShape="0">
                    <a:srgbClr val="000000"/>
                  </a:outerShdw>
                </a:effectLst>
                <a:latin typeface="Arial Black"/>
              </a:rPr>
              <a:t>...such as good health,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55d2"/>
              </a:solidFill>
              <a:effectLst>
                <a:outerShdw dist="53966" dir="2700000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55d2"/>
                </a:solidFill>
                <a:effectLst>
                  <a:outerShdw dist="53966" dir="2700000" blurRad="0" rotWithShape="0">
                    <a:srgbClr val="000000"/>
                  </a:outerShdw>
                </a:effectLst>
                <a:latin typeface="Arial Black"/>
              </a:rPr>
              <a:t> </a:t>
            </a: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55d2"/>
                </a:solidFill>
                <a:effectLst>
                  <a:outerShdw dist="53966" dir="2700000" blurRad="0" rotWithShape="0">
                    <a:srgbClr val="000000"/>
                  </a:outerShdw>
                </a:effectLst>
                <a:latin typeface="Arial Black"/>
              </a:rPr>
              <a:t>protection from accidents, 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55d2"/>
              </a:solidFill>
              <a:effectLst>
                <a:outerShdw dist="53966" dir="2700000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55d2"/>
                </a:solidFill>
                <a:effectLst>
                  <a:outerShdw dist="53966" dir="2700000" blurRad="0" rotWithShape="0">
                    <a:srgbClr val="000000"/>
                  </a:outerShdw>
                </a:effectLst>
                <a:latin typeface="Arial Black"/>
              </a:rPr>
              <a:t>a loving family, a happy and 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55d2"/>
              </a:solidFill>
              <a:effectLst>
                <a:outerShdw dist="53966" dir="2700000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rcRect l="2782" t="27395" r="2782" b="8570"/>
          <a:stretch/>
        </p:blipFill>
        <p:spPr>
          <a:xfrm>
            <a:off x="5638680" y="1978200"/>
            <a:ext cx="2819520" cy="2365200"/>
          </a:xfrm>
          <a:prstGeom prst="rect">
            <a:avLst/>
          </a:prstGeom>
          <a:ln w="38160">
            <a:solidFill>
              <a:srgbClr val="990033"/>
            </a:solidFill>
            <a:miter/>
          </a:ln>
        </p:spPr>
      </p:pic>
      <p:pic>
        <p:nvPicPr>
          <p:cNvPr id="98" name="" descr=""/>
          <p:cNvPicPr/>
          <p:nvPr/>
        </p:nvPicPr>
        <p:blipFill>
          <a:blip r:embed="rId3"/>
          <a:srcRect l="26989" t="0" r="0" b="7958"/>
          <a:stretch/>
        </p:blipFill>
        <p:spPr>
          <a:xfrm>
            <a:off x="4343400" y="3809880"/>
            <a:ext cx="2711520" cy="2333880"/>
          </a:xfrm>
          <a:prstGeom prst="rect">
            <a:avLst/>
          </a:prstGeom>
          <a:ln w="38160">
            <a:solidFill>
              <a:srgbClr val="0055d2"/>
            </a:solidFill>
            <a:miter/>
          </a:ln>
        </p:spPr>
      </p:pic>
      <p:sp>
        <p:nvSpPr>
          <p:cNvPr id="99" name=""/>
          <p:cNvSpPr/>
          <p:nvPr/>
        </p:nvSpPr>
        <p:spPr>
          <a:xfrm>
            <a:off x="4191120" y="3657600"/>
            <a:ext cx="3047760" cy="2666880"/>
          </a:xfrm>
          <a:prstGeom prst="rect">
            <a:avLst/>
          </a:prstGeom>
          <a:noFill/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33520" y="3733920"/>
            <a:ext cx="3429000" cy="23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55d2"/>
                </a:solidFill>
                <a:effectLst>
                  <a:outerShdw dist="53966" dir="2700000" blurRad="0" rotWithShape="0">
                    <a:srgbClr val="000000"/>
                  </a:outerShdw>
                </a:effectLst>
                <a:latin typeface="Arial Black"/>
              </a:rPr>
              <a:t>harmonious home life, 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55d2"/>
              </a:solidFill>
              <a:effectLst>
                <a:outerShdw dist="53966" dir="2700000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55d2"/>
                </a:solidFill>
                <a:effectLst>
                  <a:outerShdw dist="53966" dir="2700000" blurRad="0" rotWithShape="0">
                    <a:srgbClr val="000000"/>
                  </a:outerShdw>
                </a:effectLst>
                <a:latin typeface="Arial Black"/>
              </a:rPr>
              <a:t>true friends, 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55d2"/>
              </a:solidFill>
              <a:effectLst>
                <a:outerShdw dist="53966" dir="2700000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55d2"/>
                </a:solidFill>
                <a:effectLst>
                  <a:outerShdw dist="53966" dir="2700000" blurRad="0" rotWithShape="0">
                    <a:srgbClr val="000000"/>
                  </a:outerShdw>
                </a:effectLst>
                <a:latin typeface="Arial Black"/>
              </a:rPr>
              <a:t>peace of mind, 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55d2"/>
              </a:solidFill>
              <a:effectLst>
                <a:outerShdw dist="53966" dir="2700000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55d2"/>
                </a:solidFill>
                <a:effectLst>
                  <a:outerShdw dist="53966" dir="2700000" blurRad="0" rotWithShape="0">
                    <a:srgbClr val="000000"/>
                  </a:outerShdw>
                </a:effectLst>
                <a:latin typeface="Arial Black"/>
              </a:rPr>
              <a:t>and purpose and 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55d2"/>
              </a:solidFill>
              <a:effectLst>
                <a:outerShdw dist="53966" dir="2700000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55d2"/>
                </a:solidFill>
                <a:effectLst>
                  <a:outerShdw dist="53966" dir="2700000" blurRad="0" rotWithShape="0">
                    <a:srgbClr val="000000"/>
                  </a:outerShdw>
                </a:effectLst>
                <a:latin typeface="Arial Black"/>
              </a:rPr>
              <a:t>fulfillment in life.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55d2"/>
              </a:solidFill>
              <a:effectLst>
                <a:outerShdw dist="53966" dir="2700000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med">
    <p:comb dir="horz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0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1752480" y="1752480"/>
            <a:ext cx="5410440" cy="29718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304920" y="380880"/>
            <a:ext cx="8534160" cy="6172200"/>
          </a:xfrm>
          <a:prstGeom prst="rect">
            <a:avLst/>
          </a:prstGeom>
          <a:noFill/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752480" y="1752480"/>
            <a:ext cx="5410440" cy="2971800"/>
          </a:xfrm>
          <a:prstGeom prst="rect">
            <a:avLst/>
          </a:prstGeom>
          <a:noFill/>
          <a:ln w="28440">
            <a:solidFill>
              <a:srgbClr val="0055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990720" y="685800"/>
            <a:ext cx="716256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8ba7ff"/>
                    </a:gs>
                    <a:gs pos="100000">
                      <a:srgbClr val="0033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000000"/>
                  </a:outerShdw>
                </a:effectLst>
                <a:latin typeface="Arial Black"/>
              </a:rPr>
              <a:t>Be Thankful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8ba7ff"/>
                  </a:gs>
                  <a:gs pos="100000">
                    <a:srgbClr val="003399"/>
                  </a:gs>
                </a:gsLst>
                <a:lin ang="5400000"/>
              </a:gradFill>
              <a:effectLst>
                <a:outerShdw dist="53966" dir="2700000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5029200"/>
            <a:ext cx="76960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8ba7ff"/>
                    </a:gs>
                    <a:gs pos="100000">
                      <a:srgbClr val="0055d2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000000"/>
                  </a:outerShdw>
                </a:effectLst>
                <a:latin typeface="Arial Black"/>
              </a:rPr>
              <a:t>The Lord is a wise investor. 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8ba7ff"/>
                  </a:gs>
                  <a:gs pos="100000">
                    <a:srgbClr val="0055d2"/>
                  </a:gs>
                </a:gsLst>
                <a:lin ang="5400000"/>
              </a:gradFill>
              <a:effectLst>
                <a:outerShdw dist="53966" dir="2700000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8ba7ff"/>
                    </a:gs>
                    <a:gs pos="100000">
                      <a:srgbClr val="0055d2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000000"/>
                  </a:outerShdw>
                </a:effectLst>
                <a:latin typeface="Arial Black"/>
              </a:rPr>
              <a:t>He gives the most to those who are thankful 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8ba7ff"/>
                  </a:gs>
                  <a:gs pos="100000">
                    <a:srgbClr val="0055d2"/>
                  </a:gs>
                </a:gsLst>
                <a:lin ang="5400000"/>
              </a:gradFill>
              <a:effectLst>
                <a:outerShdw dist="53966" dir="2700000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8ba7ff"/>
                    </a:gs>
                    <a:gs pos="100000">
                      <a:srgbClr val="0055d2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000000"/>
                  </a:outerShdw>
                </a:effectLst>
                <a:latin typeface="Arial Black"/>
              </a:rPr>
              <a:t>for the blessings He's already given them. 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8ba7ff"/>
                  </a:gs>
                  <a:gs pos="100000">
                    <a:srgbClr val="0055d2"/>
                  </a:gs>
                </a:gsLst>
                <a:lin ang="5400000"/>
              </a:gradFill>
              <a:effectLst>
                <a:outerShdw dist="53966" dir="2700000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3"/>
          <a:srcRect l="0" t="33873" r="0" b="0"/>
          <a:stretch/>
        </p:blipFill>
        <p:spPr>
          <a:xfrm>
            <a:off x="1981080" y="1905120"/>
            <a:ext cx="4953240" cy="2666880"/>
          </a:xfrm>
          <a:prstGeom prst="rect">
            <a:avLst/>
          </a:prstGeom>
          <a:ln w="38160">
            <a:solidFill>
              <a:srgbClr val="990033"/>
            </a:solidFill>
            <a:miter/>
          </a:ln>
        </p:spPr>
      </p:pic>
    </p:spTree>
  </p:cSld>
  <p:transition spd="med">
    <p:comb dir="horz"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2000"/>
                            </p:stCondLst>
                            <p:childTnLst>
                              <p:par>
                                <p:cTn id="2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0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10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7T16:23:58Z</dcterms:created>
  <dc:creator>Martha</dc:creator>
  <dc:description>Copyright © 2008 Tommy's Window. 
All Rights Reserved
 DO NOT modify.</dc:description>
  <dc:language>en-US</dc:language>
  <cp:lastModifiedBy>Martha</cp:lastModifiedBy>
  <dcterms:modified xsi:type="dcterms:W3CDTF">2008-10-25T16:54:18Z</dcterms:modified>
  <cp:revision>421</cp:revision>
  <dc:subject/>
  <dc:title>God's plan for financial health</dc:title>
</cp:coreProperties>
</file>