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F0E9-8BA2-4A63-8F75-2C5C6572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5658-8A5D-4C3C-AB04-DE23B87E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180-EBE9-45A1-AE56-7733E550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812-E3AD-46BC-A3FB-76DB4C5E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2695-3B64-4206-8180-73991D6F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314-90BA-43B1-A6F5-4A5B2FA4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86E-AD76-4690-944E-A60ECACB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07F-888E-48FE-A926-6AAD35B8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1E0-C86F-4A4E-9101-5F6C4B03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60E-82F3-4096-89B1-DEBB61CE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3A17-168B-485A-8F85-44858757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3DA-A3F7-4C83-9640-AEFD490C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F1C1-CF62-4AF6-AD6F-B325E2C45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Placeholder 10" descr="1115.jpg"/>
          <p:cNvPicPr/>
          <p:nvPr/>
        </p:nvPicPr>
        <p:blipFill>
          <a:blip r:embed="rId1"/>
          <a:srcRect l="2398" t="0" r="239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85840" y="214200"/>
            <a:ext cx="54864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auphin"/>
              </a:rPr>
              <a:t>Good Khar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auphin"/>
              </a:rPr>
              <a:t>This is a nice reading, but short .  Enjoy!  This is what the Dalai Lama  has to say for 2009.  All is takes is a few seconds to read and think over.  Do not keep this message.  The mantra must leave your hands within 96 hours.  You will get a very pleasant surprise.  This is true for all ~ even if you are not superstitious ~ of whatever religious belief……………Faith…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Enya - Boadice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Placeholder 6" descr="tigercubs.jpg"/>
          <p:cNvPicPr/>
          <p:nvPr/>
        </p:nvPicPr>
        <p:blipFill>
          <a:blip r:embed="rId1"/>
          <a:srcRect l="0" t="239" r="0" b="2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28840" y="213840"/>
            <a:ext cx="292284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Open your arms to change, but don’t give up your val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Placeholder 6" descr="124.jpg"/>
          <p:cNvPicPr/>
          <p:nvPr/>
        </p:nvPicPr>
        <p:blipFill>
          <a:blip r:embed="rId1"/>
          <a:srcRect l="5417" t="0" r="541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85480" y="3785760"/>
            <a:ext cx="828684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emember that silence is sometimes the best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Placeholder 4" descr="orca9.jpg"/>
          <p:cNvPicPr/>
          <p:nvPr/>
        </p:nvPicPr>
        <p:blipFill>
          <a:blip r:embed="rId1"/>
          <a:srcRect l="0" t="11520" r="0" b="115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32860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Live a good, honorable life.  Then when you get older and think back, you’ll be able to enjoy it a second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Placeholder 4" descr="871.jpg"/>
          <p:cNvPicPr/>
          <p:nvPr/>
        </p:nvPicPr>
        <p:blipFill>
          <a:blip r:embed="rId1"/>
          <a:srcRect l="0" t="3126" r="0" b="31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85840" y="500040"/>
            <a:ext cx="32083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A loving atmosphere in your home  is the foundation for your lif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Placeholder 8" descr="339.jpg"/>
          <p:cNvPicPr/>
          <p:nvPr/>
        </p:nvPicPr>
        <p:blipFill>
          <a:blip r:embed="rId1"/>
          <a:srcRect l="5309" t="0" r="5309" b="0"/>
          <a:stretch/>
        </p:blipFill>
        <p:spPr>
          <a:xfrm>
            <a:off x="0" y="-30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071680" y="499680"/>
            <a:ext cx="34225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In disagreements with loved ones, deal only with the current situation.  Don’t bring up the pa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Placeholder 6" descr="224.jpg"/>
          <p:cNvPicPr/>
          <p:nvPr/>
        </p:nvPicPr>
        <p:blipFill>
          <a:blip r:embed="rId1"/>
          <a:srcRect l="0" t="19063" r="0" b="190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285480"/>
            <a:ext cx="277956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Share your knowledge.  It is a way to achieve immorta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Placeholder 6" descr="611.jpg"/>
          <p:cNvPicPr/>
          <p:nvPr/>
        </p:nvPicPr>
        <p:blipFill>
          <a:blip r:embed="rId1"/>
          <a:srcRect l="5779" t="0" r="577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71760" y="20001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Be gentle with the Ear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Placeholder 6" descr="wier-HDR-400.jpg"/>
          <p:cNvPicPr/>
          <p:nvPr/>
        </p:nvPicPr>
        <p:blipFill>
          <a:blip r:embed="rId1"/>
          <a:srcRect l="0" t="3130" r="0" b="31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14800" y="58579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Once a year, go some place you’ve never been befo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Placeholder 4" descr="nature_scenery.jpg"/>
          <p:cNvPicPr/>
          <p:nvPr/>
        </p:nvPicPr>
        <p:blipFill>
          <a:blip r:embed="rId1"/>
          <a:srcRect l="5601" t="0" r="56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714680" y="4785840"/>
            <a:ext cx="5486400" cy="18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Remember the best relationship is  one in which your love for each other exceeds your need for each 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Placeholder 10" descr="455.jpg"/>
          <p:cNvPicPr/>
          <p:nvPr/>
        </p:nvPicPr>
        <p:blipFill>
          <a:blip r:embed="rId1"/>
          <a:srcRect l="0" t="3125" r="0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28760" y="1928520"/>
            <a:ext cx="335736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Judge your success by what you had to give up in order to get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Placeholder 6" descr="Gorilla.jpg"/>
          <p:cNvPicPr/>
          <p:nvPr/>
        </p:nvPicPr>
        <p:blipFill>
          <a:blip r:embed="rId1"/>
          <a:srcRect l="3064" t="0" r="306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85840" y="285480"/>
            <a:ext cx="400068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Take into account that great love and great achievements involve great ris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Placeholder 6" descr="1407.jpg"/>
          <p:cNvPicPr/>
          <p:nvPr/>
        </p:nvPicPr>
        <p:blipFill>
          <a:blip r:embed="rId1"/>
          <a:srcRect l="5518" t="0" r="551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643720" y="285480"/>
            <a:ext cx="32083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Approach love and cooking with reckless aband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Placeholder 4" descr="777.jpg"/>
          <p:cNvPicPr/>
          <p:nvPr/>
        </p:nvPicPr>
        <p:blipFill>
          <a:blip r:embed="rId1"/>
          <a:srcRect l="5523" t="0" r="5523" b="0"/>
          <a:stretch/>
        </p:blipFill>
        <p:spPr>
          <a:xfrm>
            <a:off x="0" y="-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13840" y="785880"/>
            <a:ext cx="85726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Forward this mantra to at least 5 people and your life will impro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0 – 4 people: Your life will improve slightly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5 – 9 people: Your life will improve to your li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10 – 14 people: Your will have at least 5 wonderful surprises in the next 3 week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15 people &amp; over: Your life will improve drastically and everything you ever dreamed of will begin to take shap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Do not keep this message.  This mantra must leave your hands within 96 hou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You will get a very pleasant surpri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Placeholder 12" descr="11.jpg"/>
          <p:cNvPicPr/>
          <p:nvPr/>
        </p:nvPicPr>
        <p:blipFill>
          <a:blip r:embed="rId1"/>
          <a:srcRect l="5425" t="0" r="542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43840" y="213840"/>
            <a:ext cx="20001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When you los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don’t lose the lesson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Placeholder 10" descr="pretty pic 28.jpg"/>
          <p:cNvPicPr/>
          <p:nvPr/>
        </p:nvPicPr>
        <p:blipFill>
          <a:blip r:embed="rId1"/>
          <a:srcRect l="7172" t="0" r="71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56800" y="3786120"/>
            <a:ext cx="50720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Follow the three R’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espect for Self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espect for Other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esponsibility for all your 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Placeholder 4" descr="pretty pic 25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81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00360" y="3857760"/>
            <a:ext cx="449388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emember that  not getting what you want  is sometimes a wonderful stroke of lu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Placeholder 10" descr="143.jpg"/>
          <p:cNvPicPr/>
          <p:nvPr/>
        </p:nvPicPr>
        <p:blipFill>
          <a:blip r:embed="rId1"/>
          <a:srcRect l="0" t="3124" r="0" b="31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000760" y="428760"/>
            <a:ext cx="35654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1de"/>
                </a:solidFill>
                <a:latin typeface="Dauphin"/>
              </a:rPr>
              <a:t>Learn the rules so you know how to break them proper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Placeholder 8" descr="pretty pic 26.jpg"/>
          <p:cNvPicPr/>
          <p:nvPr/>
        </p:nvPicPr>
        <p:blipFill>
          <a:blip r:embed="rId1"/>
          <a:srcRect l="0" t="78" r="0" b="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4200" y="2500200"/>
            <a:ext cx="48578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Don’t let a little dispute injure a great relation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Placeholder 16" descr="1.jpg"/>
          <p:cNvPicPr/>
          <p:nvPr/>
        </p:nvPicPr>
        <p:blipFill>
          <a:blip r:embed="rId1"/>
          <a:srcRect l="5554" t="0" r="555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29040" y="214200"/>
            <a:ext cx="492912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Dauphin"/>
              </a:rPr>
              <a:t>When you realize you’ve made a mistake, take immediate steps to correct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Placeholder 6" descr="32.jpg"/>
          <p:cNvPicPr/>
          <p:nvPr/>
        </p:nvPicPr>
        <p:blipFill>
          <a:blip r:embed="rId1"/>
          <a:srcRect l="5625" t="0" r="562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00080" y="2499840"/>
            <a:ext cx="320832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Spend some time alone every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05:11:11Z</dcterms:created>
  <dc:creator>Mary-Ann</dc:creator>
  <dc:description/>
  <dc:language>en-US</dc:language>
  <cp:lastModifiedBy>Janine Oughton</cp:lastModifiedBy>
  <dcterms:modified xsi:type="dcterms:W3CDTF">2009-01-11T22:52:47Z</dcterms:modified>
  <cp:revision>14</cp:revision>
  <dc:subject/>
  <dc:title>Slide 1</dc:title>
</cp:coreProperties>
</file>