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Holocaust%20musica%20%231.wav" ContentType="audio/x-wav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AC7C-961D-41FE-BDFF-068288B6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C2DE-DEFD-43BF-A04C-E9D964DB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2304-BE0E-4894-BE5F-BB4C3F928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8C1B-ED9C-4A9A-A78B-C3560EA5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8AF8-C6F1-4B2F-9086-9DA2D0D8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673B-0424-4B41-BD00-E44D1519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791F-4BF6-49F5-82D3-066AF8C2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AA72-2168-4C16-864B-90699239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EC51-D71F-43EA-94E9-BC304DE1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1555-CB20-4F44-B4D4-74C446AE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BBB3-89F3-429A-9941-1493D571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122D-2FF2-4801-9AB1-247F40B1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4ACE-DAC9-4B86-A2EE-E0330B146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Holocaust%20musica%20%231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audio" Target="../media/Holocaust%20musica%20%231.wav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143000"/>
            <a:ext cx="8305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LOCAUST MEMOR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AMI BEACH, FLOR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4114800"/>
            <a:ext cx="7391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OTO BY RAFAEL (TATO)  GONZALE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DEO BY  AMALIA AGRAMO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6120" y="317520"/>
            <a:ext cx="8589960" cy="623088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28760" y="469800"/>
            <a:ext cx="8589960" cy="6230880"/>
          </a:xfrm>
          <a:prstGeom prst="rect">
            <a:avLst/>
          </a:prstGeom>
          <a:ln w="9360">
            <a:solidFill>
              <a:srgbClr val="ff5050"/>
            </a:solidFill>
            <a:miter/>
          </a:ln>
        </p:spPr>
      </p:pic>
    </p:spTree>
  </p:cSld>
  <p:transition spd="slow" advTm="7000">
    <p:random/>
    <p:sndAc>
      <p:stSnd>
        <p:snd r:embed="rId3" name="Holocaust%20musica%20%23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  <p:sndAc>
      <p:stSnd>
        <p:snd r:embed="rId3" name="Holocaust%20musica%20%231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0"/>
            <a:ext cx="4572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17:51:21Z</dcterms:created>
  <dc:creator>user</dc:creator>
  <dc:description/>
  <dc:language>en-US</dc:language>
  <cp:lastModifiedBy>aa</cp:lastModifiedBy>
  <dcterms:modified xsi:type="dcterms:W3CDTF">2007-12-12T02:27:40Z</dcterms:modified>
  <cp:revision>5</cp:revision>
  <dc:subject/>
  <dc:title>HOLLOCAUST MEMORIAL MIAMI BEACH, FLORIDA, USA</dc:title>
</cp:coreProperties>
</file>