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04%20Meditation%20from%20Thais.wav" ContentType="audio/x-wav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0.gif" ContentType="image/gif"/>
  <Override PartName="/ppt/media/image23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228D-0C49-4A6B-955A-6ACE79DDD4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8008-BF4B-4F85-B6A8-6EB9A433AA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D3D1-2324-4E57-BC8F-813B53592D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B4B9-9042-4BBA-B732-276631474E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BCD4-6617-4CF9-A1E0-598338BD35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D615-490E-4292-B113-73B5292E2B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0B3E-EB9D-47DB-BEFF-03445044B3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4108-0F1B-4B92-A203-BB1031FBF6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8AD4-0649-4EF1-B5B1-19A04BEEF0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A560-C55D-4F5E-AF90-4A2CE6C30D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8E2E-CA8E-4D93-A32F-098D30CC1A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BE76-10DE-456F-A08D-4D6CE86567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FCE8-5529-47C6-84F9-B6269B7917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5BDF-1E46-45AF-858B-5FE45A4D40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F0EF-C16F-4803-A5A7-009442A31A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12BD-C89A-4FF5-B2FF-E8D66A8252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BF38-596A-4D4C-95DF-4DB0089157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958C-E1FD-4EE1-806B-DA1C11F1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F95-67E9-4D72-BB94-A2C76957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93D-6649-475A-85AA-7A234597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240-273C-4C68-9968-E624EF24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D377-9A10-4D44-B066-C9B819F9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327-4D35-4084-8C39-E95BBF0B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FA3-7C79-4911-AA0D-26A2CF81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BAB-AB5D-416D-9378-6B461AE8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2A7-9A8F-40D1-8DDD-BD897217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7B5-DA1B-4171-9FC9-3FB0687A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A112-30FD-4D0D-8E85-97A98EC3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9C8-772E-4B50-A02D-4542860B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4E2F-19DA-4E7D-BD53-468076E8C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04%20Meditation%20from%20Thai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0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3" descr=""/>
          <p:cNvPicPr/>
          <p:nvPr/>
        </p:nvPicPr>
        <p:blipFill>
          <a:blip r:embed="rId2"/>
          <a:stretch/>
        </p:blipFill>
        <p:spPr>
          <a:xfrm>
            <a:off x="1279440" y="281160"/>
            <a:ext cx="7297920" cy="148104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5" descr=""/>
          <p:cNvPicPr/>
          <p:nvPr/>
        </p:nvPicPr>
        <p:blipFill>
          <a:blip r:embed="rId3"/>
          <a:stretch/>
        </p:blipFill>
        <p:spPr>
          <a:xfrm>
            <a:off x="146160" y="2146320"/>
            <a:ext cx="3340080" cy="318132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6" descr=""/>
          <p:cNvPicPr/>
          <p:nvPr/>
        </p:nvPicPr>
        <p:blipFill>
          <a:blip r:embed="rId4"/>
          <a:stretch/>
        </p:blipFill>
        <p:spPr>
          <a:xfrm>
            <a:off x="5645160" y="2077920"/>
            <a:ext cx="3327480" cy="317664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 thruBlk="true"/>
    <p:sndAc>
      <p:stSnd>
        <p:snd r:embed="rId5" name="04%20Meditation%20from%20Thai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7"/>
          <p:cNvSpPr/>
          <p:nvPr/>
        </p:nvSpPr>
        <p:spPr>
          <a:xfrm rot="20992200">
            <a:off x="2813040" y="15840"/>
            <a:ext cx="450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Press 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to consult with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His S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piece.gif"/>
          <p:cNvPicPr/>
          <p:nvPr/>
        </p:nvPicPr>
        <p:blipFill>
          <a:blip r:embed="rId2"/>
          <a:stretch/>
        </p:blipFill>
        <p:spPr>
          <a:xfrm>
            <a:off x="2852640" y="5095800"/>
            <a:ext cx="5297760" cy="1981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http://www.things-to-say.com/humor-clean/humor-graphics/HolyVoiceMail/6.gif"/>
          <p:cNvPicPr/>
          <p:nvPr/>
        </p:nvPicPr>
        <p:blipFill>
          <a:blip r:embed="rId3"/>
          <a:stretch/>
        </p:blipFill>
        <p:spPr>
          <a:xfrm>
            <a:off x="4206960" y="1639800"/>
            <a:ext cx="1157040" cy="865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ttp://www.things-to-say.com/humor-clean/humor-graphics/HolyVoiceMail/pound.gif"/>
          <p:cNvPicPr/>
          <p:nvPr/>
        </p:nvPicPr>
        <p:blipFill>
          <a:blip r:embed="rId2"/>
          <a:stretch/>
        </p:blipFill>
        <p:spPr>
          <a:xfrm>
            <a:off x="3706920" y="2066760"/>
            <a:ext cx="1084320" cy="865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 rot="20992200">
            <a:off x="1654920" y="353880"/>
            <a:ext cx="5262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Press the pound ke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if you’re getting frantic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piece.gif"/>
          <p:cNvPicPr/>
          <p:nvPr/>
        </p:nvPicPr>
        <p:blipFill>
          <a:blip r:embed="rId3"/>
          <a:stretch/>
        </p:blipFill>
        <p:spPr>
          <a:xfrm>
            <a:off x="2852640" y="5095800"/>
            <a:ext cx="5297760" cy="1981440"/>
          </a:xfrm>
          <a:prstGeom prst="rect">
            <a:avLst/>
          </a:prstGeom>
          <a:ln w="0">
            <a:noFill/>
          </a:ln>
        </p:spPr>
      </p:pic>
      <p:sp>
        <p:nvSpPr>
          <p:cNvPr id="75" name="TextBox 8"/>
          <p:cNvSpPr/>
          <p:nvPr/>
        </p:nvSpPr>
        <p:spPr>
          <a:xfrm rot="20992200">
            <a:off x="2352240" y="2725560"/>
            <a:ext cx="5260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and are dying to reach ANYON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http://www.things-to-say.com/humor-clean/humor-graphics/HolyVoiceMail/0.gif"/>
          <p:cNvPicPr/>
          <p:nvPr/>
        </p:nvPicPr>
        <p:blipFill>
          <a:blip r:embed="rId2"/>
          <a:stretch/>
        </p:blipFill>
        <p:spPr>
          <a:xfrm rot="20805000">
            <a:off x="3714840" y="2071440"/>
            <a:ext cx="928440" cy="85716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 rot="20992200">
            <a:off x="2019240" y="-56520"/>
            <a:ext cx="5542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Press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o dia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Operator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if it’s busy don’t panic or fus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piece.gif"/>
          <p:cNvPicPr/>
          <p:nvPr/>
        </p:nvPicPr>
        <p:blipFill>
          <a:blip r:embed="rId3"/>
          <a:stretch/>
        </p:blipFill>
        <p:spPr>
          <a:xfrm>
            <a:off x="2852640" y="5095800"/>
            <a:ext cx="5297760" cy="1981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7"/>
          <p:cNvSpPr/>
          <p:nvPr/>
        </p:nvSpPr>
        <p:spPr>
          <a:xfrm rot="20992200">
            <a:off x="2451240" y="111240"/>
            <a:ext cx="5016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Just pray and re-pray a bit later, Your prayer is important to 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piece.gif"/>
          <p:cNvPicPr/>
          <p:nvPr/>
        </p:nvPicPr>
        <p:blipFill>
          <a:blip r:embed="rId2"/>
          <a:stretch/>
        </p:blipFill>
        <p:spPr>
          <a:xfrm>
            <a:off x="2852640" y="5095800"/>
            <a:ext cx="5297760" cy="19814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extBox 1" descr=""/>
          <p:cNvPicPr/>
          <p:nvPr/>
        </p:nvPicPr>
        <p:blipFill>
          <a:blip r:embed="rId2"/>
          <a:stretch/>
        </p:blipFill>
        <p:spPr>
          <a:xfrm>
            <a:off x="3780000" y="407880"/>
            <a:ext cx="5082840" cy="624204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 thruBlk="true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Box 2" descr=""/>
          <p:cNvPicPr/>
          <p:nvPr/>
        </p:nvPicPr>
        <p:blipFill>
          <a:blip r:embed="rId2"/>
          <a:stretch/>
        </p:blipFill>
        <p:spPr>
          <a:xfrm>
            <a:off x="3419640" y="414360"/>
            <a:ext cx="5657760" cy="68086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extBox 2" descr=""/>
          <p:cNvPicPr/>
          <p:nvPr/>
        </p:nvPicPr>
        <p:blipFill>
          <a:blip r:embed="rId2"/>
          <a:stretch/>
        </p:blipFill>
        <p:spPr>
          <a:xfrm>
            <a:off x="3419640" y="414360"/>
            <a:ext cx="5657760" cy="6808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xiby-logo.gif"/>
          <p:cNvPicPr/>
          <p:nvPr/>
        </p:nvPicPr>
        <p:blipFill>
          <a:blip r:embed="rId3"/>
          <a:stretch/>
        </p:blipFill>
        <p:spPr>
          <a:xfrm>
            <a:off x="0" y="0"/>
            <a:ext cx="1608120" cy="1119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1" descr=""/>
          <p:cNvPicPr/>
          <p:nvPr/>
        </p:nvPicPr>
        <p:blipFill>
          <a:blip r:embed="rId2"/>
          <a:stretch/>
        </p:blipFill>
        <p:spPr>
          <a:xfrm>
            <a:off x="3925800" y="596880"/>
            <a:ext cx="4864320" cy="56088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1" descr=""/>
          <p:cNvPicPr/>
          <p:nvPr/>
        </p:nvPicPr>
        <p:blipFill>
          <a:blip r:embed="rId2"/>
          <a:stretch/>
        </p:blipFill>
        <p:spPr>
          <a:xfrm>
            <a:off x="3925800" y="762120"/>
            <a:ext cx="4864320" cy="6102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extBox 1" descr=""/>
          <p:cNvPicPr/>
          <p:nvPr/>
        </p:nvPicPr>
        <p:blipFill>
          <a:blip r:embed="rId2"/>
          <a:stretch/>
        </p:blipFill>
        <p:spPr>
          <a:xfrm>
            <a:off x="3925800" y="633240"/>
            <a:ext cx="4864320" cy="6091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7"/>
          <p:cNvSpPr/>
          <p:nvPr/>
        </p:nvSpPr>
        <p:spPr>
          <a:xfrm rot="20992200">
            <a:off x="2693160" y="8280"/>
            <a:ext cx="4752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Press 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if you'r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seek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forgiveness,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piece.gif"/>
          <p:cNvPicPr/>
          <p:nvPr/>
        </p:nvPicPr>
        <p:blipFill>
          <a:blip r:embed="rId2"/>
          <a:stretch/>
        </p:blipFill>
        <p:spPr>
          <a:xfrm>
            <a:off x="2852640" y="5095800"/>
            <a:ext cx="5297760" cy="198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://www.things-to-say.com/humor-clean/humor-graphics/HolyVoiceMail/1.gif"/>
          <p:cNvPicPr/>
          <p:nvPr/>
        </p:nvPicPr>
        <p:blipFill>
          <a:blip r:embed="rId3"/>
          <a:stretch/>
        </p:blipFill>
        <p:spPr>
          <a:xfrm>
            <a:off x="4138560" y="1706400"/>
            <a:ext cx="939960" cy="798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7"/>
          <p:cNvSpPr/>
          <p:nvPr/>
        </p:nvSpPr>
        <p:spPr>
          <a:xfrm rot="20992200">
            <a:off x="3004200" y="71640"/>
            <a:ext cx="38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Press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if you'r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offering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thanks,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://www.things-to-say.com/humor-clean/humor-graphics/HolyVoiceMail/2.gif"/>
          <p:cNvPicPr/>
          <p:nvPr/>
        </p:nvPicPr>
        <p:blipFill>
          <a:blip r:embed="rId2"/>
          <a:stretch/>
        </p:blipFill>
        <p:spPr>
          <a:xfrm>
            <a:off x="4138560" y="1779480"/>
            <a:ext cx="798480" cy="652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piece.gif"/>
          <p:cNvPicPr/>
          <p:nvPr/>
        </p:nvPicPr>
        <p:blipFill>
          <a:blip r:embed="rId3"/>
          <a:stretch/>
        </p:blipFill>
        <p:spPr>
          <a:xfrm>
            <a:off x="2852640" y="5095800"/>
            <a:ext cx="5297760" cy="1981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7"/>
          <p:cNvSpPr/>
          <p:nvPr/>
        </p:nvSpPr>
        <p:spPr>
          <a:xfrm rot="20992200">
            <a:off x="2763000" y="9720"/>
            <a:ext cx="4932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Press 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to do grip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&amp; complaining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piece.gif"/>
          <p:cNvPicPr/>
          <p:nvPr/>
        </p:nvPicPr>
        <p:blipFill>
          <a:blip r:embed="rId2"/>
          <a:stretch/>
        </p:blipFill>
        <p:spPr>
          <a:xfrm>
            <a:off x="2852640" y="5095800"/>
            <a:ext cx="5297760" cy="198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www.things-to-say.com/humor-clean/humor-graphics/HolyVoiceMail/3.gif"/>
          <p:cNvPicPr/>
          <p:nvPr/>
        </p:nvPicPr>
        <p:blipFill>
          <a:blip r:embed="rId3"/>
          <a:stretch/>
        </p:blipFill>
        <p:spPr>
          <a:xfrm>
            <a:off x="4065480" y="1779480"/>
            <a:ext cx="982800" cy="7984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7"/>
          <p:cNvSpPr/>
          <p:nvPr/>
        </p:nvSpPr>
        <p:spPr>
          <a:xfrm rot="20992200">
            <a:off x="2814840" y="41760"/>
            <a:ext cx="422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Press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for agnostics &amp; cran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piece.gif"/>
          <p:cNvPicPr/>
          <p:nvPr/>
        </p:nvPicPr>
        <p:blipFill>
          <a:blip r:embed="rId2"/>
          <a:stretch/>
        </p:blipFill>
        <p:spPr>
          <a:xfrm>
            <a:off x="2852640" y="5095800"/>
            <a:ext cx="5297760" cy="1981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ttp://www.things-to-say.com/humor-clean/humor-graphics/HolyVoiceMail/4.gif"/>
          <p:cNvPicPr/>
          <p:nvPr/>
        </p:nvPicPr>
        <p:blipFill>
          <a:blip r:embed="rId3"/>
          <a:stretch/>
        </p:blipFill>
        <p:spPr>
          <a:xfrm>
            <a:off x="4214880" y="1785960"/>
            <a:ext cx="900000" cy="785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7"/>
          <p:cNvSpPr/>
          <p:nvPr/>
        </p:nvSpPr>
        <p:spPr>
          <a:xfrm rot="20992200">
            <a:off x="2813040" y="15840"/>
            <a:ext cx="450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Press 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if you are wanting Our Fath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piece.gif"/>
          <p:cNvPicPr/>
          <p:nvPr/>
        </p:nvPicPr>
        <p:blipFill>
          <a:blip r:embed="rId2"/>
          <a:stretch/>
        </p:blipFill>
        <p:spPr>
          <a:xfrm>
            <a:off x="2852640" y="5095800"/>
            <a:ext cx="5297760" cy="1981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www.things-to-say.com/humor-clean/humor-graphics/HolyVoiceMail/5.gif"/>
          <p:cNvPicPr/>
          <p:nvPr/>
        </p:nvPicPr>
        <p:blipFill>
          <a:blip r:embed="rId3"/>
          <a:stretch/>
        </p:blipFill>
        <p:spPr>
          <a:xfrm>
            <a:off x="4280040" y="1639800"/>
            <a:ext cx="1083960" cy="792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7:32:20Z</dcterms:created>
  <dc:creator>XIBY</dc:creator>
  <dc:description/>
  <dc:language>en-US</dc:language>
  <cp:lastModifiedBy>XIBY</cp:lastModifiedBy>
  <dcterms:modified xsi:type="dcterms:W3CDTF">2008-04-24T17:40:27Z</dcterms:modified>
  <cp:revision>1</cp:revision>
  <dc:subject/>
  <dc:title>Slide 1</dc:title>
</cp:coreProperties>
</file>