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C432-DC11-4893-9645-5B53106E42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0475-E2B9-427B-9551-1C11B8FEEB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200-0F55-4136-929E-793B4ABB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7C9-B9B0-4D61-836B-9F614646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2EE-F0A2-4071-BC0C-709353F4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BDE-AC53-40E7-904B-52099C9D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156-8111-4AB9-A74F-66DDA6FC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912-855D-4B52-B9E9-219D1882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E46-E91A-40B6-A50F-02093A37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AE54-5A01-4CE3-8177-27138D12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548-AEA1-4525-BD28-6AC4D7AB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457-146E-4EAE-92A8-E1DC6EC2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64F-CC34-4CF0-97D7-427DC5CE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888-D0A2-41A2-BAC6-EC6C0C52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E924-D1FD-4029-83B5-FE32BC10183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hyperlink" Target="http://ppsmania.net/" TargetMode="External"/><Relationship Id="rId4" Type="http://schemas.openxmlformats.org/officeDocument/2006/relationships/hyperlink" Target="http://ppsmania.net/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ppsmania.net/" TargetMode="External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5803929-lg"/>
          <p:cNvPicPr/>
          <p:nvPr/>
        </p:nvPicPr>
        <p:blipFill>
          <a:blip r:embed="rId1"/>
          <a:stretch/>
        </p:blipFill>
        <p:spPr>
          <a:xfrm>
            <a:off x="582480" y="0"/>
            <a:ext cx="44942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5724360" y="2852640"/>
            <a:ext cx="341964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be0e3"/>
                </a:solidFill>
                <a:latin typeface="Bradley Hand ITC"/>
              </a:rPr>
              <a:t>Demain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be0e3"/>
                </a:solidFill>
                <a:latin typeface="Bradley Hand ITC"/>
              </a:rPr>
              <a:t>je  ne  serais  plus  l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0" t="2367" r="0" b="3112"/>
          <a:stretch/>
        </p:blipFill>
        <p:spPr>
          <a:xfrm>
            <a:off x="395280" y="942840"/>
            <a:ext cx="8496360" cy="5438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260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d3befa"/>
                </a:solidFill>
                <a:latin typeface="Bradley Hand ITC"/>
              </a:rPr>
              <a:t>Demain,  je  ne  serais  plus  l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0" y="260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9dcff"/>
                </a:solidFill>
                <a:latin typeface="Bradley Hand ITC"/>
              </a:rPr>
              <a:t>Alors  je  cours,  je  saute,  et  je  jo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42-19166343"/>
          <p:cNvPicPr/>
          <p:nvPr/>
        </p:nvPicPr>
        <p:blipFill>
          <a:blip r:embed="rId1"/>
          <a:stretch/>
        </p:blipFill>
        <p:spPr>
          <a:xfrm>
            <a:off x="682560" y="963720"/>
            <a:ext cx="7777080" cy="541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3333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Bradley Hand ITC"/>
              </a:rPr>
              <a:t>Même  si  je sens  que  cette  joie  me  laisse  un  arrière  goû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6091650-md"/>
          <p:cNvPicPr/>
          <p:nvPr/>
        </p:nvPicPr>
        <p:blipFill>
          <a:blip r:embed="rId1"/>
          <a:stretch/>
        </p:blipFill>
        <p:spPr>
          <a:xfrm>
            <a:off x="611280" y="1197000"/>
            <a:ext cx="806616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6380336-lg"/>
          <p:cNvPicPr/>
          <p:nvPr/>
        </p:nvPicPr>
        <p:blipFill>
          <a:blip r:embed="rId1"/>
          <a:stretch/>
        </p:blipFill>
        <p:spPr>
          <a:xfrm>
            <a:off x="142920" y="0"/>
            <a:ext cx="56991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5964120" y="2924280"/>
            <a:ext cx="31798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be0e3"/>
                </a:solidFill>
                <a:latin typeface="Bradley Hand ITC"/>
              </a:rPr>
              <a:t>Demain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be0e3"/>
                </a:solidFill>
                <a:latin typeface="Bradley Hand ITC"/>
              </a:rPr>
              <a:t>Je  ne  serais  plus   l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333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d3befa"/>
                </a:solidFill>
                <a:latin typeface="Bradley Hand ITC"/>
              </a:rPr>
              <a:t>Alors  je  donne  tout  mon  amour  à  mes  pet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42-18537699"/>
          <p:cNvPicPr/>
          <p:nvPr/>
        </p:nvPicPr>
        <p:blipFill>
          <a:blip r:embed="rId1"/>
          <a:stretch/>
        </p:blipFill>
        <p:spPr>
          <a:xfrm>
            <a:off x="1116000" y="1052640"/>
            <a:ext cx="6912000" cy="5364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42-18860986"/>
          <p:cNvPicPr/>
          <p:nvPr/>
        </p:nvPicPr>
        <p:blipFill>
          <a:blip r:embed="rId1"/>
          <a:stretch/>
        </p:blipFill>
        <p:spPr>
          <a:xfrm>
            <a:off x="3206880" y="0"/>
            <a:ext cx="53258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82440" y="2276640"/>
            <a:ext cx="313236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9dcff"/>
                </a:solidFill>
                <a:latin typeface="Bradley Hand ITC"/>
              </a:rPr>
              <a:t>Même  s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9dcff"/>
                </a:solidFill>
                <a:latin typeface="Bradley Hand ITC"/>
              </a:rPr>
              <a:t>je  ne  trouve  plu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9dcff"/>
                </a:solidFill>
                <a:latin typeface="Bradley Hand ITC"/>
              </a:rPr>
              <a:t>de  nourriture  p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9dcff"/>
                </a:solidFill>
                <a:latin typeface="Bradley Hand ITC"/>
              </a:rPr>
              <a:t>assurer  notre  surv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1890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Bradley Hand ITC"/>
              </a:rPr>
              <a:t>Demain,  je  ne  serais  plus  l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137748-md"/>
          <p:cNvPicPr/>
          <p:nvPr/>
        </p:nvPicPr>
        <p:blipFill>
          <a:blip r:embed="rId1"/>
          <a:stretch/>
        </p:blipFill>
        <p:spPr>
          <a:xfrm>
            <a:off x="755640" y="890640"/>
            <a:ext cx="7686720" cy="5491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4740819-lg"/>
          <p:cNvPicPr/>
          <p:nvPr/>
        </p:nvPicPr>
        <p:blipFill>
          <a:blip r:embed="rId1"/>
          <a:stretch/>
        </p:blipFill>
        <p:spPr>
          <a:xfrm>
            <a:off x="285840" y="0"/>
            <a:ext cx="5256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5751360" y="2637000"/>
            <a:ext cx="339264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be0e3"/>
                </a:solidFill>
                <a:latin typeface="Bradley Hand ITC"/>
              </a:rPr>
              <a:t>Alor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be0e3"/>
                </a:solidFill>
                <a:latin typeface="Bradley Hand ITC"/>
              </a:rPr>
              <a:t>Je  continue  à  viv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be0e3"/>
                </a:solidFill>
                <a:latin typeface="Bradley Hand ITC"/>
              </a:rPr>
              <a:t>et  à  espér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0" y="333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d3befa"/>
                </a:solidFill>
                <a:latin typeface="Bradley Hand ITC"/>
              </a:rPr>
              <a:t>Même  si  j’ai  de  plus  en  plus  de  mal  à  respir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42-16992827"/>
          <p:cNvPicPr/>
          <p:nvPr/>
        </p:nvPicPr>
        <p:blipFill>
          <a:blip r:embed="rId1"/>
          <a:stretch/>
        </p:blipFill>
        <p:spPr>
          <a:xfrm>
            <a:off x="682560" y="1052640"/>
            <a:ext cx="7777080" cy="5187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0" y="260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9dcff"/>
                </a:solidFill>
                <a:latin typeface="Bradley Hand ITC"/>
              </a:rPr>
              <a:t>Demain,  je  ne  serais  plus  l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ottrockin-1179484137"/>
          <p:cNvPicPr/>
          <p:nvPr/>
        </p:nvPicPr>
        <p:blipFill>
          <a:blip r:embed="rId1"/>
          <a:stretch/>
        </p:blipFill>
        <p:spPr>
          <a:xfrm>
            <a:off x="1130400" y="1047600"/>
            <a:ext cx="6826320" cy="5118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5932574-md"/>
          <p:cNvPicPr/>
          <p:nvPr/>
        </p:nvPicPr>
        <p:blipFill>
          <a:blip r:embed="rId1"/>
          <a:stretch/>
        </p:blipFill>
        <p:spPr>
          <a:xfrm>
            <a:off x="755640" y="907920"/>
            <a:ext cx="756144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0" y="20304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d3befa"/>
                </a:solidFill>
                <a:latin typeface="Bradley Hand ITC"/>
              </a:rPr>
              <a:t>Alors  je  profite  de  chaque  ins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Rz_24"/>
          <p:cNvPicPr/>
          <p:nvPr/>
        </p:nvPicPr>
        <p:blipFill>
          <a:blip r:embed="rId1"/>
          <a:stretch/>
        </p:blipFill>
        <p:spPr>
          <a:xfrm>
            <a:off x="900000" y="981000"/>
            <a:ext cx="7201080" cy="5335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0" y="333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Bradley Hand ITC"/>
              </a:rPr>
              <a:t>Alors  vous  saurez  que  c’est  bientôt  votre  t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0" y="2761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be0e3"/>
                </a:solidFill>
                <a:latin typeface="Bradley Hand ITC"/>
              </a:rPr>
              <a:t>Même  si  vous  saviez  déjà  que  ça  arriverait  un  j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42-18522663"/>
          <p:cNvPicPr/>
          <p:nvPr/>
        </p:nvPicPr>
        <p:blipFill>
          <a:blip r:embed="rId1"/>
          <a:stretch/>
        </p:blipFill>
        <p:spPr>
          <a:xfrm>
            <a:off x="684360" y="1003320"/>
            <a:ext cx="7704000" cy="5140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2413080" y="635652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808080"/>
                </a:solidFill>
                <a:latin typeface="Bradley Hand ITC"/>
              </a:rPr>
              <a:t>La  voix  des  anim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68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2"/>
          <p:cNvSpPr/>
          <p:nvPr/>
        </p:nvSpPr>
        <p:spPr>
          <a:xfrm>
            <a:off x="0" y="1484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3befa"/>
                </a:solidFill>
                <a:latin typeface="Arial"/>
              </a:rPr>
              <a:t>Le Dauphin de Chine (Bai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3befa"/>
                </a:solidFill>
                <a:latin typeface="Arial"/>
              </a:rPr>
              <a:t>nous a quittés en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3befa"/>
                </a:solidFill>
                <a:latin typeface="Arial"/>
              </a:rPr>
              <a:t>dans l'indifférence génér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4" descr="uu"/>
          <p:cNvPicPr/>
          <p:nvPr/>
        </p:nvPicPr>
        <p:blipFill>
          <a:blip r:embed="rId1"/>
          <a:stretch/>
        </p:blipFill>
        <p:spPr>
          <a:xfrm>
            <a:off x="3132000" y="3357720"/>
            <a:ext cx="305784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8"/>
          <p:cNvSpPr/>
          <p:nvPr/>
        </p:nvSpPr>
        <p:spPr>
          <a:xfrm>
            <a:off x="2611440" y="1252440"/>
            <a:ext cx="4032360" cy="4105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ScreenShot1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ligneetoile"/>
          <p:cNvPicPr/>
          <p:nvPr/>
        </p:nvPicPr>
        <p:blipFill>
          <a:blip r:embed="rId2"/>
          <a:stretch/>
        </p:blipFill>
        <p:spPr>
          <a:xfrm>
            <a:off x="2124000" y="5445000"/>
            <a:ext cx="4897440" cy="222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2124000" y="4797360"/>
            <a:ext cx="48974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CA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psmania.net/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 flipH="1" rot="5400000">
            <a:off x="4514040" y="-4514040"/>
            <a:ext cx="115920" cy="9144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"/>
          <p:cNvSpPr/>
          <p:nvPr/>
        </p:nvSpPr>
        <p:spPr>
          <a:xfrm flipH="1" rot="5400000">
            <a:off x="4514040" y="2227680"/>
            <a:ext cx="115920" cy="9144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 8" descr="BanHautpageindexminippsmani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86240" y="785880"/>
            <a:ext cx="2171520" cy="369720"/>
          </a:xfrm>
          <a:prstGeom prst="rect">
            <a:avLst/>
          </a:prstGeom>
          <a:ln w="0">
            <a:noFill/>
          </a:ln>
        </p:spPr>
      </p:pic>
      <p:pic>
        <p:nvPicPr>
          <p:cNvPr id="102" name="Image 9" descr="BanHautpageindex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08240" y="3929040"/>
            <a:ext cx="4727520" cy="37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5961075-md"/>
          <p:cNvPicPr/>
          <p:nvPr/>
        </p:nvPicPr>
        <p:blipFill>
          <a:blip r:embed="rId1"/>
          <a:stretch/>
        </p:blipFill>
        <p:spPr>
          <a:xfrm>
            <a:off x="1258920" y="1133640"/>
            <a:ext cx="6481800" cy="5224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0" y="260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9dcff"/>
                </a:solidFill>
                <a:latin typeface="Bradley Hand ITC"/>
              </a:rPr>
              <a:t>Même  si  je  commence  déjà  à  sentir  les  effets  du réchauff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60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Bradley Hand ITC"/>
              </a:rPr>
              <a:t>Demain,  je  ne  serais  plus  l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42-18970620"/>
          <p:cNvPicPr/>
          <p:nvPr/>
        </p:nvPicPr>
        <p:blipFill>
          <a:blip r:embed="rId1"/>
          <a:stretch/>
        </p:blipFill>
        <p:spPr>
          <a:xfrm>
            <a:off x="538200" y="957240"/>
            <a:ext cx="8137440" cy="5280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0" y="260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be0e3"/>
                </a:solidFill>
                <a:latin typeface="Bradley Hand ITC"/>
              </a:rPr>
              <a:t>Alors  je  chante  pour  la  dernière  fo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42-19126990"/>
          <p:cNvPicPr/>
          <p:nvPr/>
        </p:nvPicPr>
        <p:blipFill>
          <a:blip r:embed="rId1"/>
          <a:stretch/>
        </p:blipFill>
        <p:spPr>
          <a:xfrm>
            <a:off x="684360" y="1001880"/>
            <a:ext cx="7848360" cy="5235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260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d3befa"/>
                </a:solidFill>
                <a:latin typeface="Bradley Hand ITC"/>
              </a:rPr>
              <a:t>Même  si  les  humains  ne   m’écoutent  p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kodo34-1159005908"/>
          <p:cNvPicPr/>
          <p:nvPr/>
        </p:nvPicPr>
        <p:blipFill>
          <a:blip r:embed="rId1"/>
          <a:stretch/>
        </p:blipFill>
        <p:spPr>
          <a:xfrm>
            <a:off x="1114560" y="1058760"/>
            <a:ext cx="6913440" cy="5178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6206734-md"/>
          <p:cNvPicPr/>
          <p:nvPr/>
        </p:nvPicPr>
        <p:blipFill>
          <a:blip r:embed="rId1"/>
          <a:stretch/>
        </p:blipFill>
        <p:spPr>
          <a:xfrm>
            <a:off x="466560" y="858960"/>
            <a:ext cx="8282160" cy="5522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1890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9dcff"/>
                </a:solidFill>
                <a:latin typeface="Bradley Hand ITC"/>
              </a:rPr>
              <a:t>Demain,  je  ne  serais  plus  l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Antonio Díaz"/>
          <p:cNvPicPr/>
          <p:nvPr/>
        </p:nvPicPr>
        <p:blipFill>
          <a:blip r:embed="rId1"/>
          <a:stretch/>
        </p:blipFill>
        <p:spPr>
          <a:xfrm>
            <a:off x="611280" y="907920"/>
            <a:ext cx="7848360" cy="5672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0" y="260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Bradley Hand ITC"/>
              </a:rPr>
              <a:t>Alors  j’admire  ce  monde  éblouiss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Antonio Díaz3"/>
          <p:cNvPicPr/>
          <p:nvPr/>
        </p:nvPicPr>
        <p:blipFill>
          <a:blip r:embed="rId1"/>
          <a:stretch/>
        </p:blipFill>
        <p:spPr>
          <a:xfrm>
            <a:off x="179280" y="1268280"/>
            <a:ext cx="8856720" cy="5168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0" y="3333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be0e3"/>
                </a:solidFill>
                <a:latin typeface="Bradley Hand ITC"/>
              </a:rPr>
              <a:t>Même  si  je  vois  des  machines  détruire  mon  environne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6:37:19Z</dcterms:created>
  <dc:creator>Hayette</dc:creator>
  <dc:description/>
  <dc:language>en-US</dc:language>
  <cp:lastModifiedBy>Hayette</cp:lastModifiedBy>
  <dcterms:modified xsi:type="dcterms:W3CDTF">2008-09-17T16:47:42Z</dcterms:modified>
  <cp:revision>24</cp:revision>
  <dc:subject/>
  <dc:title>Diapositive 1</dc:title>
</cp:coreProperties>
</file>