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Nachtegaal%20Serenade%201.wav" ContentType="audio/x-wav"/>
  <Override PartName="/ppt/media/image20.jpeg" ContentType="image/jpeg"/>
  <Override PartName="/ppt/media/image3.gif" ContentType="image/gif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03F-143F-4AD3-959A-43F80B36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D1D-AAFC-4417-BB1D-B6907DD0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455-737E-4DD4-9D05-26B4153A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EFE-67E7-49D8-9564-E00B91B7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C47-10C5-4B6B-BCEB-7FB2041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4DE-4FC3-43DD-926C-1FBA193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D01-A154-445C-9951-AFA0C090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EAE-67BE-48DC-8CBE-CFC2219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0DB-EB45-433E-B36D-6FCF75DF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8CC-347E-485B-83D8-1073386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73F-2A75-410A-B1DE-A22CE9C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736-F732-4CD7-B517-406C674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DD7-C5E2-4A75-8091-583CDA8E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Nachtegaal%20Serenade%201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4643280" y="6381720"/>
            <a:ext cx="29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524720" y="5272200"/>
              <a:ext cx="1619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Vonck</dc:creator>
  <dc:description/>
  <dc:language>en-US</dc:language>
  <cp:lastModifiedBy>Vonck</cp:lastModifiedBy>
  <dcterms:modified xsi:type="dcterms:W3CDTF">2009-01-17T15:02:08Z</dcterms:modified>
  <cp:revision>14</cp:revision>
  <dc:subject/>
  <dc:title>Dia 1</dc:title>
</cp:coreProperties>
</file>