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05%20Tusita.wav" ContentType="audio/x-wav"/>
  <Override PartName="/ppt/media/image16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3AA-3DDD-4BAD-89A5-05E83FC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511-1E21-4FF5-BD94-56B6A18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B84-3558-4BF5-BD35-24AAFA83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738-A45C-4B3E-90B5-7BB8948E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9B4-D5C4-48AE-A197-46B1AFF0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148-C106-437E-9480-F420D182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12E-A870-46FE-92CA-A02B53E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C6E-3A92-4237-A751-D45B483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64A-8907-4C8C-9B24-701927D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B65-3DFB-4462-80BC-6068087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74-555D-462A-B73F-80902AA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73C-11B7-4EBD-A4AF-7B142D0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682-E55B-4E0E-B6AB-0825E6E33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5%20Tusit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5262401-m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572000" y="58579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Poem by Dr. Maya Angelou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Read at the dedication of the Disney Millennium Villag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comb dir="vert"/>
    <p:sndAc>
      <p:stSnd>
        <p:snd r:embed="rId3" name="05%20Tus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5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2"/>
          <a:stretch/>
        </p:blipFill>
        <p:spPr>
          <a:xfrm>
            <a:off x="1590840" y="4025880"/>
            <a:ext cx="669420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1654200" y="3535200"/>
            <a:ext cx="6918480" cy="2975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" descr=""/>
          <p:cNvPicPr/>
          <p:nvPr/>
        </p:nvPicPr>
        <p:blipFill>
          <a:blip r:embed="rId2"/>
          <a:stretch/>
        </p:blipFill>
        <p:spPr>
          <a:xfrm>
            <a:off x="1582560" y="3535200"/>
            <a:ext cx="6918480" cy="29750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2"/>
          <a:stretch/>
        </p:blipFill>
        <p:spPr>
          <a:xfrm>
            <a:off x="1090440" y="3743280"/>
            <a:ext cx="7632720" cy="29815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1" descr=""/>
          <p:cNvPicPr/>
          <p:nvPr/>
        </p:nvPicPr>
        <p:blipFill>
          <a:blip r:embed="rId2"/>
          <a:stretch/>
        </p:blipFill>
        <p:spPr>
          <a:xfrm>
            <a:off x="1368360" y="3743280"/>
            <a:ext cx="7632720" cy="29815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1" descr=""/>
          <p:cNvPicPr/>
          <p:nvPr/>
        </p:nvPicPr>
        <p:blipFill>
          <a:blip r:embed="rId2"/>
          <a:stretch/>
        </p:blipFill>
        <p:spPr>
          <a:xfrm>
            <a:off x="1868400" y="3889440"/>
            <a:ext cx="5918400" cy="29750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" descr=""/>
          <p:cNvPicPr/>
          <p:nvPr/>
        </p:nvPicPr>
        <p:blipFill>
          <a:blip r:embed="rId2"/>
          <a:stretch/>
        </p:blipFill>
        <p:spPr>
          <a:xfrm>
            <a:off x="1090440" y="3889440"/>
            <a:ext cx="7821720" cy="29750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comb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1582560" y="3948120"/>
            <a:ext cx="7632720" cy="2981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944720" y="3889440"/>
            <a:ext cx="5632560" cy="297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4:18:34Z</dcterms:created>
  <dc:creator>XIBY</dc:creator>
  <dc:description/>
  <dc:language>en-US</dc:language>
  <cp:lastModifiedBy>XIBY</cp:lastModifiedBy>
  <dcterms:modified xsi:type="dcterms:W3CDTF">2008-03-20T18:18:41Z</dcterms:modified>
  <cp:revision>11</cp:revision>
  <dc:subject/>
  <dc:title>Slide 1</dc:title>
</cp:coreProperties>
</file>