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BELIE~11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95A-DC9D-475F-AA76-491DBCD4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E96-C421-4849-8F83-E49BB9A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EC1-E9EA-4251-9341-AFCCD23C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345-19A6-4ACE-88C7-4BEFFEA5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897-1477-4FA4-9D12-45C50F7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DF2-80B8-4A23-A4AA-837C41A8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0BC-B84A-473A-9A0C-5C459F1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0C8-4AFA-4FCF-AD7D-EA75520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3F4-C1AB-40F1-A321-BA35659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411-9099-4F5E-9609-FE04450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678-F0B9-4D92-901F-A0FFEE7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639-7BF2-4188-962B-D5AD31B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F9E-8D48-4BEC-BF12-A4878E16463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IBELIE~1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840" y="297180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Enjoy these wonderful picture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share them with all your frien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"/>
    <p:sndAc>
      <p:stSnd>
        <p:snd r:embed="rId3" name="IBELIE~1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80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541440" y="-458640"/>
            <a:ext cx="9914040" cy="784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541440" y="-819000"/>
            <a:ext cx="9914040" cy="799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54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648720" cy="792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360" y="-316080"/>
            <a:ext cx="10153800" cy="8137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96720" y="-243000"/>
            <a:ext cx="9937440" cy="842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793440" cy="80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937800" cy="835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9721800" cy="792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12720" y="-531720"/>
            <a:ext cx="10225080" cy="80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96720" y="-387360"/>
            <a:ext cx="10153440" cy="813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612720" y="-819000"/>
            <a:ext cx="10298160" cy="81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0:37:18Z</dcterms:created>
  <dc:creator>cem</dc:creator>
  <dc:description/>
  <dc:language>en-US</dc:language>
  <cp:lastModifiedBy>Elaine</cp:lastModifiedBy>
  <dcterms:modified xsi:type="dcterms:W3CDTF">2006-01-25T20:58:46Z</dcterms:modified>
  <cp:revision>9</cp:revision>
  <dc:subject/>
  <dc:title>PowerPoint Sunusu</dc:title>
</cp:coreProperties>
</file>