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7.jpeg" ContentType="image/jpeg"/>
  <Override PartName="/ppt/media/lennon%20%209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A66-1AAF-4990-9725-5E684A38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84C-D88C-4DF8-96FE-94F78C9F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335-42D8-46EA-B9B2-B8930C5B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228-D5A1-4414-B961-6D22F53A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6293-9CDC-43D7-A71B-DC209F08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9D22-7D11-402E-8024-26F93991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6D09-BCA9-43DC-B5B6-23F356BD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F1D6-167C-4395-B0D6-B9C52365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3C17-AAE2-4CD7-BE89-6F2B0F8B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5C7D-A0E9-44ED-9E2C-A48B5FB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50DB-6298-436E-B07E-259B6594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6EE-1EEA-4DCD-A16F-09AE4112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9810-CCF9-4DD6-99F0-3DA060B4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4319-FAA2-42CB-8DFA-D249E154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78FD-ADD8-478A-BE0F-AD06D822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4A16-85D6-4EDB-831B-958B0A86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A68D-B06F-43A1-AD68-472CB865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88B-D11B-4F68-B23B-62E78912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2F7-DF55-49EF-88D4-42DA5916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7E8-B1AE-4FB0-8CC8-5138670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024-02C3-403C-800C-DC006BF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AEC-F488-4AD0-A6C6-0594C58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983-3A1F-4143-976A-124C984E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3BE-609B-4BA1-8211-E2B49EE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BC7C-6B2D-404C-8624-CC47C1E44E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A536-5E07-468D-9D9B-0696E5F807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lennon%20%209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unmail2u.de/" TargetMode="External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987640" y="765000"/>
            <a:ext cx="2952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MAG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00000" y="5589720"/>
            <a:ext cx="691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7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John Lennon</a:t>
            </a:r>
            <a:endParaRPr b="0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8785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5734080"/>
            <a:ext cx="64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3333cc"/>
                </a:solidFill>
                <a:latin typeface="Comic Sans MS"/>
              </a:rPr>
              <a:t>I hope soms day you’ll join 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3333cc"/>
                </a:solidFill>
                <a:latin typeface="Comic Sans MS"/>
              </a:rPr>
              <a:t>and the world will live a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0480" y="772200"/>
            <a:ext cx="567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Comic Sans MS"/>
              </a:rPr>
              <a:t>Espero que algún día  quieras unirte a nosotros, </a:t>
            </a:r>
            <a:br>
              <a:rPr sz="2000"/>
            </a:br>
            <a:r>
              <a:rPr b="0" i="1" lang="es-ES" sz="2000" spc="-1" strike="noStrike">
                <a:solidFill>
                  <a:srgbClr val="3333cc"/>
                </a:solidFill>
                <a:latin typeface="Comic Sans MS"/>
              </a:rPr>
              <a:t>y el mundo será u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602136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Comic Sans MS"/>
              </a:rPr>
              <a:t>Imagine no posessions, I wonder if you ca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7000" y="1195920"/>
            <a:ext cx="36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Imagina sin ninguna posesión,</a:t>
            </a:r>
            <a:br>
              <a:rPr sz="2000"/>
            </a:b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me maravillaré si pued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5516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Comic Sans MS"/>
              </a:rPr>
              <a:t>No need for greed or hu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21400" y="1124640"/>
            <a:ext cx="46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Ninguna necesidad de avidez o ha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333360"/>
            <a:ext cx="7029360" cy="6264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51280" y="6093000"/>
            <a:ext cx="31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Comic Sans MS"/>
              </a:rPr>
              <a:t>A brotherhood of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32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Una hermandad del hom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61657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Comic Sans MS"/>
              </a:rPr>
              <a:t>Imagine all the people  sharing all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55440" y="700560"/>
            <a:ext cx="38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Imagina toda la gente 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compartiendo todo el mu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10980720" cy="8512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284720" y="4653000"/>
            <a:ext cx="485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You may say I’m a dream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but I’m not the only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6520" y="781560"/>
            <a:ext cx="401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Podrás decir que soy un soñador, 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pero no soy el únic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49845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08360" y="5589720"/>
            <a:ext cx="543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c924a"/>
                </a:solidFill>
                <a:latin typeface="Comic Sans MS"/>
              </a:rPr>
              <a:t>I hope some day you’ll join u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c924a"/>
                </a:solidFill>
                <a:latin typeface="Comic Sans MS"/>
              </a:rPr>
              <a:t> </a:t>
            </a:r>
            <a:r>
              <a:rPr b="0" i="1" lang="nl-BE" sz="2000" spc="-1" strike="noStrike">
                <a:solidFill>
                  <a:srgbClr val="fc924a"/>
                </a:solidFill>
                <a:latin typeface="Comic Sans MS"/>
              </a:rPr>
              <a:t>and the world will live as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6040" y="1835640"/>
            <a:ext cx="478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Espero que algún día te unas a nosotr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y el mundo vivirá como 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1240" y="475560"/>
            <a:ext cx="206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Imagina que no hay cielo 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es fácil si lo intentas 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no hay infierno 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arriba nuestro sólo hay cielo 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imagina toda la gente 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viviendo por  el  ho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49080" y="1915560"/>
            <a:ext cx="2526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Imagina que no hay ciudades 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no es difícil de hacer, 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no hay nada por que matar o morir 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y no otra religión,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imagina que toda la gente </a:t>
            </a:r>
            <a:br>
              <a:rPr sz="1200"/>
            </a:br>
            <a:r>
              <a:rPr b="1" lang="es-ES" sz="1200" spc="-1" strike="noStrike">
                <a:solidFill>
                  <a:srgbClr val="ffffcc"/>
                </a:solidFill>
                <a:latin typeface="Times New Roman"/>
              </a:rPr>
              <a:t>vive su vida en paz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5280" y="3283920"/>
            <a:ext cx="257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Puedes decir que soy un soñador 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pero no soy el único 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espero que un día te unas a nosotros 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y el mundo será sólo u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7640" y="4220280"/>
            <a:ext cx="2332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Imagina que no hay posesiones 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me pregunto si podrás,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no necesito la avaricia o el enojo 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una hermandad para el hombre, 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imagina toda la gente 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compartiendo el mun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6560" y="5373000"/>
            <a:ext cx="2765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Podrás decir que soy un soñador 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pero no soy el únic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espero que algún día te unas a nosotros </a:t>
            </a:r>
            <a:br>
              <a:rPr sz="1200"/>
            </a:br>
            <a:r>
              <a:rPr b="1" lang="es-ES" sz="1200" spc="-1" strike="noStrike">
                <a:solidFill>
                  <a:srgbClr val="3333cc"/>
                </a:solidFill>
                <a:latin typeface="Times New Roman"/>
              </a:rPr>
              <a:t>y el mundo será sólo uno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9280" y="6452280"/>
            <a:ext cx="151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SC  PARA  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2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7760"/>
                            </p:stCondLst>
                            <p:childTnLst>
                              <p:par>
                                <p:cTn id="3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2760"/>
                            </p:stCondLst>
                            <p:childTnLst>
                              <p:par>
                                <p:cTn id="33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3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33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33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52480" y="955800"/>
            <a:ext cx="7915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funmail2u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- kostenlos jeden Tag mit Fun beliefert werden</a:t>
            </a: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Der Funverteiler ist eine kostenlose und unverbindliche Leistung, die dir täglich eine Mail mit witzigen Bildern, PowerPoints usw. zustel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00"/>
                </a:solidFill>
                <a:latin typeface="Arial"/>
              </a:rPr>
              <a:t>Das Geniale dabei ist, dass du selbst entscheiden kannst, wie groß diese Funmail sein soll (d.h. wie viel MB sie haben soll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Informationen dazu findest du auf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funmail2u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Falls du auch beliefert werden möchtest, dann trage dich bitte auf meiner Homepage in das Anmeldeformular ein. Du kannst dich jederzeit wieder abmelden und gehst keine Verpflichtungen 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Der Verteiler ist frei von Viren, Werbung und Spam und kann jederzeit wieder abbestell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557520" y="1592280"/>
            <a:ext cx="1190520" cy="85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746520" y="4049640"/>
            <a:ext cx="119052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599160" y="2878200"/>
            <a:ext cx="1190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3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63640" y="5734080"/>
            <a:ext cx="570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Imagine there’s no heav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it’s easy if you tr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280" y="710280"/>
            <a:ext cx="31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Imagina que no hay cielo 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es fácil si lo intenta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270000"/>
            <a:ext cx="9144000" cy="712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5445000"/>
            <a:ext cx="5064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No hell below u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above us only sk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763920"/>
            <a:ext cx="464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Ningún infierno bajo nosotr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sobre nosotros sólo un cielo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0c3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39636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6093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Comic Sans MS"/>
              </a:rPr>
              <a:t>Imagine all the people living for today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7280" y="403560"/>
            <a:ext cx="276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Imagina toda la gente </a:t>
            </a:r>
            <a:br>
              <a:rPr sz="2000"/>
            </a:b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viviendo por el hoy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76360" y="5229360"/>
            <a:ext cx="625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ccccff"/>
                </a:solidFill>
                <a:latin typeface="Comic Sans MS"/>
              </a:rPr>
              <a:t>Imagine there’s no countr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i="1" lang="nl-BE" sz="2000" spc="-1" strike="noStrike">
                <a:solidFill>
                  <a:srgbClr val="ccccff"/>
                </a:solidFill>
                <a:latin typeface="Comic Sans MS"/>
              </a:rPr>
              <a:t>It isn’t hard to d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6120" y="548280"/>
            <a:ext cx="376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Imagina que allí no hay países, </a:t>
            </a:r>
            <a:br>
              <a:rPr sz="2000"/>
            </a:b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No es difícil de hacer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5734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i="1" lang="nl-BE" sz="2000" spc="-1" strike="noStrike">
                <a:solidFill>
                  <a:srgbClr val="ffffff"/>
                </a:solidFill>
                <a:latin typeface="Comic Sans MS"/>
              </a:rPr>
              <a:t>Nothing to kill or die f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6640" y="2707200"/>
            <a:ext cx="354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Nada por que matar o morir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8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44500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ccccff"/>
                </a:solidFill>
                <a:latin typeface="Comic Sans MS"/>
              </a:rPr>
              <a:t>and no religion to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400" y="97992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Y tampoco religión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58770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Comic Sans MS"/>
              </a:rPr>
              <a:t>Imaging all the people living life in peac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76392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Imagina a toda la gente </a:t>
            </a:r>
            <a:br>
              <a:rPr sz="2000"/>
            </a:b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viviendo la vida en paz…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3933720"/>
            <a:ext cx="44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Comic Sans MS"/>
              </a:rPr>
              <a:t>You may say I’m a dream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nl-BE" sz="2000" spc="-1" strike="noStrike">
                <a:solidFill>
                  <a:srgbClr val="ffffff"/>
                </a:solidFill>
                <a:latin typeface="Comic Sans MS"/>
              </a:rPr>
              <a:t>but I’m not the only 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9160" y="906840"/>
            <a:ext cx="402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Puedes decir que soy un soñador, </a:t>
            </a:r>
            <a:br>
              <a:rPr sz="2000"/>
            </a:br>
            <a:r>
              <a:rPr b="0" i="1" lang="es-ES" sz="2000" spc="-1" strike="noStrike">
                <a:solidFill>
                  <a:srgbClr val="ffff99"/>
                </a:solidFill>
                <a:latin typeface="Comic Sans MS"/>
              </a:rPr>
              <a:t>pero no soy el único 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8:48:03Z</dcterms:created>
  <dc:creator>MOD: QUIKE_BCN</dc:creator>
  <dc:description>verteilt durch www.funmail2u.de - einem kostenlosen Service, der jeden Tag witzige Dateien per Mail versendet</dc:description>
  <dc:language>en-US</dc:language>
  <cp:lastModifiedBy>Roland Beer</cp:lastModifiedBy>
  <dcterms:modified xsi:type="dcterms:W3CDTF">2008-03-04T17:08:52Z</dcterms:modified>
  <cp:revision>6</cp:revision>
  <dc:subject/>
  <dc:title>IMAGINE_Lennon</dc:title>
</cp:coreProperties>
</file>