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986-D20E-44DB-B36F-23F23751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5F1-F74A-4568-B1CB-DCAFD824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F11-9CAE-4A30-B203-14728AE8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209-085A-41A8-B68A-EB8F3BEE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C44-F75F-4CA4-A328-B6B5BB68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06C-91AE-484A-B61F-A97C288A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95A-C77F-4928-918E-FC2071DF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7DD-C5F5-4142-B1B1-68420D40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AB9-F955-4ADB-B61A-D587213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DB0-15CD-46E3-9527-B3A96AE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C80-A826-4E25-8E07-8DCE72C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9F8-B1FA-418C-A821-D816F59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A29-8053-40AF-8437-1B3EB5EB8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10" descr="1115.jpg"/>
          <p:cNvPicPr/>
          <p:nvPr/>
        </p:nvPicPr>
        <p:blipFill>
          <a:blip r:embed="rId1"/>
          <a:srcRect l="2398" t="0" r="23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54864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auphin"/>
              </a:rPr>
              <a:t>Good Khar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auphin"/>
              </a:rPr>
              <a:t>This is a nice reading, but short .  Enjoy!  This is what the Dalai Lama  has to say for 2008.  All is takes is a few seconds to read and think over.  Do not keep this message.  The mantra must leave your hands within 96 hours.  You will get a very pleasant surprise.  This is true for all ~ even if you are not superstitious ~ of whatever religious belief……………Faith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Enya - Boadice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Placeholder 6" descr="tigercubs.jpg"/>
          <p:cNvPicPr/>
          <p:nvPr/>
        </p:nvPicPr>
        <p:blipFill>
          <a:blip r:embed="rId1"/>
          <a:srcRect l="0" t="239" r="0" b="2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28840" y="213840"/>
            <a:ext cx="29228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Open your arms to change, but don’t give up your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Placeholder 6" descr="124.jpg"/>
          <p:cNvPicPr/>
          <p:nvPr/>
        </p:nvPicPr>
        <p:blipFill>
          <a:blip r:embed="rId1"/>
          <a:srcRect l="5417" t="0" r="541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5480" y="3785760"/>
            <a:ext cx="828684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member that silence is sometimes the best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Placeholder 4" descr="orca9.jpg"/>
          <p:cNvPicPr/>
          <p:nvPr/>
        </p:nvPicPr>
        <p:blipFill>
          <a:blip r:embed="rId1"/>
          <a:srcRect l="0" t="11520" r="0" b="115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3286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Live a good, honorable life.  Then when you get older and think back, you’ll be able to enjoy it a second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Placeholder 4" descr="871.jpg"/>
          <p:cNvPicPr/>
          <p:nvPr/>
        </p:nvPicPr>
        <p:blipFill>
          <a:blip r:embed="rId1"/>
          <a:srcRect l="0" t="3126" r="0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32083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 loving atmosphere in your home  is the foundation for your li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Placeholder 8" descr="339.jpg"/>
          <p:cNvPicPr/>
          <p:nvPr/>
        </p:nvPicPr>
        <p:blipFill>
          <a:blip r:embed="rId1"/>
          <a:srcRect l="5309" t="0" r="5309" b="0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071680" y="499680"/>
            <a:ext cx="34225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In disagreements with loved ones, deal only with the current situation.  Don’t bring up the p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Placeholder 6" descr="224.jpg"/>
          <p:cNvPicPr/>
          <p:nvPr/>
        </p:nvPicPr>
        <p:blipFill>
          <a:blip r:embed="rId1"/>
          <a:srcRect l="0" t="19063" r="0" b="19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285480"/>
            <a:ext cx="27795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Share your knowledge.  It is a way to achieve immort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Placeholder 6" descr="611.jpg"/>
          <p:cNvPicPr/>
          <p:nvPr/>
        </p:nvPicPr>
        <p:blipFill>
          <a:blip r:embed="rId1"/>
          <a:srcRect l="5779" t="0" r="57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71760" y="20001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Be gentle with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Placeholder 6" descr="wier-HDR-400.jpg"/>
          <p:cNvPicPr/>
          <p:nvPr/>
        </p:nvPicPr>
        <p:blipFill>
          <a:blip r:embed="rId1"/>
          <a:srcRect l="0" t="3130" r="0" b="3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14800" y="58579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Once a year, go some place you’ve never been bef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Placeholder 4" descr="nature_scenery.jpg"/>
          <p:cNvPicPr/>
          <p:nvPr/>
        </p:nvPicPr>
        <p:blipFill>
          <a:blip r:embed="rId1"/>
          <a:srcRect l="5601" t="0" r="56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14680" y="4785840"/>
            <a:ext cx="54864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Remember the best relationship is  one in which your love for each other exceeds your need for each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Placeholder 10" descr="455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8760" y="1928520"/>
            <a:ext cx="3357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Judge your success by what you had to give up in order to ge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Placeholder 6" descr="Gorilla.jpg"/>
          <p:cNvPicPr/>
          <p:nvPr/>
        </p:nvPicPr>
        <p:blipFill>
          <a:blip r:embed="rId1"/>
          <a:srcRect l="3064" t="0" r="30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85840" y="285480"/>
            <a:ext cx="40006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Take into account that great love and great achievements involve great ri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Placeholder 6" descr="1407.jpg"/>
          <p:cNvPicPr/>
          <p:nvPr/>
        </p:nvPicPr>
        <p:blipFill>
          <a:blip r:embed="rId1"/>
          <a:srcRect l="5518" t="0" r="551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643720" y="285480"/>
            <a:ext cx="32083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pproach love and cooking with reckless aband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Placeholder 4" descr="777.jpg"/>
          <p:cNvPicPr/>
          <p:nvPr/>
        </p:nvPicPr>
        <p:blipFill>
          <a:blip r:embed="rId1"/>
          <a:srcRect l="5523" t="0" r="5523" b="0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8572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Forward this mantra to at least 5 people and your life will impr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0 – 4 people: Your life will improve slightly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5 – 9 people: Your life will improve to your li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0 – 14 people: Your will have at least 5 wonderful surprises in the next 3 wee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5 people &amp; over: Your life will improve drastically and everything you ever dreamed of will begin to take shap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Do not keep this message.  This mantra must leave your hands within 96 ho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You will get a very pleasant surpr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Placeholder 12" descr="11.jpg"/>
          <p:cNvPicPr/>
          <p:nvPr/>
        </p:nvPicPr>
        <p:blipFill>
          <a:blip r:embed="rId1"/>
          <a:srcRect l="5425" t="0" r="54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43840" y="213840"/>
            <a:ext cx="20001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When you los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don’t lose the lesson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Placeholder 10" descr="pretty pic 28.jpg"/>
          <p:cNvPicPr/>
          <p:nvPr/>
        </p:nvPicPr>
        <p:blipFill>
          <a:blip r:embed="rId1"/>
          <a:srcRect l="7172" t="0" r="71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56800" y="3786120"/>
            <a:ext cx="5072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Follow the three R’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ect for Self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ect for Other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onsibility for all your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Placeholder 4" descr="pretty pic 25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00360" y="3857760"/>
            <a:ext cx="449388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member that  not getting what you want  is sometimes a wonderful stroke of lu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Placeholder 10" descr="143.jpg"/>
          <p:cNvPicPr/>
          <p:nvPr/>
        </p:nvPicPr>
        <p:blipFill>
          <a:blip r:embed="rId1"/>
          <a:srcRect l="0" t="3124" r="0" b="3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00760" y="428760"/>
            <a:ext cx="35654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1de"/>
                </a:solidFill>
                <a:latin typeface="Dauphin"/>
              </a:rPr>
              <a:t>Learn the rules so you know how to break them prope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Placeholder 8" descr="pretty pic 26.jpg"/>
          <p:cNvPicPr/>
          <p:nvPr/>
        </p:nvPicPr>
        <p:blipFill>
          <a:blip r:embed="rId1"/>
          <a:srcRect l="0" t="78" r="0" b="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4200" y="2500200"/>
            <a:ext cx="4857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Don’t let a little dispute injure a great relation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Placeholder 16" descr="1.jpg"/>
          <p:cNvPicPr/>
          <p:nvPr/>
        </p:nvPicPr>
        <p:blipFill>
          <a:blip r:embed="rId1"/>
          <a:srcRect l="5554" t="0" r="555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29040" y="214200"/>
            <a:ext cx="492912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Dauphin"/>
              </a:rPr>
              <a:t>When you realize you’ve made a mistake, take immediate steps to correc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Placeholder 6" descr="32.jpg"/>
          <p:cNvPicPr/>
          <p:nvPr/>
        </p:nvPicPr>
        <p:blipFill>
          <a:blip r:embed="rId1"/>
          <a:srcRect l="5625" t="0" r="56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2499840"/>
            <a:ext cx="320832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Spend some time alone every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5:11:11Z</dcterms:created>
  <dc:creator>Mary-Ann</dc:creator>
  <dc:description/>
  <dc:language>en-US</dc:language>
  <cp:lastModifiedBy>Peter Harrison</cp:lastModifiedBy>
  <dcterms:modified xsi:type="dcterms:W3CDTF">2008-10-27T00:50:03Z</dcterms:modified>
  <cp:revision>13</cp:revision>
  <dc:subject/>
  <dc:title>Slide 1</dc:title>
</cp:coreProperties>
</file>