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MayItBe_Enya_LordOfTheRings135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645-579C-4DB4-93C5-25F96F96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1FA-FEA8-43C2-9C4F-1EDFB084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12B-0520-44F5-8F5B-32F339F9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1E6-98CC-42D0-9B63-9A595FA2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621C-81A2-4D37-8E19-F93A1761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F85-D28E-4F05-86CA-618D7054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A59D-E588-4473-8992-B5F32E8D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612C-A36A-499A-824E-166B496A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AEBE-C78E-41F6-9DB3-2DF87271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EC54-2C24-46B5-B6B9-A325CDB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E58C-1B51-4157-9BF0-FE73FCE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F04-9D37-4215-9BFC-875D093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985D-52D1-4899-A198-0D3F366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490D-8CC9-4698-823E-11D30AA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2A3E-FF80-4F3C-B2AD-3F15987D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04AC-7C2F-4E02-8E89-2138F44E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B71C-19E6-4C7A-8553-D4B6A6F3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DB9-7B19-490C-8506-4E9EF5BE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26F-6989-480C-87A2-A3E4DFA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50E-2700-488D-B11A-95F6BAC0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BE9-0213-46F1-ABFD-71A47CB4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8AC-0625-46E1-8765-929EC96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CD7-5F86-41BE-B291-EA78F65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6B5-EF61-48D0-87D2-B8C2F70F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6B8A-E2B0-4CB3-BB64-0829ED35079D}" type="slidenum">
              <a:rPr b="0" lang="fr-FR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eaeaea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eaeaea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eaeaea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444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ad4dc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7CAB-3865-42C4-8314-08E85F9DB88E}" type="slidenum">
              <a:rPr b="0" lang="fr-FR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yItBe_Enya_LordOfTheRings135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8893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ccff"/>
                </a:solidFill>
                <a:latin typeface="Signature"/>
              </a:rPr>
              <a:t>Hélène production présente</a:t>
            </a:r>
            <a:endParaRPr b="0" lang="en-US" sz="8800" spc="-1" strike="noStrike">
              <a:solidFill>
                <a:srgbClr val="cad4dc"/>
              </a:solidFill>
              <a:latin typeface="Arial"/>
            </a:endParaRPr>
          </a:p>
        </p:txBody>
      </p:sp>
    </p:spTree>
  </p:cSld>
  <p:transition spd="slow" advTm="5000">
    <p:zoom dir="out"/>
    <p:sndAc>
      <p:stSnd>
        <p:snd r:embed="rId1" name="MayItBe_Enya_LordOfTheRings13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-39672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721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8200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Signature"/>
              </a:rPr>
              <a:t>fonds marins…</a:t>
            </a:r>
            <a:endParaRPr b="0" lang="en-US" sz="9600" spc="-1" strike="noStrike">
              <a:solidFill>
                <a:srgbClr val="cad4dc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-468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rot="20869200">
            <a:off x="164520" y="5652720"/>
            <a:ext cx="218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Signature"/>
              </a:rPr>
              <a:t>Hélène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3ab2"/>
            </a:gs>
            <a:gs pos="100000">
              <a:srgbClr val="2323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5:11:54Z</dcterms:created>
  <dc:creator>Unicornis</dc:creator>
  <dc:description/>
  <dc:language>en-US</dc:language>
  <cp:lastModifiedBy>Admin</cp:lastModifiedBy>
  <dcterms:modified xsi:type="dcterms:W3CDTF">2008-06-25T15:53:56Z</dcterms:modified>
  <cp:revision>12</cp:revision>
  <dc:subject/>
  <dc:title>FONDS MARINS</dc:title>
</cp:coreProperties>
</file>