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Chickens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B02-12D9-44D1-A577-68D7B0AA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231-3896-4BD9-80F7-ABF3BADB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761-E311-4ED2-ABF3-71948F52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A0A-04B5-417C-95C9-3EB1EC54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D81-99A0-4F0E-901B-6350068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F52-6A4D-4E45-9420-C51C81D1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C5B-CA11-4324-BAC8-51DA9651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32A-3209-41A2-9E19-3FD0108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751-3477-48AC-A481-6A63501D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F03-4146-44C7-9B06-D3D24B8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018-0C9F-42B8-9206-211E571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F3C-F41D-4231-B179-EF73459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6882-4D4D-4DE4-BC27-DD19B1B8A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cken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928800" y="857160"/>
            <a:ext cx="7437240" cy="1108080"/>
            <a:chOff x="928800" y="857160"/>
            <a:chExt cx="7437240" cy="1108080"/>
          </a:xfrm>
        </p:grpSpPr>
        <p:pic>
          <p:nvPicPr>
            <p:cNvPr id="42" name="Rectangle 3" descr=""/>
            <p:cNvPicPr/>
            <p:nvPr/>
          </p:nvPicPr>
          <p:blipFill>
            <a:blip r:embed="rId2"/>
            <a:stretch/>
          </p:blipFill>
          <p:spPr>
            <a:xfrm>
              <a:off x="928800" y="857160"/>
              <a:ext cx="737208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ectangle 4" descr=""/>
            <p:cNvPicPr/>
            <p:nvPr/>
          </p:nvPicPr>
          <p:blipFill>
            <a:blip r:embed="rId3"/>
            <a:stretch/>
          </p:blipFill>
          <p:spPr>
            <a:xfrm>
              <a:off x="993960" y="857160"/>
              <a:ext cx="7372080" cy="11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Box 5"/>
          <p:cNvSpPr/>
          <p:nvPr/>
        </p:nvSpPr>
        <p:spPr>
          <a:xfrm>
            <a:off x="1714680" y="3429000"/>
            <a:ext cx="1214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Blackadder ITC"/>
              </a:rPr>
              <a:t> </a:t>
            </a:r>
            <a:r>
              <a:rPr b="1" lang="en-US" sz="2000" spc="-1" strike="noStrike">
                <a:solidFill>
                  <a:srgbClr val="632523"/>
                </a:solidFill>
                <a:latin typeface="Blackadder ITC"/>
              </a:rPr>
              <a:t>A humourous poem  by Rachel Po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  <p:sndAc>
      <p:stSnd>
        <p:snd r:embed="rId4" name="Chicken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857240" y="4357800"/>
            <a:ext cx="500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First day of my life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was stuck in a nest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lthough rather warm,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'Twas hard to take 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857240" y="4214880"/>
            <a:ext cx="500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For Poor mother chicken,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Felt compelled to hatch me.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But Stuffy and squished,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I so want to be f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857240" y="4214880"/>
            <a:ext cx="500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t time I hatched open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nd what a surprise!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Two legs at the bottom,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nd the top-- two black e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857240" y="4214880"/>
            <a:ext cx="500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nd soon I got fat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bigger than friend Cow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Then one awful day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they said "We want you now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857240" y="4214880"/>
            <a:ext cx="500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Why to eat me for dinner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Those nasty old humans!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I wish I were thinner,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for my sake, to fool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28880" y="426096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And right then I cried, </a:t>
            </a:r>
            <a:br>
              <a:rPr sz="2800"/>
            </a:br>
            <a:r>
              <a:rPr b="1" i="1" lang="en-US" sz="2800" spc="-1" strike="noStrike">
                <a:solidFill>
                  <a:srgbClr val="00ff00"/>
                </a:solidFill>
                <a:latin typeface="Calibri"/>
              </a:rPr>
              <a:t>for they wanted me fri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06:51:35Z</dcterms:created>
  <dc:creator>XIBBY</dc:creator>
  <dc:description/>
  <dc:language>en-US</dc:language>
  <cp:lastModifiedBy>XIBBY</cp:lastModifiedBy>
  <dcterms:modified xsi:type="dcterms:W3CDTF">2007-09-15T07:49:20Z</dcterms:modified>
  <cp:revision>7</cp:revision>
  <dc:subject/>
  <dc:title>Slide 1</dc:title>
</cp:coreProperties>
</file>