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09%20-%20O%20Little%20Town%20of%20Bethlehem.wav" ContentType="audio/x-wav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12%20-%20Silent%20Night.wav" ContentType="audio/x-wav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57B-9DDF-4FB2-8A40-0531C234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033-C422-4F5D-9D3A-B396BF4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D33-D135-49D0-A68A-780E9D17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EF3-5874-495E-B944-25CD94D7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032-07D6-442F-8DF9-763F6737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ACA-9DFE-4D7E-AA8B-7420169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27B-2F9E-46D4-9F3B-34DAB1D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339-5735-4B41-988F-7CDB464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D23-C5C4-4105-92DA-AAF3949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5F7-8B5F-414A-9746-4E0A3AD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15C-B27A-4162-A544-7DB4543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930-7300-4B59-AB3F-35DC658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3F2F-EAC5-46E8-9B71-ABAF6E0CA0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09%20-%20O%20Little%20Town%20of%20Bethlehem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gif"/><Relationship Id="rId3" Type="http://schemas.openxmlformats.org/officeDocument/2006/relationships/audio" Target="../media/12%20-%20Silent%20Night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920960" y="-933480"/>
            <a:ext cx="5308560" cy="2859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paar03.gif"/>
          <p:cNvPicPr/>
          <p:nvPr/>
        </p:nvPicPr>
        <p:blipFill>
          <a:blip r:embed="rId3"/>
          <a:stretch/>
        </p:blipFill>
        <p:spPr>
          <a:xfrm>
            <a:off x="6072120" y="128592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  <p:sndAc>
      <p:stSnd>
        <p:snd r:embed="rId4" name="09%20-%20O%20Little%20Town%20of%20Bethlehe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  <p:sndAc>
      <p:stSnd>
        <p:snd r:embed="rId3" name="12%20-%20Silent%20Nigh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214720" y="21420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090"/>
                </a:solidFill>
                <a:latin typeface="Britannic Bold"/>
              </a:rPr>
              <a:t>This is where the show ends. You can sit back and listen to Frank Sinatra’s interpretation of Xmas or click end sh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5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spaar03.gif"/>
          <p:cNvPicPr/>
          <p:nvPr/>
        </p:nvPicPr>
        <p:blipFill>
          <a:blip r:embed="rId2"/>
          <a:stretch/>
        </p:blipFill>
        <p:spPr>
          <a:xfrm>
            <a:off x="7643880" y="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2:14:16Z</dcterms:created>
  <dc:creator>XIBY</dc:creator>
  <dc:description/>
  <dc:language>en-US</dc:language>
  <cp:lastModifiedBy>XIBY</cp:lastModifiedBy>
  <dcterms:modified xsi:type="dcterms:W3CDTF">2008-12-02T16:51:4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12000000000001023720</vt:lpwstr>
  </property>
</Properties>
</file>