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42E-6CC0-420B-A84C-7D350D5E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A6C-A011-4231-AC53-10D76026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ACA-A605-4295-ADD2-82C43A68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3AF-B822-4131-8208-5FF191B1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E27-9FE5-4B65-A641-8E0AC442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0AD-F8F0-44D2-AA91-3C641E8D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E0D-368E-4AF4-861A-4B44028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D27-8E53-4A78-B9B7-963245C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130-B468-4832-AFE4-0BB167E9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255-F5CF-41DC-98B5-F563F20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0F4-10BE-422B-AF52-A63F6F6D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472-9A7D-4509-A26B-8655405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98DF-DDE7-415C-83CB-7222729AA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tommyswindow.com/" TargetMode="External"/><Relationship Id="rId3" Type="http://schemas.openxmlformats.org/officeDocument/2006/relationships/hyperlink" Target="http://www.tommyswindow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4520" y="65826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on your sp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9b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1066680" y="259092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d0"/>
                </a:solidFill>
                <a:effectLst>
                  <a:outerShdw dist="71785" dir="2700000" blurRad="0" rotWithShape="0">
                    <a:srgbClr val="9b9bff">
                      <a:alpha val="50000"/>
                    </a:srgbClr>
                  </a:outerShdw>
                </a:effectLst>
                <a:latin typeface="Abadi MT Condensed Extra Bold"/>
              </a:rPr>
              <a:t>Notable Quotes On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d0"/>
              </a:solidFill>
              <a:effectLst>
                <a:outerShdw dist="71785" dir="2700000" blurRad="0" rotWithShape="0">
                  <a:srgbClr val="9b9bff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3886200"/>
            <a:ext cx="51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b9b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32">
                      <a:alpha val="50000"/>
                    </a:srgbClr>
                  </a:outerShdw>
                </a:effectLst>
                <a:latin typeface="Abadi MT Condensed Extra Bold"/>
              </a:rPr>
              <a:t>HUM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b9bff"/>
                  </a:gs>
                </a:gsLst>
                <a:lin ang="5400000"/>
              </a:gradFill>
              <a:effectLst>
                <a:outerShdw dist="107932" dir="2700000" blurRad="0" rotWithShape="0">
                  <a:srgbClr val="000032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1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2590920"/>
            <a:ext cx="4648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A merry hear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doeth goo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like a medicine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76520" y="4800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969ff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--Proverbs 17:22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969ff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65530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tommyswindow.com</a:t>
            </a:r>
            <a:r>
              <a:rPr b="0" lang="es-CO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6553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For more PowerPoint shows, visi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59436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00009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c8e1ea">
                      <a:alpha val="50000"/>
                    </a:srgbClr>
                  </a:outerShdw>
                </a:effectLst>
                <a:latin typeface="Arial Black"/>
              </a:rPr>
              <a:t>FEEL FREE TO SHARE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000096"/>
                  </a:gs>
                </a:gsLst>
                <a:lin ang="5400000"/>
              </a:gradFill>
              <a:effectLst>
                <a:outerShdw dist="81185" dir="2321969" blurRad="0" rotWithShape="0">
                  <a:srgbClr val="c8e1ea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1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6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9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23880" y="5105520"/>
            <a:ext cx="20574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– </a:t>
            </a: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Proverbs 15:15b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600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“</a:t>
            </a: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He that is of 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a merry heart 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hath a 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71785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continual feast.” 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71785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990720" y="380880"/>
            <a:ext cx="6933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very survival kit shoul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nclude a sense of humor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038480" y="2362320"/>
            <a:ext cx="4343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sense of humo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reduces peopl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nd problems to thei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proper proportion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0948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c8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sense of humor is a test of sanity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c8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38480" y="304812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Genuine humor is alway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kindly &amp; graciou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t points out the weaknes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of humanity, but shows n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ntempt &amp; leaves no sting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73964" dir="1863564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419720" y="380880"/>
            <a:ext cx="4419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 sense of humor can help you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overlook the unattractive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olerate the unpleasant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ope with the unexpected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&amp; smile through the unbearable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09480" y="38088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t's a grand person indeed who can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laugh at himself with others &amp; 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joy it as much as they do.</a:t>
            </a:r>
            <a:endParaRPr b="1" lang="en-US" sz="16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333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457200"/>
            <a:ext cx="4419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b9b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f the World laughs at you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b9b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b9b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laugh right back--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b9b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d0"/>
                    </a:gs>
                    <a:gs pos="100000">
                      <a:srgbClr val="9b9b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t's as funny as you are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d0"/>
                  </a:gs>
                  <a:gs pos="100000">
                    <a:srgbClr val="9b9bff"/>
                  </a:gs>
                </a:gsLst>
                <a:lin ang="54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520" y="3352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Imagination was given to a man to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ompensate him for what he is not;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 sense of humor was provided to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onsole him for what he i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886200" y="380880"/>
            <a:ext cx="4648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Good humor i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e health of the soul;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08f6"/>
                    </a:gs>
                    <a:gs pos="100000">
                      <a:srgbClr val="696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adness, its poison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08f6"/>
                  </a:gs>
                  <a:gs pos="100000">
                    <a:srgbClr val="696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05320" y="33526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A man with a sense of humo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oesn't make jokes out of life;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he merely recognizes the one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f3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hat are there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f3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23:58Z</dcterms:created>
  <dc:creator>Martha</dc:creator>
  <dc:description>Copyright © 2008 Tommy's Window. 
All Rights Reserved
 DO NOT modify.</dc:description>
  <dc:language>en-US</dc:language>
  <cp:lastModifiedBy>Martha</cp:lastModifiedBy>
  <dcterms:modified xsi:type="dcterms:W3CDTF">2008-07-21T20:45:44Z</dcterms:modified>
  <cp:revision>374</cp:revision>
  <dc:subject/>
  <dc:title>Notable quotes on Humor.</dc:title>
</cp:coreProperties>
</file>