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A08-E16B-4369-AB70-76427AB9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029-AC76-4888-81A5-EC2D43DE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E31-BE65-4B2A-B337-3A6C4321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FF6-E438-40D2-949C-9CF7280E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0B2-CEEB-49A1-969C-89D01BF6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55C-16B6-4CA0-B399-4518EF99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67DF-10C2-4243-95E3-F9030142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A51-0168-44EC-9362-021993D7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4471-8754-41C4-B4D9-70018C96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3BF-4B5F-450C-99CB-B586DB06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B68-27E5-4673-935A-D7EB3162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D85-C824-4076-AA62-DE2FAC3A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697C-0DCB-4F1B-A802-A5A80862DD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tommyswindow.com/" TargetMode="External"/><Relationship Id="rId3" Type="http://schemas.openxmlformats.org/officeDocument/2006/relationships/hyperlink" Target="http://www.tommyswindow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4520" y="6476400"/>
            <a:ext cx="39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Times New Roman"/>
              </a:rPr>
              <a:t>Copyright © 2008 Tommy's Window.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3946680"/>
            <a:ext cx="3581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♫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rn on your spea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33760"/>
            <a:ext cx="411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979ff"/>
                </a:solidFill>
                <a:latin typeface="Arial"/>
              </a:rPr>
              <a:t>CLICK TO ADVANCE SL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7960" y="2610000"/>
            <a:ext cx="3324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797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Tommy's Wind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99"/>
                  </a:gs>
                  <a:gs pos="100000">
                    <a:srgbClr val="7979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797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Slides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99"/>
                  </a:gs>
                  <a:gs pos="100000">
                    <a:srgbClr val="7979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2224" r="25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371600" y="3657600"/>
            <a:ext cx="6324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/>
                  </a:outerShdw>
                </a:effectLst>
                <a:latin typeface="Abadi MT Condensed Extra Bold"/>
              </a:rPr>
              <a:t>Hospitalit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89604" dir="2700000" blurRad="0" rotWithShape="0">
                  <a:srgbClr val="000000"/>
                </a:outerShdw>
              </a:effectLst>
              <a:latin typeface="Abadi MT Condensed Extra Bold"/>
              <a:ea typeface="Abadi MT Condensed Extra Bold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95280" y="2438280"/>
            <a:ext cx="6477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71785" dir="2700000" blurRad="0" rotWithShape="0">
                    <a:srgbClr val="000000"/>
                  </a:outerShdw>
                </a:effectLst>
                <a:latin typeface="Abadi MT Condensed Extra Bold"/>
              </a:rPr>
              <a:t>Notable Quotes On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71785" dir="2700000" blurRad="0" rotWithShape="0">
                  <a:srgbClr val="000000"/>
                </a:outerShdw>
              </a:effectLst>
              <a:latin typeface="Abadi MT Condensed Extra Bold"/>
              <a:ea typeface="Abadi MT Condensed Extra Bold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04920" y="533520"/>
            <a:ext cx="4876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0e5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ntertaining subtly declares: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0e500"/>
                  </a:gs>
                </a:gsLst>
                <a:lin ang="5400000"/>
              </a:gra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666880" y="4648320"/>
            <a:ext cx="3581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Hospitality whispers: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9480" y="5486400"/>
            <a:ext cx="7925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0e5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"What is mine is yours!"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0e500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143000"/>
            <a:ext cx="4647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666699">
                      <a:alpha val="50000"/>
                    </a:srgbClr>
                  </a:outerShdw>
                </a:effectLst>
                <a:latin typeface="Arial Black"/>
              </a:rPr>
              <a:t>"This home is mine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666699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666699">
                      <a:alpha val="50000"/>
                    </a:srgbClr>
                  </a:outerShdw>
                </a:effectLst>
                <a:latin typeface="Arial Black"/>
              </a:rPr>
              <a:t>an expression of my personality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666699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666699">
                      <a:alpha val="50000"/>
                    </a:srgbClr>
                  </a:outerShdw>
                </a:effectLst>
                <a:latin typeface="Arial Black"/>
              </a:rPr>
              <a:t>Look, please, and admire."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666699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5105520"/>
            <a:ext cx="5410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"Hospitality should have no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99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other nature than love."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99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76720" y="6400800"/>
            <a:ext cx="2361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--Henrietta Mear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5553" r="0" b="44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838080" y="380880"/>
            <a:ext cx="7696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63504" dir="3183908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Does your home have an 'open door' policy? 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63504" dir="3183908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4876920"/>
            <a:ext cx="7467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Who knows, you might b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'touched by an angel' in the process!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4548240" y="647712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www.tommyswindow.com</a:t>
            </a:r>
            <a:r>
              <a:rPr b="0" lang="es-CO" sz="14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64771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5d2"/>
                </a:solidFill>
                <a:latin typeface="Arial"/>
              </a:rPr>
              <a:t>For more PowerPoint shows, visit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76520" y="1371600"/>
            <a:ext cx="5867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8ba7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Do you regularly have guests over?  </a:t>
            </a:r>
            <a:endParaRPr b="1" lang="en-US" sz="1600" spc="1" strike="noStrike">
              <a:ln w="9360">
                <a:solidFill>
                  <a:srgbClr val="8ba7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00200" y="3809880"/>
            <a:ext cx="57913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You will be a bless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  </a:t>
            </a: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to many in need of help. 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52480" y="2133720"/>
            <a:ext cx="5562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God wants you to be hospitable.  </a:t>
            </a:r>
            <a:endParaRPr b="0" lang="en-US" sz="16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Make your home a place of ministry to </a:t>
            </a:r>
            <a:endParaRPr b="0" lang="en-US" sz="16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all who the Lord sends your way. </a:t>
            </a:r>
            <a:endParaRPr b="0" lang="en-US" sz="16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057400" y="7010280"/>
            <a:ext cx="4952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63504" dir="3183908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O SHARE!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63504" dir="3183908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2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3.33333E-006 -2.22222E-006 L -3.33333E-006 -0.33333 E">
                                      <p:cBhvr>
                                        <p:cTn id="22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8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3333 L -3.33333E-006 -0.23889 E">
                                      <p:cBhvr>
                                        <p:cTn id="243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695" t="3044" r="10032" b="30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80880" y="4572000"/>
            <a:ext cx="5105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979ff"/>
                    </a:gs>
                    <a:gs pos="100000">
                      <a:srgbClr val="7c00d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"Do not forget to entertain stranger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979ff"/>
                  </a:gs>
                  <a:gs pos="100000">
                    <a:srgbClr val="7c00d0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979ff"/>
                    </a:gs>
                    <a:gs pos="100000">
                      <a:srgbClr val="7c00d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for by so doing some people hav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979ff"/>
                  </a:gs>
                  <a:gs pos="100000">
                    <a:srgbClr val="7c00d0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979ff"/>
                    </a:gs>
                    <a:gs pos="100000">
                      <a:srgbClr val="7c00d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entertained angels without knowing it."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979ff"/>
                  </a:gs>
                  <a:gs pos="100000">
                    <a:srgbClr val="7c00d0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3720" y="6248520"/>
            <a:ext cx="1371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979f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Hebrews 13:2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979f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62120" y="380880"/>
            <a:ext cx="7619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Hospitality has been important from ancient tim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to the present day--all over the world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581280" y="28954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e3ebf1"/>
                  </a:solidFill>
                  <a:miter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"Some folks make you feel at home. </a:t>
            </a:r>
            <a:endParaRPr b="1" lang="en-US" sz="1600" spc="1" strike="noStrike">
              <a:ln w="9360">
                <a:solidFill>
                  <a:srgbClr val="e3ebf1"/>
                </a:solidFill>
                <a:miter/>
              </a:ln>
              <a:solidFill>
                <a:srgbClr val="0055d2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e3ebf1"/>
                  </a:solidFill>
                  <a:miter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e3ebf1"/>
                  </a:solidFill>
                  <a:miter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Others make you wish you were." </a:t>
            </a:r>
            <a:endParaRPr b="1" lang="en-US" sz="1600" spc="1" strike="noStrike">
              <a:ln w="9360">
                <a:solidFill>
                  <a:srgbClr val="e3ebf1"/>
                </a:solidFill>
                <a:miter/>
              </a:ln>
              <a:solidFill>
                <a:srgbClr val="0055d2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202360" y="4419720"/>
            <a:ext cx="1655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--Arnold H. Glasow.</a:t>
            </a:r>
            <a:endParaRPr b="1" lang="en-US" sz="16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5181480" y="1676520"/>
            <a:ext cx="34290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979ff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"May we b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979ff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979ff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979ff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a channel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979ff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979ff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of blessings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979ff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979ff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for all that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979ff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979ff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we meet."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979ff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867280" y="5562720"/>
            <a:ext cx="19051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979ff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--Edgar Cayc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979ff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3997" t="9359" r="3997" b="125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371600" y="5181480"/>
            <a:ext cx="6400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"Small cheer and great welcom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makes a merry feast."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124080" y="6477120"/>
            <a:ext cx="2667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--William Shakespear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80880" y="3808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cc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"There is an emanation from the heart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99"/>
                  </a:gs>
                  <a:gs pos="100000">
                    <a:srgbClr val="cc6600"/>
                  </a:gs>
                </a:gsLst>
                <a:lin ang="5400000"/>
              </a:gra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cc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in genuine hospitality which cannot b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99"/>
                  </a:gs>
                  <a:gs pos="100000">
                    <a:srgbClr val="cc6600"/>
                  </a:gs>
                </a:gsLst>
                <a:lin ang="5400000"/>
              </a:gra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cc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cc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described, but is immediately felt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99"/>
                  </a:gs>
                  <a:gs pos="100000">
                    <a:srgbClr val="cc6600"/>
                  </a:gs>
                </a:gsLst>
                <a:lin ang="5400000"/>
              </a:gra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cc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nd puts the stranger at once at his ease."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99"/>
                  </a:gs>
                  <a:gs pos="100000">
                    <a:srgbClr val="cc6600"/>
                  </a:gs>
                </a:gsLst>
                <a:lin ang="5400000"/>
              </a:gra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480" y="2286000"/>
            <a:ext cx="2438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--Washington Irving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5002" t="6040" r="5935" b="7230"/>
          <a:stretch/>
        </p:blipFill>
        <p:spPr>
          <a:xfrm>
            <a:off x="0" y="0"/>
            <a:ext cx="9144000" cy="7026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80880" y="380880"/>
            <a:ext cx="4953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Difference between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"hospitality" and "entertaining":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23880" y="1828800"/>
            <a:ext cx="2590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ntertaining says: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76360" y="3581280"/>
            <a:ext cx="26384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Hospitality says: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562720"/>
            <a:ext cx="472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b2b2b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Hospitality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99"/>
                  </a:gs>
                  <a:gs pos="100000">
                    <a:srgbClr val="b2b2b2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b2b2b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aims to serve!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99"/>
                  </a:gs>
                  <a:gs pos="100000">
                    <a:srgbClr val="b2b2b2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295280" y="24382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"I want to impress you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with my home, my clever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decorating, my cooking."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4114800"/>
            <a:ext cx="4191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"This home is a gift from my Master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I use it as He desires."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6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7.77778E-006 L 3.33333E-006 -0.49999 E">
                                      <p:cBhvr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6666"/>
            </a:outerShdw>
          </a:effectLst>
        </p:spPr>
      </p:pic>
      <p:sp>
        <p:nvSpPr>
          <p:cNvPr id="74" name=""/>
          <p:cNvSpPr txBox="1"/>
          <p:nvPr/>
        </p:nvSpPr>
        <p:spPr>
          <a:xfrm>
            <a:off x="4191120" y="22860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df9dbe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ntertaining puts things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99"/>
                  </a:gs>
                  <a:gs pos="100000">
                    <a:srgbClr val="df9dbe"/>
                  </a:gs>
                </a:gsLst>
                <a:lin ang="5400000"/>
              </a:gra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df9dbe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before people: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99"/>
                  </a:gs>
                  <a:gs pos="100000">
                    <a:srgbClr val="df9dbe"/>
                  </a:gs>
                </a:gsLst>
                <a:lin ang="5400000"/>
              </a:gra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10666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As soon as I get the house finished, the living room decorated, my house-cleaning done -  then I will start inviting peo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438280" y="5029200"/>
            <a:ext cx="4114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df9dbe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Hospitality puts people first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99"/>
                  </a:gs>
                  <a:gs pos="100000">
                    <a:srgbClr val="df9dbe"/>
                  </a:gs>
                </a:gsLst>
                <a:lin ang="5400000"/>
              </a:gra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5514840"/>
            <a:ext cx="6933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No furniture - we'll eat on the floor!"                                         "The decorating may never get done -  you come anyway."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The house is a mess - but you are friends -                                come home with us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16:23:58Z</dcterms:created>
  <dc:creator>Martha</dc:creator>
  <dc:description>Copyright © 2008 Tommy's Window. 
All Rights Reserved
 DO NOT modify.</dc:description>
  <dc:language>en-US</dc:language>
  <cp:lastModifiedBy>Martha</cp:lastModifiedBy>
  <dcterms:modified xsi:type="dcterms:W3CDTF">2008-10-21T00:19:00Z</dcterms:modified>
  <cp:revision>408</cp:revision>
  <dc:subject/>
  <dc:title>Notable quotes on Hospitality</dc:title>
</cp:coreProperties>
</file>