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C4E-A060-4A17-8AD0-B9003941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C68-9825-475E-B74B-8176B25E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816-4997-4C56-A52E-333D5F54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63A-9AC7-42C1-80B0-BD74FB88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7CD-3E18-4F3A-BE87-12295A16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E56-9C91-4B34-9E53-18031A40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126-71F6-470B-8634-A6D6DD54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375-2C90-486E-98DA-0F053EEA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13A-F4B3-4F09-80AD-C1574A43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9A7-BDF3-4771-9B9B-FD993827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35D-F851-4439-9C92-D39B8C3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1DC-21DB-495D-AC12-B046D455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721B-B998-48EC-B3F4-54AD5D9494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tommyswindow.com/" TargetMode="External"/><Relationship Id="rId3" Type="http://schemas.openxmlformats.org/officeDocument/2006/relationships/hyperlink" Target="http://www.tommyswindow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487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1805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4520" y="6582600"/>
            <a:ext cx="39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Times New Roman"/>
              </a:rPr>
              <a:t>Copyright © 2008 Tommy's Window.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946680"/>
            <a:ext cx="3581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 on your spea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43376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a7ff"/>
                </a:solidFill>
                <a:latin typeface="Arial"/>
              </a:rPr>
              <a:t>CLICK TO ADVANCE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47960" y="2610000"/>
            <a:ext cx="3324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ommy's Window</a:t>
            </a:r>
            <a:endParaRPr b="1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lideshow</a:t>
            </a:r>
            <a:endParaRPr b="1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276120"/>
            <a:ext cx="8686800" cy="6343920"/>
          </a:xfrm>
          <a:prstGeom prst="rect">
            <a:avLst/>
          </a:prstGeom>
          <a:ln w="9360">
            <a:solidFill>
              <a:srgbClr val="000086"/>
            </a:solidFill>
            <a:miter/>
          </a:ln>
        </p:spPr>
      </p:pic>
      <p:sp>
        <p:nvSpPr>
          <p:cNvPr id="48" name=""/>
          <p:cNvSpPr txBox="1"/>
          <p:nvPr/>
        </p:nvSpPr>
        <p:spPr>
          <a:xfrm>
            <a:off x="1828800" y="274320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000054"/>
                </a:solidFill>
                <a:effectLst>
                  <a:outerShdw dist="107932" dir="2700000" blurRad="0" rotWithShape="0">
                    <a:srgbClr val="000032">
                      <a:alpha val="50000"/>
                    </a:srgbClr>
                  </a:outerShdw>
                </a:effectLst>
                <a:latin typeface="Abadi MT Condensed Extra Bold"/>
              </a:rPr>
              <a:t>Notable Quotes On: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000054"/>
              </a:solidFill>
              <a:effectLst>
                <a:outerShdw dist="107932" dir="2700000" blurRad="0" rotWithShape="0">
                  <a:srgbClr val="000032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4038480"/>
            <a:ext cx="5334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7596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32">
                      <a:alpha val="50000"/>
                    </a:srgbClr>
                  </a:outerShdw>
                </a:effectLst>
                <a:latin typeface="Abadi MT Condensed Extra Bold"/>
              </a:rPr>
              <a:t>WISDO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7596ff"/>
                  </a:gs>
                </a:gsLst>
                <a:lin ang="5400000"/>
              </a:gradFill>
              <a:effectLst>
                <a:outerShdw dist="107932" dir="2700000" blurRad="0" rotWithShape="0">
                  <a:srgbClr val="000032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7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50000">
                <a:srgbClr val="6969ff"/>
              </a:gs>
              <a:gs pos="100000">
                <a:srgbClr val="0000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9360">
            <a:solidFill>
              <a:srgbClr val="6969ff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457200" y="457200"/>
            <a:ext cx="3962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For the Lord giveth wisdom: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out of His mouth cometh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knowledge and understanding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327672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If any of you lack wisdom, let him ask of God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that giveth to all men liberally, and upbraideth not;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and it shall be given him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64008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tommyswindow.com</a:t>
            </a:r>
            <a:r>
              <a:rPr b="0" lang="es-CO" sz="1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64008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Arial"/>
              </a:rPr>
              <a:t>For more PowerPoint shows, visi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8120" y="586728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009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FEEL FREE TO SHARE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0096"/>
                  </a:gs>
                </a:gsLst>
                <a:lin ang="5400000"/>
              </a:gradFill>
              <a:effectLst>
                <a:outerShdw dist="81185" dir="2321969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00200" y="2133720"/>
            <a:ext cx="1676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Proverbs 2:6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1280" y="4952880"/>
            <a:ext cx="1676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James 1:5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2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26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50000">
                <a:srgbClr val="3f3fff"/>
              </a:gs>
              <a:gs pos="100000">
                <a:srgbClr val="0000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9360">
            <a:solidFill>
              <a:srgbClr val="6969ff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685800" y="380880"/>
            <a:ext cx="792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It is better to understand a little 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than to misunderstand a lot.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4952880"/>
            <a:ext cx="3886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6b6ce"/>
                  </a:solidFill>
                  <a:miter/>
                </a:ln>
                <a:solidFill>
                  <a:srgbClr val="333399"/>
                </a:solidFill>
                <a:effectLst>
                  <a:outerShdw dist="71785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To profit from good advice </a:t>
            </a:r>
            <a:endParaRPr b="1" lang="en-US" sz="1600" spc="1" strike="noStrike">
              <a:ln w="9360">
                <a:solidFill>
                  <a:srgbClr val="b6b6ce"/>
                </a:solidFill>
                <a:miter/>
              </a:ln>
              <a:solidFill>
                <a:srgbClr val="333399"/>
              </a:solidFill>
              <a:effectLst>
                <a:outerShdw dist="71785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6b6ce"/>
                  </a:solidFill>
                  <a:miter/>
                </a:ln>
                <a:solidFill>
                  <a:srgbClr val="333399"/>
                </a:solidFill>
                <a:effectLst>
                  <a:outerShdw dist="71785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requires more wisdom </a:t>
            </a:r>
            <a:endParaRPr b="1" lang="en-US" sz="1600" spc="1" strike="noStrike">
              <a:ln w="9360">
                <a:solidFill>
                  <a:srgbClr val="b6b6ce"/>
                </a:solidFill>
                <a:miter/>
              </a:ln>
              <a:solidFill>
                <a:srgbClr val="333399"/>
              </a:solidFill>
              <a:effectLst>
                <a:outerShdw dist="71785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6b6ce"/>
                  </a:solidFill>
                  <a:miter/>
                </a:ln>
                <a:solidFill>
                  <a:srgbClr val="333399"/>
                </a:solidFill>
                <a:effectLst>
                  <a:outerShdw dist="71785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than to give it.</a:t>
            </a:r>
            <a:endParaRPr b="1" lang="en-US" sz="1600" spc="1" strike="noStrike">
              <a:ln w="9360">
                <a:solidFill>
                  <a:srgbClr val="b6b6ce"/>
                </a:solidFill>
                <a:miter/>
              </a:ln>
              <a:solidFill>
                <a:srgbClr val="333399"/>
              </a:solidFill>
              <a:effectLst>
                <a:outerShdw dist="71785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50000">
                <a:srgbClr val="6969ff"/>
              </a:gs>
              <a:gs pos="100000">
                <a:srgbClr val="0000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4715" t="6385" r="4564" b="681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9360">
            <a:solidFill>
              <a:srgbClr val="6969ff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3124080" y="4572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00c8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Knowledge is knowing facts;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00c8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00c8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wisdom is knowing what to d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00c8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00c8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with the facts you know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00c8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480060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Wisdom is meek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73964" dir="1863564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t's not smart-alecky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73964" dir="1863564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t's not show-off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73964" dir="1863564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50000">
                <a:srgbClr val="3f3fff"/>
              </a:gs>
              <a:gs pos="100000">
                <a:srgbClr val="0000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8379" b="0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9360">
            <a:solidFill>
              <a:srgbClr val="6969ff"/>
            </a:solidFill>
            <a:miter/>
          </a:ln>
        </p:spPr>
      </p:pic>
      <p:sp>
        <p:nvSpPr>
          <p:cNvPr id="60" name=""/>
          <p:cNvSpPr txBox="1"/>
          <p:nvPr/>
        </p:nvSpPr>
        <p:spPr>
          <a:xfrm>
            <a:off x="685800" y="380880"/>
            <a:ext cx="784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00009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wise man appears ridiculous in the company of fools.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00009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4952880"/>
            <a:ext cx="4191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word to the wise is sufficient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but to the foolish you hav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o be more specific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50000">
                <a:srgbClr val="3f3fff"/>
              </a:gs>
              <a:gs pos="100000">
                <a:srgbClr val="0000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7649" t="10756" r="7649" b="10756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9360">
            <a:solidFill>
              <a:srgbClr val="6969ff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533520" y="457200"/>
            <a:ext cx="5333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e highest wisdom is neve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o worry about the futur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but to resign ourselves entirely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o His Will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19720" y="5181480"/>
            <a:ext cx="4190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If you're not wiser tomorrow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than you were yesterday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you're not very wise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50000">
                <a:srgbClr val="2408f6"/>
              </a:gs>
              <a:gs pos="100000">
                <a:srgbClr val="0000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65240"/>
            <a:ext cx="8839440" cy="6540480"/>
          </a:xfrm>
          <a:prstGeom prst="rect">
            <a:avLst/>
          </a:prstGeom>
          <a:ln w="9360">
            <a:solidFill>
              <a:srgbClr val="6969ff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68580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e3ebf1">
                      <a:alpha val="50000"/>
                    </a:srgbClr>
                  </a:outerShdw>
                </a:effectLst>
                <a:latin typeface="Arial Black"/>
              </a:rPr>
              <a:t>A wise man changes his mind sometime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53966" dir="2700000" blurRad="0" rotWithShape="0">
                  <a:srgbClr val="e3ebf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e3ebf1">
                      <a:alpha val="50000"/>
                    </a:srgbClr>
                  </a:outerShdw>
                </a:effectLst>
                <a:latin typeface="Arial Black"/>
              </a:rPr>
              <a:t>a fool never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53966" dir="2700000" blurRad="0" rotWithShape="0">
                  <a:srgbClr val="e3ebf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0" y="525780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By others' fault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wise men correc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eir own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50000">
                <a:srgbClr val="6969ff"/>
              </a:gs>
              <a:gs pos="100000">
                <a:srgbClr val="0000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472" t="2423" r="4010" b="2423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9360">
            <a:solidFill>
              <a:srgbClr val="6969ff"/>
            </a:solidFill>
            <a:miter/>
          </a:ln>
        </p:spPr>
      </p:pic>
      <p:sp>
        <p:nvSpPr>
          <p:cNvPr id="72" name=""/>
          <p:cNvSpPr txBox="1"/>
          <p:nvPr/>
        </p:nvSpPr>
        <p:spPr>
          <a:xfrm>
            <a:off x="2362320" y="457200"/>
            <a:ext cx="6172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good deal of trouble has been caused in the World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by too much knowledge and too little wisdom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472428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If you give some people too much knowledg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without wisdom, they invent atom bombs and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war machines and spaceships and go abou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making war and shooting off into space whil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47920" y="6172200"/>
            <a:ext cx="31240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millions are starving to death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3852" t="5957" r="3852" b="11472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3240">
            <a:solidFill>
              <a:srgbClr val="6969ff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533520" y="457200"/>
            <a:ext cx="3276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that knows no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nd knows no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at he knows not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is a fool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—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hun him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2514600"/>
            <a:ext cx="3200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that knows no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nd knows tha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knows not,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is simpl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—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each him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4724280"/>
            <a:ext cx="2743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that know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nd knows no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at he know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is asleep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—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wake him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181480" y="457200"/>
            <a:ext cx="3276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that know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nd know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at he know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is a wise man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257800" y="2743200"/>
            <a:ext cx="304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—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FOLLOW HIM!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50000">
                <a:srgbClr val="6969ff"/>
              </a:gs>
              <a:gs pos="100000">
                <a:srgbClr val="0000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9360">
            <a:solidFill>
              <a:srgbClr val="6969ff"/>
            </a:solidFill>
            <a:miter/>
          </a:ln>
        </p:spPr>
      </p:pic>
      <p:sp>
        <p:nvSpPr>
          <p:cNvPr id="84" name=""/>
          <p:cNvSpPr txBox="1"/>
          <p:nvPr/>
        </p:nvSpPr>
        <p:spPr>
          <a:xfrm>
            <a:off x="3733920" y="457200"/>
            <a:ext cx="5029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232335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good man does not hesitate to admit </a:t>
            </a:r>
            <a:endParaRPr b="1" lang="en-US" sz="1600" spc="1" strike="noStrike">
              <a:ln w="9360">
                <a:solidFill>
                  <a:srgbClr val="232335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232335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has been in the wrong. </a:t>
            </a:r>
            <a:endParaRPr b="1" lang="en-US" sz="1600" spc="1" strike="noStrike">
              <a:ln w="9360">
                <a:solidFill>
                  <a:srgbClr val="232335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232335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 takes comfort in knowing he is wiser </a:t>
            </a:r>
            <a:endParaRPr b="1" lang="en-US" sz="1600" spc="1" strike="noStrike">
              <a:ln w="9360">
                <a:solidFill>
                  <a:srgbClr val="232335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232335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oday than he was yesterday.</a:t>
            </a:r>
            <a:endParaRPr b="1" lang="en-US" sz="1600" spc="1" strike="noStrike">
              <a:ln w="9360">
                <a:solidFill>
                  <a:srgbClr val="232335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586728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The fear of the Lord is the beginning of knowledge: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but fools despise wisdom and instruction (Pro.1:7)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23:58Z</dcterms:created>
  <dc:creator>Martha</dc:creator>
  <dc:description>Copyright © 2008 Tommy's Window. 
All Rights Reserved
 DO NOT modify.</dc:description>
  <dc:language>en-US</dc:language>
  <cp:lastModifiedBy>Martha</cp:lastModifiedBy>
  <dcterms:modified xsi:type="dcterms:W3CDTF">2008-06-27T21:20:47Z</dcterms:modified>
  <cp:revision>360</cp:revision>
  <dc:subject/>
  <dc:title>Notable quotes on Wisdom.</dc:title>
</cp:coreProperties>
</file>