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Nachtegaal%20Serenade%201.wav" ContentType="audio/x-wav"/>
  <Override PartName="/ppt/media/image20.jpeg" ContentType="image/jpeg"/>
  <Override PartName="/ppt/media/image3.gif" ContentType="image/gif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8B9-F32A-4945-9B41-8D97AD55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952-B3DE-4CF2-A444-3D51987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594-30B6-42AF-90D8-31FB99CF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012-809D-40BD-BE36-603DB498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D30-F8DF-4E1F-86B4-2811DB5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EF2-A12A-44A7-A160-572A3DF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75A-92F8-4F60-839B-3DE1AA9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FB6-1D14-4AF0-922D-1D04480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67F-F287-4D93-97E4-709AA09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F7B-AA4E-4247-80CE-5C7EC02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CA2-325A-4404-9240-8F1CD8C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EE5-9E5A-4F9F-B0A1-A63587B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4AA-0088-40A2-AE94-403143AE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Nachtegaal%20Serenade%201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4643280" y="6381720"/>
            <a:ext cx="29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Vonck</dc:creator>
  <dc:description/>
  <dc:language>en-US</dc:language>
  <cp:lastModifiedBy>Vonck</cp:lastModifiedBy>
  <dcterms:modified xsi:type="dcterms:W3CDTF">2009-01-17T15:02:08Z</dcterms:modified>
  <cp:revision>14</cp:revision>
  <dc:subject/>
  <dc:title>Dia 1</dc:title>
</cp:coreProperties>
</file>