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ricochet.wav" ContentType="audio/x-wav"/>
  <Override PartName="/ppt/media/image4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WindSpiritByBillMiller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F8C-9769-41ED-928D-B3D5BAFC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0F0-9201-430E-9369-BEF5833E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C24-8455-4814-82DA-8E2D2D5C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F4C-04E4-46C7-81A1-5B9C55B2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1C8-5484-43FF-95A7-9D3A4DE5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476-9929-4BB3-BA4D-A4CA073C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5F3-6CC2-4157-A160-A818B3F7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6CF-6585-414A-83D3-B96E8B6C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F98-EB16-48FF-B1DA-AEADE7A1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9FC-16CD-47F0-B411-E43358B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2AF-FCE2-4CA4-A16B-9D8828B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AC7-F32F-450F-9156-41DD8C63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6C50-A0D6-41B4-8A75-0B0DC3E14C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SpiritByBillMille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3640" y="4292640"/>
            <a:ext cx="54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hiller"/>
              </a:rPr>
              <a:t>Paradoxes of Our Ti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19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iller"/>
              </a:rPr>
              <a:t>Click for Next Slide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WindSpiritByBillMill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3357720"/>
            <a:ext cx="6048360" cy="3500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907920"/>
            <a:ext cx="7237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More leisure and less fu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More kinds of foods, but less nutr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wo incomes, but more divo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ancier houses, but broken ho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1640" y="404640"/>
            <a:ext cx="741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at’s why I propose, that as of today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you don’t keep anything for special occasions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because every day you live is a special occa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79720"/>
            <a:ext cx="4643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earch for knowledge. Read more. Sit on your front porch and admire the view without paying attention to your nee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pend more time with your family and frie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at your favorite foods and visit the places you lo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4797360"/>
            <a:ext cx="813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Life is a chain of moments of enjoyment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not only about surviv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your crystal goblets. Don’t save your best perfume, use it every time you feel you want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260280"/>
            <a:ext cx="8820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emove from your vocabulary phrases lik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“one of these days“ and “someday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rite that letter you’ve thought about wri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ell your family and friends how much you love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on’t delay anything that adds laughter and joy to your lif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ery day, every hour, and every minute is spe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You don’t know if it will be your la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91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you’re too busy to take the time to send this message to someone you love and you tell yourself you will send it “one of these days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581360"/>
            <a:ext cx="76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You won’t be here to send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3789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ne of these day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342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Believe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 m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175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675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175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634000" cy="3811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765000"/>
            <a:ext cx="777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oday we have bigger hous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nd smaller famil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ore conveniences, but less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692280"/>
            <a:ext cx="7850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e have more degre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ut less common se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ore knowledge, but less judgme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6048720" cy="364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112536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e have more experts, but more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ore medicine, but less we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3836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51280" y="1413000"/>
            <a:ext cx="4970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e spend too recklessl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augh too litt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rive too fas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Get too angry too quickl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y up too l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ad too litt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atch TV too mu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urier New"/>
              </a:rPr>
              <a:t>And pray too seldom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6264360" cy="3573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20640"/>
            <a:ext cx="84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e’ve multiplied our possession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ut reduced our va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e talk too much, love too littl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nd lie too of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6022800" cy="3933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92280"/>
            <a:ext cx="8426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e’ve learned how to make a living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but not a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e’ve added years to life, not life to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259080" cy="390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48000" y="301680"/>
            <a:ext cx="579600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 have taller buildings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but shorter tempe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ider freeways, but narrower view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 spend more, but have l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 buy more, but enjoy it l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’ve been all the way to the moon and back, but have trouble crossing the street to meet our neighbo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’ve conquered outer spa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But not inner sp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’ve split the atom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But not our prejud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8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6028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 write more, learn less; plan more, but accomplish l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’ve learned to rush, but not to wa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 have higher incomes, but lower mora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1640" y="1844640"/>
            <a:ext cx="493236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 build more computer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o hold more information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o produce more copi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ourier New"/>
              </a:rPr>
              <a:t>Bu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ave less communicat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e are long on quantity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But short on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ese are the times of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ast foods and slow digestio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all men and short charac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30:04Z</dcterms:created>
  <dc:creator> </dc:creator>
  <dc:description/>
  <dc:language>en-US</dc:language>
  <cp:lastModifiedBy>DHFS</cp:lastModifiedBy>
  <dcterms:modified xsi:type="dcterms:W3CDTF">2006-05-03T19:58:53Z</dcterms:modified>
  <cp:revision>9</cp:revision>
  <dc:subject/>
  <dc:title>Slide 1</dc:title>
</cp:coreProperties>
</file>