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2.jpeg" ContentType="image/jpeg"/>
  <Override PartName="/ppt/media/sound002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121-3DD9-41C8-856F-67EAC9AD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C3D-E296-4AB8-A454-3D870C3F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6B7-EC76-44DE-A67A-BCE4F1B6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465-63E9-4848-B414-D58C0E5E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6AA0-07E1-4F70-B8A7-9A12C2C3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AE88-36E3-46F0-961E-9787B87A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FB2-BB4A-416E-AB1B-3B3F4766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572E-69E3-41ED-8F9F-6A7C5BD1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7175-AE2C-41ED-8BFB-A08B6ADC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662-19F8-4955-A120-C42199D5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3533-05F7-4DBE-8B83-A1F79A9E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40E-EA40-4A0F-BAE0-C68B17D1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B957-1B9A-421E-BFA8-EC53F636D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planetbossi.ch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79280" y="1643040"/>
            <a:ext cx="8713800" cy="33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DAFF-F175-4F07-AADB-E8E1FD9F9921}" type="datetime2">
              <a:rPr b="0" lang="de-DE" sz="4000" spc="-1" strike="noStrike">
                <a:solidFill>
                  <a:srgbClr val="00cc66"/>
                </a:solidFill>
                <a:latin typeface="Comic Sans MS"/>
              </a:rPr>
              <a:t>Donnerstag, 30. Juli 2026</a:t>
            </a:fld>
            <a:r>
              <a:rPr b="0" lang="de-DE" sz="4000" spc="-1" strike="noStrike">
                <a:solidFill>
                  <a:srgbClr val="00cc66"/>
                </a:solidFill>
                <a:latin typeface="Comic Sans MS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cc66"/>
                </a:solidFill>
                <a:latin typeface="Comic Sans MS"/>
              </a:rPr>
              <a:t>    </a:t>
            </a:r>
            <a:r>
              <a:rPr b="0" lang="fr-FR" sz="4000" spc="-1" strike="noStrike">
                <a:solidFill>
                  <a:srgbClr val="00cc66"/>
                </a:solidFill>
                <a:latin typeface="Comic Sans MS"/>
              </a:rPr>
              <a:t>Es ist </a:t>
            </a:r>
            <a:fld id="{2A230771-C1E4-4103-A3B5-554207BEA4EE}" type="datetime10">
              <a:rPr b="0" lang="nl-BE" sz="4000" spc="-1" strike="noStrike">
                <a:solidFill>
                  <a:srgbClr val="00cc66"/>
                </a:solidFill>
                <a:latin typeface="Comic Sans MS"/>
              </a:rPr>
              <a:t>02:14</a:t>
            </a:fld>
            <a:r>
              <a:rPr b="0" lang="nl-BE" sz="4000" spc="-1" strike="noStrike">
                <a:solidFill>
                  <a:srgbClr val="00cc66"/>
                </a:solidFill>
                <a:latin typeface="Comic Sans MS"/>
              </a:rPr>
              <a:t> Uhr 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cc66"/>
                </a:solidFill>
                <a:latin typeface="Comic Sans MS"/>
              </a:rPr>
              <a:t>        </a:t>
            </a:r>
            <a:r>
              <a:rPr b="0" lang="nl-BE" sz="4000" spc="-1" strike="noStrike">
                <a:solidFill>
                  <a:srgbClr val="00cc66"/>
                </a:solidFill>
                <a:latin typeface="Comic Sans MS"/>
              </a:rPr>
              <a:t>Zeit, sich zu entspannen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el 1"/>
          <p:cNvSpPr/>
          <p:nvPr/>
        </p:nvSpPr>
        <p:spPr>
          <a:xfrm>
            <a:off x="3851280" y="5786280"/>
            <a:ext cx="47926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cc66"/>
                </a:solidFill>
                <a:latin typeface="Comic Sans MS"/>
              </a:rPr>
              <a:t>... und die schönen Bilder zu genieß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7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eart French New Caledon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image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Nile Valley Egypt"/>
          <p:cNvPicPr/>
          <p:nvPr/>
        </p:nvPicPr>
        <p:blipFill>
          <a:blip r:embed="rId1"/>
          <a:stretch/>
        </p:blipFill>
        <p:spPr>
          <a:xfrm>
            <a:off x="19810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highway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606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bas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26" descr="tomato"/>
          <p:cNvPicPr/>
          <p:nvPr/>
        </p:nvPicPr>
        <p:blipFill>
          <a:blip r:embed="rId1"/>
          <a:stretch/>
        </p:blipFill>
        <p:spPr>
          <a:xfrm>
            <a:off x="1116000" y="-27000"/>
            <a:ext cx="6912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kolejka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ra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feltow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lond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ro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Stonehen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Rio de Janeir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lion1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z ld cany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amutgy 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Nouakchott Mauritan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Karava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6" descr="gouden golv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Ondertitel 2"/>
          <p:cNvSpPr/>
          <p:nvPr/>
        </p:nvSpPr>
        <p:spPr>
          <a:xfrm>
            <a:off x="285840" y="5643720"/>
            <a:ext cx="378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ndertitel 2"/>
          <p:cNvSpPr/>
          <p:nvPr/>
        </p:nvSpPr>
        <p:spPr>
          <a:xfrm>
            <a:off x="5148360" y="260280"/>
            <a:ext cx="3171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c000"/>
                </a:solidFill>
                <a:latin typeface="Comic Sans MS"/>
              </a:rPr>
              <a:t>... Liebe Grüß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179280" y="2703600"/>
            <a:ext cx="8856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www.planetbossi.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26" descr="ratzush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ink Flamingos Kenya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S0951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26" descr="popanda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Untitled-2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03:38:57Z</dcterms:created>
  <dc:creator/>
  <dc:description/>
  <dc:language>en-US</dc:language>
  <cp:lastModifiedBy>Bossi</cp:lastModifiedBy>
  <dcterms:modified xsi:type="dcterms:W3CDTF">2009-04-18T21:30:14Z</dcterms:modified>
  <cp:revision>4</cp:revision>
  <dc:subject/>
  <dc:title>Folie 1</dc:title>
</cp:coreProperties>
</file>