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berceuse_andre_rieu.wav" ContentType="audio/x-wav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31C-C595-4915-9E70-F250230E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8D7-6F11-4AED-87DE-0C152252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4CE-8324-41A4-A0FF-E2B8ADE7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F6A-3992-4A9C-AC00-F89585B9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548-7013-4AEE-88D8-CFCA7C9C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6A6-6136-46CE-B7E3-3B5ED734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C55-A848-4635-BD1B-B8899FE8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834-8E81-478B-912C-B53CD18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E30-B706-4332-9AE2-4952A15B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70E-7AA8-431A-8270-DEB1590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688-913F-457C-9D75-C4068FD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768-6356-442B-B1F8-149B27DF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EE74-D477-440D-8BFA-F2590EF9B09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audio" Target="../media/berceuse_andre_rieu.wav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21440" cy="71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6200" y="5734080"/>
            <a:ext cx="7850160" cy="72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29379" r="0" b="0"/>
          <a:stretch/>
        </p:blipFill>
        <p:spPr>
          <a:xfrm>
            <a:off x="0" y="2349360"/>
            <a:ext cx="803160" cy="374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34920" y="2997360"/>
            <a:ext cx="7272360" cy="2590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5"/>
          <a:srcRect l="0" t="32108" r="0" b="0"/>
          <a:stretch/>
        </p:blipFill>
        <p:spPr>
          <a:xfrm>
            <a:off x="8362800" y="2421000"/>
            <a:ext cx="781200" cy="374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060640" y="333360"/>
            <a:ext cx="5022720" cy="28764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10000" y="981000"/>
            <a:ext cx="3922560" cy="360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Fade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Bahamas"/>
              <a:ea typeface="Bahamas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148428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33cc"/>
                </a:solidFill>
                <a:latin typeface="Arial"/>
              </a:rPr>
              <a:t>Schlaflied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de-CH" sz="2400" spc="-1" strike="noStrike">
                <a:solidFill>
                  <a:srgbClr val="ff3300"/>
                </a:solidFill>
                <a:latin typeface="Arial"/>
              </a:rPr>
              <a:t>Lulaby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- André R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  <p:sndAc>
      <p:stSnd>
        <p:snd r:embed="rId6" name="berceuse_andre_rie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913800" cy="4680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96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842160" cy="4680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102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69440" cy="47862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108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553440" cy="482472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114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553080" cy="47818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120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624720" cy="488952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126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" descr=""/>
          <p:cNvPicPr/>
          <p:nvPr/>
        </p:nvPicPr>
        <p:blipFill>
          <a:blip r:embed="rId5"/>
          <a:srcRect l="0" t="2754" r="0" b="2681"/>
          <a:stretch/>
        </p:blipFill>
        <p:spPr>
          <a:xfrm>
            <a:off x="1187280" y="1125360"/>
            <a:ext cx="6769440" cy="4896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1116000" y="1125360"/>
            <a:ext cx="6840720" cy="48610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258920" y="1125360"/>
            <a:ext cx="6697800" cy="48610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840720" cy="487872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150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6472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5300640"/>
            <a:ext cx="8280360" cy="5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611280" cy="460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532720" y="1125360"/>
            <a:ext cx="611280" cy="4535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55640" y="1773360"/>
            <a:ext cx="7632720" cy="3240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16000" y="1052640"/>
            <a:ext cx="6912000" cy="4994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116000" y="1052640"/>
            <a:ext cx="6912000" cy="491472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116000" y="1125360"/>
            <a:ext cx="6912000" cy="48070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ransition spd="slow" advTm="4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" descr=""/>
          <p:cNvPicPr/>
          <p:nvPr/>
        </p:nvPicPr>
        <p:blipFill>
          <a:blip r:embed="rId5"/>
          <a:srcRect l="5122" t="6946" r="5122" b="6946"/>
          <a:stretch/>
        </p:blipFill>
        <p:spPr>
          <a:xfrm>
            <a:off x="1116000" y="1052640"/>
            <a:ext cx="6912000" cy="4868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 advTm="4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1339920"/>
            <a:ext cx="6912000" cy="41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33cc"/>
                </a:solidFill>
                <a:latin typeface="Bahamas"/>
              </a:rPr>
              <a:t>Wähle jetzt das Tier welches am besten zu </a:t>
            </a:r>
            <a:r>
              <a:rPr b="1" lang="fr-BE" sz="4800" spc="-1" strike="noStrike">
                <a:solidFill>
                  <a:srgbClr val="0033cc"/>
                </a:solidFill>
                <a:latin typeface="Bahamas"/>
              </a:rPr>
              <a:t>dir</a:t>
            </a:r>
            <a:r>
              <a:rPr b="0" lang="fr-BE" sz="4000" spc="-1" strike="noStrike">
                <a:solidFill>
                  <a:srgbClr val="0033cc"/>
                </a:solidFill>
                <a:latin typeface="Bahamas"/>
              </a:rPr>
              <a:t> passt...</a:t>
            </a:r>
            <a:br>
              <a:rPr sz="4000"/>
            </a:br>
            <a:br>
              <a:rPr sz="4000"/>
            </a:br>
            <a:r>
              <a:rPr b="0" lang="fr-BE" sz="4000" spc="-1" strike="noStrike">
                <a:solidFill>
                  <a:srgbClr val="ff3300"/>
                </a:solidFill>
                <a:latin typeface="Bahamas"/>
              </a:rPr>
              <a:t>Choose now the animal </a:t>
            </a:r>
            <a:br>
              <a:rPr sz="4000"/>
            </a:br>
            <a:r>
              <a:rPr b="0" lang="fr-BE" sz="4000" spc="-1" strike="noStrike">
                <a:solidFill>
                  <a:srgbClr val="ff3300"/>
                </a:solidFill>
                <a:latin typeface="Bahamas"/>
              </a:rPr>
              <a:t>resembling </a:t>
            </a:r>
            <a:r>
              <a:rPr b="1" lang="fr-BE" sz="4800" spc="-1" strike="noStrike">
                <a:solidFill>
                  <a:srgbClr val="ff3300"/>
                </a:solidFill>
                <a:latin typeface="Bahamas"/>
              </a:rPr>
              <a:t>you</a:t>
            </a:r>
            <a:r>
              <a:rPr b="0" lang="fr-BE" sz="4000" spc="-1" strike="noStrike">
                <a:solidFill>
                  <a:srgbClr val="ff3300"/>
                </a:solidFill>
                <a:latin typeface="Bahamas"/>
              </a:rPr>
              <a:t> bes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95280" y="260280"/>
            <a:ext cx="8351640" cy="6337080"/>
            <a:chOff x="395280" y="260280"/>
            <a:chExt cx="8351640" cy="633708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682560" y="26028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753840" y="603144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395280" y="65664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8232840" y="65664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696000" cy="51847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6165360"/>
            <a:ext cx="8229600" cy="69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981000"/>
            <a:ext cx="6696000" cy="54007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cc"/>
                </a:solidFill>
                <a:latin typeface="Arial"/>
              </a:rPr>
              <a:t>Nein, nicht mich mein Lieber: Du bist viel zu hässlich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3300"/>
                </a:solidFill>
                <a:latin typeface="Arial"/>
              </a:rPr>
              <a:t>No, not me my dear: You are too ugly…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84360" y="260280"/>
            <a:ext cx="7919640" cy="5544720"/>
            <a:chOff x="684360" y="260280"/>
            <a:chExt cx="7919640" cy="55447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956520" y="260280"/>
              <a:ext cx="7374960" cy="49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1024200" y="5310000"/>
              <a:ext cx="7307280" cy="49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684360" y="606960"/>
              <a:ext cx="487800" cy="492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8116560" y="606960"/>
              <a:ext cx="487440" cy="478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1258920" y="5229360"/>
            <a:ext cx="6696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64720" cy="587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5589720"/>
            <a:ext cx="828036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611280" cy="460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532720" y="1125360"/>
            <a:ext cx="611280" cy="468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55640" y="1700280"/>
            <a:ext cx="7561440" cy="37036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ransition spd="slow"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83640" cy="41133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60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12000" cy="45370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66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12000" cy="4437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72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985080" cy="43992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78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13440" cy="45370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84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913800" cy="45561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90" name=""/>
          <p:cNvGrpSpPr/>
          <p:nvPr/>
        </p:nvGrpSpPr>
        <p:grpSpPr>
          <a:xfrm>
            <a:off x="395280" y="333360"/>
            <a:ext cx="8351640" cy="6337080"/>
            <a:chOff x="395280" y="333360"/>
            <a:chExt cx="8351640" cy="633708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682560" y="333360"/>
              <a:ext cx="777708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753840" y="6104520"/>
              <a:ext cx="7705800" cy="5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395280" y="729720"/>
              <a:ext cx="514440" cy="56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8232840" y="729720"/>
              <a:ext cx="514080" cy="546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2:43:57Z</dcterms:created>
  <dc:creator>Rik</dc:creator>
  <dc:description/>
  <dc:language>en-US</dc:language>
  <cp:lastModifiedBy>Werner Baenziger</cp:lastModifiedBy>
  <dcterms:modified xsi:type="dcterms:W3CDTF">2009-02-05T02:54:45Z</dcterms:modified>
  <cp:revision>7</cp:revision>
  <dc:subject/>
  <dc:title>Gelijkeniseen</dc:title>
</cp:coreProperties>
</file>