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10.Steppe,%20oh%20Steppe-Wave%20mono.wav" ContentType="audio/x-wav"/>
  <Override PartName="/ppt/media/image29.jpeg" ContentType="image/jpeg"/>
  <Override PartName="/ppt/media/image37.gif" ContentType="image/gif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40.gif" ContentType="image/gif"/>
  <Override PartName="/ppt/media/image3.png" ContentType="image/png"/>
  <Override PartName="/ppt/media/image17.jpeg" ContentType="image/jpeg"/>
  <Override PartName="/ppt/media/image1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7CB1-4629-41B1-8DC2-EAD8B025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F48-30CE-43DC-8EAB-3B0CB881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1A1-6E8E-4286-849A-90CE5A95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5C2-D370-4918-AEF5-68B4C3DF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955-D954-49EE-89BE-39DBC762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0BA-251F-4304-8F56-A9FBBD22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1235-CE9F-48E5-AC7A-E6387E25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15F-3604-41A6-9557-02364F9B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AC0-E48F-43AB-9C33-2A69F376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6FE-7ABA-412C-ADB8-7520A97E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DBF-F41B-4801-86AD-C2A573F2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3B0-F7E0-4232-AB90-BB364D5B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132A-21D3-475A-B4A4-5DE9CCD8D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audio" Target="../media/10.Steppe,%20oh%20Steppe-Wave%20mono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8.gif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40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843280" y="189000"/>
            <a:ext cx="28861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R T  OF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24000" y="1341360"/>
            <a:ext cx="4876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TOGRAPHY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5300640"/>
            <a:ext cx="45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eppe ,oh Stepp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438000" y="6237360"/>
            <a:ext cx="21088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3D65-7A04-4048-9B30-76A3DA5C2E5C}" type="datetime">
              <a:rPr b="0" lang="ro-RO" sz="1800" spc="-1" strike="noStrike">
                <a:solidFill>
                  <a:srgbClr val="3399ff"/>
                </a:solidFill>
                <a:latin typeface="Arial"/>
              </a:rPr>
              <a:t>30.07.26</a:t>
            </a:fld>
            <a:r>
              <a:rPr b="0" lang="ro-RO" sz="1800" spc="-1" strike="noStrike">
                <a:solidFill>
                  <a:srgbClr val="3399ff"/>
                </a:solidFill>
                <a:latin typeface="Arial"/>
              </a:rPr>
              <a:t> </a:t>
            </a:r>
            <a:fld id="{B0A17047-4D0C-42D5-B32D-AC0A589B27E8}" type="datetime12">
              <a:rPr b="0" lang="ro-RO" sz="1800" spc="-1" strike="noStrike">
                <a:solidFill>
                  <a:srgbClr val="3399ff"/>
                </a:solidFill>
                <a:latin typeface="Arial"/>
              </a:rPr>
              <a:t>02:11 AM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410600" y="4581360"/>
            <a:ext cx="1733400" cy="2276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51280" y="3357720"/>
            <a:ext cx="1066680" cy="14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700360" y="2421000"/>
            <a:ext cx="3753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GOR ZENIN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3000">
    <p:random/>
    <p:sndAc>
      <p:stSnd>
        <p:snd r:embed="rId4" name="10.Steppe,%20oh%20Steppe-Wave%20mon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2608" t="3499" r="2214" b="44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2665" t="3999" r="2174" b="39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תמונה 9" descr="AC cu poza porumbel-2  C.gif"/>
          <p:cNvPicPr/>
          <p:nvPr/>
        </p:nvPicPr>
        <p:blipFill>
          <a:blip r:embed="rId2"/>
          <a:stretch/>
        </p:blipFill>
        <p:spPr>
          <a:xfrm>
            <a:off x="684360" y="393372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83" name="תמונה 6" descr="porumbel.gif"/>
          <p:cNvPicPr/>
          <p:nvPr/>
        </p:nvPicPr>
        <p:blipFill>
          <a:blip r:embed="rId3"/>
          <a:stretch/>
        </p:blipFill>
        <p:spPr>
          <a:xfrm>
            <a:off x="2050920" y="4149720"/>
            <a:ext cx="587520" cy="433440"/>
          </a:xfrm>
          <a:prstGeom prst="rect">
            <a:avLst/>
          </a:prstGeom>
          <a:ln w="0">
            <a:noFill/>
          </a:ln>
        </p:spPr>
      </p:pic>
      <p:pic>
        <p:nvPicPr>
          <p:cNvPr id="84" name="תמונה 7" descr="porumbel.gif"/>
          <p:cNvPicPr/>
          <p:nvPr/>
        </p:nvPicPr>
        <p:blipFill>
          <a:blip r:embed="rId4"/>
          <a:stretch/>
        </p:blipFill>
        <p:spPr>
          <a:xfrm flipH="1">
            <a:off x="1116000" y="4149720"/>
            <a:ext cx="649440" cy="487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sha193yc5"/>
          <p:cNvPicPr/>
          <p:nvPr/>
        </p:nvPicPr>
        <p:blipFill>
          <a:blip r:embed="rId5"/>
          <a:stretch/>
        </p:blipFill>
        <p:spPr>
          <a:xfrm>
            <a:off x="6948360" y="4548240"/>
            <a:ext cx="2489400" cy="2309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8388360" y="6021360"/>
            <a:ext cx="5428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.C.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4211640" y="2421000"/>
            <a:ext cx="1440000" cy="1154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284720" y="476280"/>
            <a:ext cx="3933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 H E   E N D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xit" presetID="53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3745" t="3325" r="3745" b="73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17:54:36Z</dcterms:created>
  <dc:creator>Adriana Ciobanu</dc:creator>
  <dc:description/>
  <dc:language>en-US</dc:language>
  <cp:lastModifiedBy>maritim</cp:lastModifiedBy>
  <dcterms:modified xsi:type="dcterms:W3CDTF">2009-08-09T17:45:14Z</dcterms:modified>
  <cp:revision>6</cp:revision>
  <dc:subject>ART PHOTO</dc:subject>
  <dc:title>ART OF PHOTOGRAPHY-IGOR ZENIN..pps</dc:title>
</cp:coreProperties>
</file>