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Phil%20Coulter%20-%20If%20tomorrow%20never%20comes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0B8C-0BB9-464D-AA4A-E098D7A9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E044-C4DD-4FA6-9908-AA3F8B60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8FDA-2ABC-4751-B197-83E7E6F0E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138D-2B61-4A20-A6F1-7F2F25B08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7080-86F5-4AD0-9E3D-EEFD79F3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3865-DD5D-4D66-AEF1-7BC25878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7FEE-70BA-461E-BCAC-CEC31BCA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5EA0-2AEC-4A56-BEF7-C7920CB4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4509-6744-48F0-BF41-BF446C4F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F632-1369-4719-8718-3E9BEA3B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917D-ECD2-49F7-804F-C454300C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A2EC-83B3-4958-84D8-60A966CF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57EB-0453-4696-975F-65D3B1A0F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Phil%20Coulter%20-%20If%20tomorrow%20never%20comes.wav"/><Relationship Id="rId5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562880" y="5373720"/>
            <a:ext cx="1581120" cy="1095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692360" y="260280"/>
            <a:ext cx="5832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olute"/>
              </a:rPr>
              <a:t>SAM'S STORY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Volute"/>
              <a:ea typeface="Volute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79280" y="5445000"/>
            <a:ext cx="1224000" cy="1121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916360" y="2421000"/>
            <a:ext cx="3790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olute"/>
              </a:rPr>
              <a:t>Victoria, Australi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olute"/>
              </a:rPr>
              <a:t>February 7, 200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Volute"/>
              <a:ea typeface="Volute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92360" y="5877000"/>
            <a:ext cx="6048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olute"/>
              </a:rPr>
              <a:t>Slides advance automatically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Volute"/>
              <a:ea typeface="Volute"/>
            </a:endParaRPr>
          </a:p>
        </p:txBody>
      </p:sp>
    </p:spTree>
  </p:cSld>
  <p:transition spd="slow" advTm="14000">
    <p:fade/>
    <p:sndAc>
      <p:stSnd>
        <p:snd r:embed="rId4" name="Phil%20Coulter%20-%20If%20tomorrow%20never%20co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473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50760" y="230040"/>
            <a:ext cx="729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187280" y="5958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47640" y="404640"/>
            <a:ext cx="6048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ESkimo kiss - david tree i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reunited with sam for th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first time since her rescue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4360" y="2852640"/>
            <a:ext cx="7632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koalas can identify people they know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from their scent,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and sam was at ease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with david immediately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</p:txBody>
      </p:sp>
    </p:spTree>
  </p:cSld>
  <p:transition spd="slow" advTm="15000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flipV="1">
            <a:off x="755640" y="525240"/>
            <a:ext cx="691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71640" y="333360"/>
            <a:ext cx="7056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old buddies. . .DAVID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spends some time with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sam in the comfort of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the shelter. . 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</p:txBody>
      </p:sp>
    </p:spTree>
  </p:cSld>
  <p:transition spd="slow" advTm="15000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55640" y="444600"/>
            <a:ext cx="748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58920" y="404640"/>
            <a:ext cx="684216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Enter bob. . .he was also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taken to the shelter,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after his feet were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scorched in the inferno. . 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</p:txBody>
      </p:sp>
    </p:spTree>
  </p:cSld>
  <p:transition spd="slow" advTm="10000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66760" y="393840"/>
            <a:ext cx="8050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9280" y="476280"/>
            <a:ext cx="5894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Love at first sight. . 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</p:txBody>
      </p:sp>
    </p:spTree>
  </p:cSld>
  <p:transition spd="slow" advTm="10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4818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763640" y="549360"/>
            <a:ext cx="59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63640" y="404640"/>
            <a:ext cx="5616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Bob puts his paw around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his new friend and fellow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fire survivor, sam, as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she recovers from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her burns. . 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</p:txBody>
      </p:sp>
    </p:spTree>
  </p:cSld>
  <p:transition spd="slow" advTm="15000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633240" y="404640"/>
            <a:ext cx="787752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side by side, the two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koalas were given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painkillers when they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first arrived at the shelter, but are coping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without them, now. . 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</p:txBody>
      </p:sp>
    </p:spTree>
  </p:cSld>
  <p:transition spd="slow" advTm="15000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84360" y="333360"/>
            <a:ext cx="66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476280"/>
            <a:ext cx="4032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protective. . . bob hugs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girlfriend, sam, as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they huddle together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in their cage. . 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</p:txBody>
      </p:sp>
    </p:spTree>
  </p:cSld>
  <p:transition spd="slow" advTm="15000"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11280" y="33336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979640" y="260280"/>
            <a:ext cx="5616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lucky - sam and bob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are a sign of hope,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so many other animals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didn't make it out of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the inferno alive. . 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</p:txBody>
      </p:sp>
    </p:spTree>
  </p:cSld>
  <p:transition spd="slow" advTm="15000"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395280" y="333360"/>
            <a:ext cx="7848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Sam lived in bushland like this. . .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</p:txBody>
      </p:sp>
    </p:spTree>
  </p:cSld>
  <p:transition spd="slow" advTm="700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olute"/>
              </a:rPr>
              <a:t>TO BE CONTINUED 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686800" y="6126120"/>
            <a:ext cx="1332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6200" y="4869000"/>
            <a:ext cx="83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olute"/>
              </a:rPr>
              <a:t>Photos from the melbourne herald-sun wh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olute"/>
              </a:rPr>
              <a:t>Excellent coverage gave us these touching pho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6200" y="5775480"/>
            <a:ext cx="80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olute"/>
              </a:rPr>
              <a:t>Music: “If tomorrow never comes” - phil cou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1403280" y="198900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3429000"/>
            <a:ext cx="79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26920" y="333360"/>
            <a:ext cx="73566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   </a:t>
            </a: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before it was ravaged by bush fires. . . 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1557360"/>
            <a:ext cx="8424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since her photos were flashed around the world,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she Has become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11280" y="3213000"/>
            <a:ext cx="75564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AUSTRALIA'S Most famou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KOAL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</p:txBody>
      </p:sp>
    </p:spTree>
  </p:cSld>
  <p:transition spd="slow" advTm="15000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-900000" y="0"/>
            <a:ext cx="100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684360" y="333360"/>
            <a:ext cx="7200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A bewildered and badly  burned koala,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979640" y="1268280"/>
            <a:ext cx="4181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Sam is comforted by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country fire authority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volunteer, david tree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42920" y="3141720"/>
            <a:ext cx="65721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who rescued her after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deadly fires swept through areas of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mirboo north. . 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</p:txBody>
      </p:sp>
    </p:spTree>
  </p:cSld>
  <p:transition spd="slow" advTm="16000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19120" y="352440"/>
            <a:ext cx="722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332000" y="84348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260280"/>
            <a:ext cx="804852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Thirsty. . . . rescuer David gives Sam some water.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50920" y="1628640"/>
            <a:ext cx="856908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the koala, who suffered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second and third degree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burns to her paws, was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taken to southern ash wildlife shelter,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south-east of melbourne. . 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</p:txBody>
      </p:sp>
    </p:spTree>
  </p:cSld>
  <p:transition spd="slow" advTm="15000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6978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547640" y="476280"/>
            <a:ext cx="5977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WITH TLC, SA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HAS HER PAINFUL FEET bandaged 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Volute"/>
              </a:rPr>
              <a:t>the shelter. . 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Volute"/>
              <a:ea typeface="Volute"/>
            </a:endParaRPr>
          </a:p>
        </p:txBody>
      </p:sp>
    </p:spTree>
  </p:cSld>
  <p:transition spd="slow" advTm="15000"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5436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1:16:38Z</dcterms:created>
  <dc:creator>user</dc:creator>
  <dc:description/>
  <dc:language>en-US</dc:language>
  <cp:lastModifiedBy>user</cp:lastModifiedBy>
  <dcterms:modified xsi:type="dcterms:W3CDTF">2009-02-14T08:05:52Z</dcterms:modified>
  <cp:revision>6</cp:revision>
  <dc:subject/>
  <dc:title>Slide 1</dc:title>
</cp:coreProperties>
</file>