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B5C-AAD6-4BC6-B828-FE551015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2AF-5422-4A5E-B26A-E83B3D7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722-1661-49F2-B232-8B433100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FAF-984D-4A92-AA45-D70D76C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3C9-A8BD-479E-96FA-AB9B4F5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337-9300-4430-A72E-A9A4AD32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3C8-727F-4A01-9949-04ED37D8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6A2-A58E-4863-A80B-6D77362B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0CE-2F85-4357-8EF1-366A7C3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C8C-A1EA-4A71-B832-1AEBF97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55E-597F-4A06-8C83-6F3FA35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747-5DC0-4EA9-8BF5-1865B49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C1D-C13E-41BF-84BD-8DC879A7CD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hyperlink" Target="http://www.tommyswindow.com/" TargetMode="External"/><Relationship Id="rId4" Type="http://schemas.openxmlformats.org/officeDocument/2006/relationships/hyperlink" Target="http://www.tommyswindow.com/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a7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23814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19320" y="2362320"/>
            <a:ext cx="6933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rial Black"/>
              </a:rPr>
              <a:t>Sanity Savers 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6477120"/>
            <a:ext cx="2590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ext by Andrew Matey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rcRect l="0" t="0" r="97505" b="0"/>
          <a:stretch/>
        </p:blipFill>
        <p:spPr>
          <a:xfrm>
            <a:off x="8686800" y="0"/>
            <a:ext cx="2286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0" r="97505" b="0"/>
          <a:stretch/>
        </p:blipFill>
        <p:spPr>
          <a:xfrm>
            <a:off x="228600" y="0"/>
            <a:ext cx="2286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33333E-006 -5.20231E-006 L -3.33333E-006 -0.26636 E">
                                      <p:cBhvr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114800" y="3733920"/>
            <a:ext cx="3962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63504" dir="3183908" blurRad="0" rotWithShape="0">
                    <a:srgbClr val="000000"/>
                  </a:outerShdw>
                </a:effectLst>
                <a:latin typeface="Arial Black"/>
              </a:rPr>
              <a:t>My solution?</a:t>
            </a:r>
            <a:endParaRPr b="1" lang="en-US" sz="16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63504" dir="318390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Every morning I wake up to what seems like a list of two million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things I think I need to get done before the sun set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86200" y="1752480"/>
            <a:ext cx="4419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I used to push myself to the limi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003db8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physically and mentally, but stil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003db8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rarely accomplished everything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003db8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I had planned, and that left m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003db8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003db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frustrated and stressed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003db8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4800600"/>
            <a:ext cx="7925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I came up with a list of five things to help m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162c42"/>
                  </a:outerShdw>
                </a:effectLst>
                <a:latin typeface="Arial Black"/>
              </a:rPr>
              <a:t>get more done without feeling so pressured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162c42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0" t="0" r="97505" b="0"/>
          <a:stretch/>
        </p:blipFill>
        <p:spPr>
          <a:xfrm>
            <a:off x="8686800" y="0"/>
            <a:ext cx="2286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rcRect l="2223" t="2282" r="26708" b="6980"/>
          <a:stretch/>
        </p:blipFill>
        <p:spPr>
          <a:xfrm>
            <a:off x="380880" y="1447920"/>
            <a:ext cx="3048120" cy="29718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  <p:sp>
        <p:nvSpPr>
          <p:cNvPr id="60" name=""/>
          <p:cNvSpPr txBox="1"/>
          <p:nvPr/>
        </p:nvSpPr>
        <p:spPr>
          <a:xfrm>
            <a:off x="838080" y="5791320"/>
            <a:ext cx="7010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Believe it or not, none of them ar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work harder" or "go faster"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9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2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3720" y="380880"/>
            <a:ext cx="63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3399"/>
                  </a:outerShdw>
                </a:effectLst>
                <a:latin typeface="Arial Black"/>
              </a:rPr>
              <a:t>Pray for solution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0033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04920"/>
            <a:ext cx="1067040" cy="1143000"/>
          </a:xfrm>
          <a:prstGeom prst="ellipse">
            <a:avLst/>
          </a:prstGeom>
          <a:solidFill>
            <a:srgbClr val="336699"/>
          </a:solidFill>
          <a:ln w="28440">
            <a:solidFill>
              <a:srgbClr val="cc99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533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31319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739bb9"/>
                  </a:outerShdw>
                </a:effectLst>
                <a:latin typeface="Arial Black"/>
              </a:rPr>
              <a:t>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313193"/>
                  </a:gs>
                </a:gsLst>
                <a:lin ang="5400000"/>
              </a:gradFill>
              <a:effectLst>
                <a:outerShdw dist="40186" dir="4303641" blurRad="0" rotWithShape="0">
                  <a:srgbClr val="739bb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1295280"/>
            <a:ext cx="6705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When we ask God in prayer for the help He has promised us in His Word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is sets heavenly forces to work on our behalf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2971800"/>
            <a:ext cx="4495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So when I begin to feel pressured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stop and ask Him to work out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whatever situation is putting me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under stress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6019920"/>
            <a:ext cx="78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is is getting at the root of the problem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not just dealing with the symptom, the stress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32640" y="2286000"/>
            <a:ext cx="2658960" cy="32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  <p:transition spd="med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133720" y="533520"/>
            <a:ext cx="632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3399"/>
                  </a:outerShdw>
                </a:effectLst>
                <a:latin typeface="Arial Black"/>
              </a:rPr>
              <a:t>Still my spirit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0033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04920"/>
            <a:ext cx="1067040" cy="1143000"/>
          </a:xfrm>
          <a:prstGeom prst="ellipse">
            <a:avLst/>
          </a:prstGeom>
          <a:solidFill>
            <a:srgbClr val="336699"/>
          </a:solidFill>
          <a:ln w="28440">
            <a:solidFill>
              <a:srgbClr val="cc99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533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31319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739bb9"/>
                  </a:outerShdw>
                </a:effectLst>
                <a:latin typeface="Arial Black"/>
              </a:rPr>
              <a:t>2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313193"/>
                  </a:gs>
                </a:gsLst>
                <a:lin ang="5400000"/>
              </a:gradFill>
              <a:effectLst>
                <a:outerShdw dist="40186" dir="4303641" blurRad="0" rotWithShape="0">
                  <a:srgbClr val="739bb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67080" y="2514600"/>
            <a:ext cx="4267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All prayers aren't answered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nstantaneously, of course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so I also pray for God to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still my spirit and help me to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rust Him for the outcome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105520"/>
            <a:ext cx="7848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spend a few moments meditating on God and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urning my worries and concerns over to Him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Jesus says, "Come to Me, all you who labor and are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heavy laden, and you will find rest for your souls."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3657600" y="6477120"/>
            <a:ext cx="1371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Matthew 11:28-29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2089080"/>
            <a:ext cx="3505320" cy="247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133720" y="380880"/>
            <a:ext cx="63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3399"/>
                  </a:outerShdw>
                </a:effectLst>
                <a:latin typeface="Arial Black"/>
              </a:rPr>
              <a:t>Plan and organize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0033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04920"/>
            <a:ext cx="1067040" cy="1143000"/>
          </a:xfrm>
          <a:prstGeom prst="ellipse">
            <a:avLst/>
          </a:prstGeom>
          <a:solidFill>
            <a:srgbClr val="336699"/>
          </a:solidFill>
          <a:ln w="28440">
            <a:solidFill>
              <a:srgbClr val="cc99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533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31319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739bb9"/>
                  </a:outerShdw>
                </a:effectLst>
                <a:latin typeface="Arial Black"/>
              </a:rPr>
              <a:t>3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313193"/>
                  </a:gs>
                </a:gsLst>
                <a:lin ang="5400000"/>
              </a:gradFill>
              <a:effectLst>
                <a:outerShdw dist="40186" dir="4303641" blurRad="0" rotWithShape="0">
                  <a:srgbClr val="739bb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52480" y="129528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e Bible advises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"Let all things be done decently and in order"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(1 Corinthians 14:40)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57600" y="26668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have found that by planning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my day the night before,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 </a:t>
            </a: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can free myself of much of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e stress on even the busiest of days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24080" y="4495680"/>
            <a:ext cx="541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start with a list of everything I need to do or would like to do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set priorities, and pare down the list to what seems realistic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>
            <a:off x="3048120" y="5257800"/>
            <a:ext cx="5562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en I plan the order in which to do them, including my route and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ravel times, estimating on the outside to allow for the unexpected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19320" y="60199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f everything doesn't fit, I cut some more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Having a solid plan sets my mind at ease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rcRect l="6261" t="0" r="3001" b="0"/>
          <a:stretch/>
        </p:blipFill>
        <p:spPr>
          <a:xfrm>
            <a:off x="304920" y="1981080"/>
            <a:ext cx="24382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  <p:transition spd="med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1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133720" y="533520"/>
            <a:ext cx="6324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3399"/>
                  </a:outerShdw>
                </a:effectLst>
                <a:latin typeface="Arial Black"/>
              </a:rPr>
              <a:t>Take break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0033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04920"/>
            <a:ext cx="1067040" cy="1143000"/>
          </a:xfrm>
          <a:prstGeom prst="ellipse">
            <a:avLst/>
          </a:prstGeom>
          <a:solidFill>
            <a:srgbClr val="336699"/>
          </a:solidFill>
          <a:ln w="28440">
            <a:solidFill>
              <a:srgbClr val="cc99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533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31319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739bb9"/>
                  </a:outerShdw>
                </a:effectLst>
                <a:latin typeface="Arial Black"/>
              </a:rPr>
              <a:t>4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313193"/>
                  </a:gs>
                </a:gsLst>
                <a:lin ang="5400000"/>
              </a:gradFill>
              <a:effectLst>
                <a:outerShdw dist="40186" dir="4303641" blurRad="0" rotWithShape="0">
                  <a:srgbClr val="739bb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1523880"/>
            <a:ext cx="670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Friends who work in offices, banks, schools, and other busy workplaces tell me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"That's impossible! I don't have the time for breaks."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7432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But I've found that a break doesn't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have to take 30 minutes or an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hour to be effective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Five minutes or less will usually do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1148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drink a glass of water and step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outside for a deep breath of fresh air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Or if I can't do that, I look out a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window or lean back and close my eyes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838080" y="5715000"/>
            <a:ext cx="7239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 </a:t>
            </a: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Relaxing physically helps to calm my mind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e next hour or two usually go so much better that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t's clear those five minutes were a good investment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8462" t="0" r="0" b="0"/>
          <a:stretch/>
        </p:blipFill>
        <p:spPr>
          <a:xfrm>
            <a:off x="4952880" y="2590920"/>
            <a:ext cx="3448080" cy="270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  <p:transition spd="med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8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133720" y="380880"/>
            <a:ext cx="63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3399"/>
                  </a:outerShdw>
                </a:effectLst>
                <a:latin typeface="Arial Black"/>
              </a:rPr>
              <a:t>Stay positive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0033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04920"/>
            <a:ext cx="1067040" cy="1143000"/>
          </a:xfrm>
          <a:prstGeom prst="ellipse">
            <a:avLst/>
          </a:prstGeom>
          <a:solidFill>
            <a:srgbClr val="336699"/>
          </a:solidFill>
          <a:ln w="28440">
            <a:solidFill>
              <a:srgbClr val="cc9900"/>
            </a:solidFill>
            <a:miter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533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400a4"/>
                    </a:gs>
                    <a:gs pos="100000">
                      <a:srgbClr val="31319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739bb9"/>
                  </a:outerShdw>
                </a:effectLst>
                <a:latin typeface="Arial Black"/>
              </a:rPr>
              <a:t>5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400a4"/>
                  </a:gs>
                  <a:gs pos="100000">
                    <a:srgbClr val="313193"/>
                  </a:gs>
                </a:gsLst>
                <a:lin ang="5400000"/>
              </a:gradFill>
              <a:effectLst>
                <a:outerShdw dist="40186" dir="4303641" blurRad="0" rotWithShape="0">
                  <a:srgbClr val="739bb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76520" y="1371600"/>
            <a:ext cx="670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No matter how carefully I plan my day, there are times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when things go wrong or the unexpected happens.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304812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nstead of panicking or getting frazzled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 make a conscious effort to look for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the good, to focus on possible solutions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not the problem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548640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So there you have it..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10080" y="2286000"/>
            <a:ext cx="289584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  <p:sp>
        <p:nvSpPr>
          <p:cNvPr id="109" name=""/>
          <p:cNvSpPr txBox="1"/>
          <p:nvPr/>
        </p:nvSpPr>
        <p:spPr>
          <a:xfrm>
            <a:off x="609480" y="6095880"/>
            <a:ext cx="7848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—</a:t>
            </a: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five sanity savers that don't require any special genius, 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just a little discipline and practice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1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6666" r="87889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0" r="97505" b="0"/>
          <a:stretch/>
        </p:blipFill>
        <p:spPr>
          <a:xfrm>
            <a:off x="88390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1066680" y="30492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3399"/>
                  </a:outerShdw>
                </a:effectLst>
                <a:latin typeface="Times New Roman"/>
              </a:rPr>
              <a:t>Do you want a new lease on life?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33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06668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You can have one, but you have to be willing to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let go of the pressures that drive you now.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76840" y="65214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www.tommyswindow.com</a:t>
            </a:r>
            <a:r>
              <a:rPr b="0" lang="es-CO" sz="16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5214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For more PowerPoint shows, visi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24080" y="6019920"/>
            <a:ext cx="2743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39bb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71785" dir="2700000" blurRad="0" rotWithShape="0">
                    <a:srgbClr val="000000"/>
                  </a:outerShdw>
                </a:effectLst>
                <a:latin typeface="Arial Black"/>
              </a:rPr>
              <a:t>TO SHARE!</a:t>
            </a:r>
            <a:endParaRPr b="0" lang="en-US" sz="1800" spc="1" strike="noStrike">
              <a:ln w="9360">
                <a:solidFill>
                  <a:srgbClr val="739bb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7178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81080" y="487692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1c54"/>
                  </a:outerShdw>
                </a:effectLst>
                <a:latin typeface="Times New Roman"/>
              </a:rPr>
              <a:t>It's up to you!</a:t>
            </a:r>
            <a:endParaRPr b="0" lang="en-US" sz="1600" spc="1" strike="noStrike">
              <a:ln w="9360">
                <a:solidFill>
                  <a:srgbClr val="cc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1c54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rcRect l="0" t="0" r="97505" b="0"/>
          <a:stretch/>
        </p:blipFill>
        <p:spPr>
          <a:xfrm>
            <a:off x="152280" y="0"/>
            <a:ext cx="15264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2438280" y="1981080"/>
            <a:ext cx="4114800" cy="255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</p:pic>
    </p:spTree>
  </p:cSld>
  <p:transition spd="med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9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7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7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08-11T14:08:54Z</dcterms:modified>
  <cp:revision>229</cp:revision>
  <dc:subject/>
  <dc:title>Sanity Savers  </dc:title>
</cp:coreProperties>
</file>