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AA7-824F-4D5B-AF20-69961EDC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075-BA85-48AB-A529-662FAE89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5AD-39FF-4B55-8482-9D4117F8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D0C-2444-4CF2-8408-537579FA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CAC-A79C-4A06-8D66-60D00852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7C1-F3C0-4344-863E-4C687477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074-7DC0-4D7C-BC2B-B71589DC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CB0-D3C7-4B40-9AAE-43A3F52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771-67D9-4106-98E4-21BEF1EA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405-CC91-4232-8385-1CB3BD52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3B5-655D-4026-8EEA-6DBEFDA7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04B-2916-4B9A-89DC-A82CABE5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5B81-EFC5-4EC3-AF0C-422DF101A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4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ddddd"/>
                </a:solidFill>
                <a:latin typeface="Academy Engraved LET"/>
              </a:rPr>
              <a:t>Photos from the Serenget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5486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6400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62200" y="985680"/>
            <a:ext cx="561960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7315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7315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38480" y="1076400"/>
            <a:ext cx="46670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38480" y="800280"/>
            <a:ext cx="4667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38480" y="581040"/>
            <a:ext cx="4667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640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72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7315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72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315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38480" y="1085760"/>
            <a:ext cx="46670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62200" y="1238400"/>
            <a:ext cx="56196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640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315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7315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38480" y="957240"/>
            <a:ext cx="46670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562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43320" y="685800"/>
            <a:ext cx="425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7315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391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1:45:28Z</dcterms:created>
  <dc:creator>Jan Lewis</dc:creator>
  <dc:description/>
  <dc:language>en-US</dc:language>
  <cp:lastModifiedBy>Jan Lewis</cp:lastModifiedBy>
  <dcterms:modified xsi:type="dcterms:W3CDTF">2008-01-23T11:45:29Z</dcterms:modified>
  <cp:revision>1</cp:revision>
  <dc:subject/>
  <dc:title>Photos from the Serengeti</dc:title>
</cp:coreProperties>
</file>