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!00aVogel-Musik.wav" ContentType="audio/x-wav"/>
  <Override PartName="/ppt/media/image3.jpeg" ContentType="image/jpeg"/>
  <Override PartName="/ppt/media/image24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2FF-B360-485A-B1B9-AED990BD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2B3-C715-4221-A8D9-708D0C5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5EB-A85E-4F3E-AB19-815CC975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4C5-BA6F-46D2-99E9-6A2C1915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76C-9C74-4D9F-B00F-A8B1CAA8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1EB-437B-4A0C-AE41-45DC344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600-AD58-41D1-8F34-C03A837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2337-A9E1-447C-93E9-3B9017E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18A-7FA6-4637-86D1-66E9802E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594-7FC9-4FF6-928E-A997617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740A-C087-4155-862C-AB0513D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F1D-DFE6-43DE-8315-9CA1CB6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A7E-DA14-4041-B610-B48261F6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2A7-23AB-49B3-BA6C-C612F7E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F13E-3F72-4B6E-BFFD-C7E7A87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73F6-C0B6-4557-9107-E877557E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A4E1-A818-45C6-9458-FACCA1E4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20F-CE3B-4234-884E-2001EF6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5E9-C40D-4596-BCC5-ECD01C4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E6C-F2F8-424D-8374-BF2B0E64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DC5-A035-4EA7-BAD6-3EE13E0E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93E-53E9-4450-A3D8-5821041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5B4-8248-4592-B983-C9FA7053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B14-7BDF-436C-8E0E-7A98AE7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DBD-C87D-4C87-B96C-A3A27D3AD4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E44-2D02-41DA-A764-C2D4BCB62EC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audio" Target="../media/!00aVogel-Musik.wav"/><Relationship Id="rId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57801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imes New Roman"/>
              </a:rPr>
              <a:t>Muzica: Viktor Vogel 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plendoarea</a:t>
            </a:r>
            <a:r>
              <a:rPr b="1" lang="ro-RO" sz="2400" spc="-1" strike="noStrike">
                <a:solidFill>
                  <a:srgbClr val="ffffcc"/>
                </a:solidFill>
                <a:latin typeface="Times New Roman"/>
              </a:rPr>
              <a:t> primăve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52480" y="2057400"/>
            <a:ext cx="560880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SIMFONIA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PRIMĂVERII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44280" y="0"/>
            <a:ext cx="4616280" cy="692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0" y="-39600"/>
            <a:ext cx="4616280" cy="6924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680" y="765000"/>
            <a:ext cx="220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66"/>
                </a:solidFill>
                <a:latin typeface="Mistral"/>
              </a:rPr>
              <a:t>Ne pas Cliquer</a:t>
            </a:r>
            <a:br>
              <a:rPr sz="2800"/>
            </a:br>
            <a:r>
              <a:rPr b="0" lang="fr-FR" sz="2800" spc="-1" strike="noStrike">
                <a:solidFill>
                  <a:srgbClr val="ff0066"/>
                </a:solidFill>
                <a:latin typeface="Mistral"/>
              </a:rPr>
              <a:t>Don’t Click</a:t>
            </a:r>
            <a:br>
              <a:rPr sz="2800"/>
            </a:br>
            <a:r>
              <a:rPr b="0" lang="fr-FR" sz="2800" spc="-1" strike="noStrike">
                <a:solidFill>
                  <a:srgbClr val="ff0066"/>
                </a:solidFill>
                <a:latin typeface="Mistral"/>
              </a:rPr>
              <a:t>     @+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5400000">
            <a:off x="7905240" y="5655960"/>
            <a:ext cx="22392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Bang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5400000">
            <a:off x="8437320" y="6151320"/>
            <a:ext cx="189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5400000">
            <a:off x="8061120" y="5765760"/>
            <a:ext cx="190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400000">
            <a:off x="8023680" y="5738040"/>
            <a:ext cx="18900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5400000">
            <a:off x="8061120" y="5765760"/>
            <a:ext cx="190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260280"/>
            <a:ext cx="8642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5400000">
            <a:off x="8383320" y="6097320"/>
            <a:ext cx="18900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5400000">
            <a:off x="8096760" y="5810760"/>
            <a:ext cx="18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43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1330200"/>
            <a:ext cx="756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5400000">
            <a:off x="8455680" y="6169680"/>
            <a:ext cx="18900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5400000">
            <a:off x="8024400" y="5738760"/>
            <a:ext cx="1890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5400000">
            <a:off x="8455680" y="6169680"/>
            <a:ext cx="18900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285264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5400000">
            <a:off x="8459640" y="6173640"/>
            <a:ext cx="18900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2770200"/>
            <a:ext cx="741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5400000">
            <a:off x="8023680" y="5738040"/>
            <a:ext cx="18900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54936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5400000">
            <a:off x="8422920" y="6137280"/>
            <a:ext cx="18900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5400000">
            <a:off x="8229600" y="5819760"/>
            <a:ext cx="1728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33360"/>
            <a:ext cx="39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0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5805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5400000">
            <a:off x="8024400" y="5738760"/>
            <a:ext cx="1890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2997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549360"/>
            <a:ext cx="316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6308640"/>
            <a:ext cx="70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870200" y="-27000"/>
            <a:ext cx="53658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3399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The End</a:t>
            </a:r>
            <a:endParaRPr b="1" i="1" lang="en-US" sz="5400" spc="1" strike="noStrike">
              <a:ln w="28440">
                <a:solidFill>
                  <a:srgbClr val="ff3399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116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Mistral"/>
              </a:rPr>
              <a:t>@+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5400000">
            <a:off x="8024400" y="5667480"/>
            <a:ext cx="189000" cy="204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5400000">
            <a:off x="8022240" y="5739480"/>
            <a:ext cx="18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5400000">
            <a:off x="8024400" y="5738760"/>
            <a:ext cx="1890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5400000">
            <a:off x="8024400" y="5738760"/>
            <a:ext cx="1890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8096760" y="5810760"/>
            <a:ext cx="18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400000">
            <a:off x="8472960" y="6187320"/>
            <a:ext cx="189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89000"/>
            <a:ext cx="85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5400000">
            <a:off x="8423280" y="6137280"/>
            <a:ext cx="217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55:35Z</dcterms:created>
  <dc:creator/>
  <dc:description/>
  <dc:language>en-US</dc:language>
  <cp:lastModifiedBy>@+Al</cp:lastModifiedBy>
  <dcterms:modified xsi:type="dcterms:W3CDTF">2008-05-08T15:27:47Z</dcterms:modified>
  <cp:revision>32</cp:revision>
  <dc:subject/>
  <dc:title>SIMFONIA PRIMĂVERII</dc:title>
</cp:coreProperties>
</file>