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Oasis%20de%20Kitaro.wav" ContentType="audio/x-wav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3E6D-3C69-48F8-94EF-65B1AA88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93A-6EA0-49D5-8FA0-E4D20519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AF8-627A-4719-B840-B5CCC5CE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D3F-1776-4E4F-B230-1C121B52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A55-0409-472F-ABB4-FA0FA4B1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546-9376-4998-A547-060B11F0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BD4C-8293-4E6E-BA30-5F8F5AC4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CB7-AA3B-44A3-B39F-D045713F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A16F-C9FA-4ABD-8B06-0CFA5012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CB3-1447-458D-AC93-F53FBCC2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132-C86B-49EF-BAEC-A5EFE4E9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D70D-C920-4AF3-A7E1-254D3E30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C97F-9A15-4C68-B396-04BA39D08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Oasis%20de%20Kitar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4600"/>
            </a:gs>
            <a:gs pos="50000">
              <a:srgbClr val="cc9900"/>
            </a:gs>
            <a:gs pos="100000">
              <a:srgbClr val="5e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965160"/>
            <a:ext cx="8229600" cy="548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1457280" y="76320"/>
            <a:ext cx="62388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range Landscapes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wedge/>
    <p:sndAc>
      <p:stSnd>
        <p:snd r:embed="rId2" name="Oasis%20de%20Kitar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626184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a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Spotted Lake (one of the world's highest concentration of miner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00200" y="6261840"/>
            <a:ext cx="60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vada, US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he Black Rock Desert (a dry lake b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598920" y="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291744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iforni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Crystal Cave (made from mar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600360" y="0"/>
            <a:ext cx="55436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274140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stern Australia -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ngle Bungles are an amazing rock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8200" y="6109560"/>
            <a:ext cx="81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s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Steam rises from the top vent in the summit crater of Mount Redoub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edg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25320" y="6109560"/>
            <a:ext cx="84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ppadocia, Tur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is home to many underground and above ground c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edg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617148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in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 Boiling Lake at the Caribbean island bubbles with blue-grey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37080" y="0"/>
            <a:ext cx="554328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" y="27428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 blood red Rio Tinto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edg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60955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azi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Vale de Luna or "the valley of the moon“ (an ancient plateau thought to be over 1.8 billion years o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edg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4600"/>
            </a:gs>
            <a:gs pos="50000">
              <a:srgbClr val="cc9900"/>
            </a:gs>
            <a:gs pos="100000">
              <a:srgbClr val="5e4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561960"/>
            <a:ext cx="7467480" cy="55339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78" name="TextBox 6"/>
          <p:cNvSpPr/>
          <p:nvPr/>
        </p:nvSpPr>
        <p:spPr>
          <a:xfrm>
            <a:off x="3200400" y="28954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696080" y="62485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19920" y="63244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Comic Sans MS"/>
              </a:rPr>
              <a:t>Click to ex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">
    <p:wedg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90720" y="609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izona, US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he Wave (stunning sandstone rock formation that is around 190 million years old and looks unre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1398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smani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he Tessellated Pavement (very straight rectangles that are a natural phenomen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4400" y="61714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gyp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White Desert (strange rock formations formed by sandsto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3880" y="61714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Blood Pond Hot Spring (that’s how it got it’s 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98880" y="6261840"/>
            <a:ext cx="66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Giant’s Causeway (mystical rock form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39800" y="6177960"/>
            <a:ext cx="53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liv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alar de Uyuni (world’s largest salt fla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61398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e Stone Forest (a 400-square-kilometre stone wond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61405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arct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cMurdo Dry Valleys (Iron oxides stain the snout of the Taylor Glacier forming a feature commonly referred to as Blood F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edg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son Ng</cp:lastModifiedBy>
  <dcterms:modified xsi:type="dcterms:W3CDTF">2010-04-08T02:31:44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