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gif" ContentType="image/gif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2B7-A59A-4C40-9ECD-1F54FE13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1BB-A163-4C16-9D6E-5BE755F7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4E7-5FA7-4E96-B234-428539AD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1BC-CAF2-4CE2-8198-1271757A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4F5-0B90-4917-B650-76F1A4E5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1D6-1484-401C-928A-0631237E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60F-AE01-4B11-A36F-A09F03C1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501-91B2-4E50-AAD1-F2BCAB11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702-C65A-40A8-AB15-FB168893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9A6-3BAD-452A-9754-4F6F1D6D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27C-4377-4022-8327-A06EED6E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7AF9-F6EA-420A-866C-A75E4B1E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4C1A-A02B-4015-9F85-21815ABEA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963720"/>
            <a:ext cx="91440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Comic Sans MS"/>
              </a:rPr>
              <a:t>Wat Pha Luang Ta Bua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Comic Sans MS"/>
              </a:rPr>
              <a:t>Le temple des tig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The temple of ti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En 1999, les habitants d'un petit village de la province de Kanchanaburi en Thailande ont découvert dans la forêt deux bébés tigres blessés dont les parents avaient été tués par les braconniers</a:t>
            </a:r>
            <a:r>
              <a:rPr b="0" lang="fr-FR" sz="2400" spc="-1" strike="noStrike">
                <a:solidFill>
                  <a:srgbClr val="ffff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Georgia"/>
              </a:rPr>
              <a:t>In 1999 the inhabiatants of a little village in the province of Kanchanaburi, Thailand, found in the forest two injured baby tigers whose parents had been killed by po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20240" y="6230880"/>
            <a:ext cx="590400" cy="45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64008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omic Sans MS"/>
              </a:rPr>
              <a:t>Clique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64000" y="4292640"/>
            <a:ext cx="17082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60480" cy="5791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19720" y="2438280"/>
            <a:ext cx="44956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C’ est un lieu communém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considéré comme un sanctuaire pour animaux et un centre de préser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It is a communal place considered a sanctuary for animals and preservation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922560" cy="5867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88000" y="1341360"/>
            <a:ext cx="4114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Le temple est ouvert aux touris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The temple is open to tour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41907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6981840" cy="4581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515772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 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es employées gardent les tigres sous contrôle  et sont prêts a intervenir si les tigres deviennent agité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The employees keep the tigers under control and are ready to intervene if they become agitated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5640" y="4533840"/>
            <a:ext cx="4057560" cy="2324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22860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es visiteurs sont invité à laisser un don si ils désirent être pris en photo avec les tig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The visitors are invited to leave a donation if they wishto be photgraphed with the ti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3240000" cy="2544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319572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14836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700440" cy="457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409572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892080"/>
            <a:ext cx="914400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Ne sachant quoi en faire, ils les ont apportés au temple bouddhiste Wat Pha Luang où ils ont été recueillis et soignés par les moines. </a:t>
            </a: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e "Temple des tigres" venait de voir le jour. </a:t>
            </a:r>
            <a:br>
              <a:rPr sz="2400"/>
            </a:br>
            <a:r>
              <a:rPr b="1" lang="fr-FR" sz="2000" spc="-1" strike="noStrike">
                <a:solidFill>
                  <a:srgbClr val="ffff00"/>
                </a:solidFill>
                <a:latin typeface="Comic Sans MS"/>
              </a:rPr>
              <a:t>Not knowing what to do with them they took them to the Bhuddist temple Wat Pha Luang where they were housed and cared for by the mo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omic Sans MS"/>
              </a:rPr>
              <a:t>The Temple tigers wake to see th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444492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572000" cy="3578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19640" y="33336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5013360"/>
            <a:ext cx="8610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C’est le seul endroit au monde ou il est possible de caresser des tigres en liber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It is the only place in the world where it is possible to pat free ti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1680" y="760320"/>
            <a:ext cx="800100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2296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61048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067280" cy="6095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772400" y="5715000"/>
            <a:ext cx="600120" cy="428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952880" y="1828800"/>
            <a:ext cx="3657600" cy="2727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162920" y="6400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JM - 27 Août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228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Depuis de nombreux bébés tigres orphelins furent emmenés au temple et élevés par les moines y résid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Since thenmany orphaned baby tigers have been taken there and raised by the mo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2585880"/>
            <a:ext cx="5041800" cy="378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2565360"/>
            <a:ext cx="3195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65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505400" cy="6667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00600" y="3049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260280"/>
            <a:ext cx="4419720" cy="58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es tigres sont apprivoisés et habitués à ne manger que de la viande cuite afin d’éviter qu’ils ne développent le goût  pour le sang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omic Sans MS"/>
              </a:rPr>
              <a:t>The tigers are tame and used to eating only cooked meat in order to avoid them developing a taste for bl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Ils sont traités comme des membres de la famille du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They are treated like members of the templ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857400" cy="617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43680" y="3048120"/>
            <a:ext cx="33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Phra Acham Phu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1680" y="433440"/>
            <a:ext cx="80010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736560"/>
            <a:ext cx="830592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8:48:36Z</dcterms:created>
  <dc:creator>Haussy Jean-Marc</dc:creator>
  <dc:description/>
  <dc:language>en-US</dc:language>
  <cp:lastModifiedBy>Bruce Wright</cp:lastModifiedBy>
  <dcterms:modified xsi:type="dcterms:W3CDTF">2008-09-21T05:25:57Z</dcterms:modified>
  <cp:revision>14</cp:revision>
  <dc:subject/>
  <dc:title>Présentation PowerPoint</dc:title>
</cp:coreProperties>
</file>