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Amapola.wav" ContentType="audio/x-wav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8CA-EA17-4138-B9A3-39D31D8F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9F9-D408-4CD3-BE87-91AD9518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B01-0BFD-4B39-9B0B-4F9E2410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72A-B8A7-49EC-BC83-C5AE681D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FED-1177-4F83-AB01-827CDBC7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EFE-2435-4211-963B-75898CE9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748-C87E-4513-A5E5-205C4182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FCB-A73B-486A-9B82-98DF979E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2B2-229D-4D4D-A074-666A2EA9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B34-ECE0-469B-AFFE-886F3729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62A-6478-4702-81E7-44896D6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DEC-F1E8-496A-9368-33902F94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8400-531C-44F4-BB10-6B90A7CC93A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pol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5240" y="259560"/>
            <a:ext cx="58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rescribed by the Great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hysician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07480" y="5151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ick to Move on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Amapol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91720" y="5949000"/>
            <a:ext cx="75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Besides you aren't the message, you are just the messen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45200" y="6020640"/>
            <a:ext cx="81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In the Circle of God's love, God's waiting to use your full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08760" y="5734080"/>
            <a:ext cx="46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 Things we Need To Understand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26600" y="4723200"/>
            <a:ext cx="7117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1. God wants spiritual fruit, not religious nuts.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2. There is no key to happiness. The door is always open.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3. Silence is often misinterpreted but never misquoted.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4. Do the math .. count your blessings.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5. Faith is the ability to not pan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92040" y="5661000"/>
            <a:ext cx="40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6. If you worry, you didn't pray . </a:t>
            </a:r>
            <a:br>
              <a:rPr sz="2000"/>
            </a:b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If you pray, don't wor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03280" y="580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7. As a child of God, prayer is kind of like calling home every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800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6165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cc00"/>
                </a:solidFill>
                <a:latin typeface="Arial"/>
              </a:rPr>
              <a:t>8. The most important things in your house are the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69160" y="5734080"/>
            <a:ext cx="656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9. When we get tangled up in our problems, be still. 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God wants us to be still so He can untangle the k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1680" y="6165720"/>
            <a:ext cx="47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10. A grudge is a heavy thing to car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64000" y="2637000"/>
            <a:ext cx="31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Have a great day!!! 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The SON is 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shining and he can 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certainly use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76360" y="587592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The next time you feel like GOD can't use you, 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just remembe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84360" y="620640"/>
            <a:ext cx="4476960" cy="885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80800" y="5877000"/>
            <a:ext cx="647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Be kinder than necessary, for everyone you meet is 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fighting some kind of ba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48360" y="242100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Live simply, Love generously, Care deeply, Speak kindly.......Leave the rest to God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strips dir="l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35320" y="6093000"/>
            <a:ext cx="41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isit us Online – www.btwo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strips dir="l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99720" y="2642040"/>
            <a:ext cx="309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Noah was a drunk</a:t>
            </a:r>
            <a:br>
              <a:rPr sz="2000"/>
            </a:b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Abraham was too old</a:t>
            </a:r>
            <a:br>
              <a:rPr sz="2000"/>
            </a:b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Isaac was a daydreamer</a:t>
            </a:r>
            <a:br>
              <a:rPr sz="2000"/>
            </a:b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Jacob was a li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24000" y="5228280"/>
            <a:ext cx="47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Leah was ugly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Joseph was abused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Moses had a stuttering problem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Gideon was af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60400" y="5228280"/>
            <a:ext cx="55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Samson had long hair and was a womanizer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Jeremiah and Timothy were too young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David had an affair and was a murderer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Elijah was suic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75640" y="5093280"/>
            <a:ext cx="29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Isaiah preached naked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Jonah ran from God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Naomi was a widow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Job went bank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64400" y="5012280"/>
            <a:ext cx="4815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Peter denied Christ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The Disciples fell asleep while praying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Martha worried about everything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The Samaritan woman was divorced, 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more tha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507640" y="2348280"/>
            <a:ext cx="343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Zaccheus was too small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Paul was too religious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Timothy had an ulcer..AND</a:t>
            </a:r>
            <a:br>
              <a:rPr sz="2000"/>
            </a:b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Lazarus was dead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4200" y="5588640"/>
            <a:ext cx="30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nd don't forget Jesus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Helped them all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48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75640" y="2491200"/>
            <a:ext cx="316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Now! No more excuses!</a:t>
            </a:r>
            <a:br>
              <a:rPr sz="2000"/>
            </a:b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God can use you to your</a:t>
            </a:r>
            <a:br>
              <a:rPr sz="2000"/>
            </a:b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 full potent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4:57:49Z</dcterms:created>
  <dc:creator/>
  <dc:description/>
  <dc:language>en-US</dc:language>
  <cp:lastModifiedBy>Paul</cp:lastModifiedBy>
  <dcterms:modified xsi:type="dcterms:W3CDTF">2008-02-28T06:14:41Z</dcterms:modified>
  <cp:revision>338</cp:revision>
  <dc:subject/>
  <dc:title>Diapositive 1</dc:title>
</cp:coreProperties>
</file>