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22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media/image14.jpeg" ContentType="image/jpeg"/>
  <Override PartName="/ppt/media/image4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59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6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60.jpeg" ContentType="image/jpeg"/>
  <Override PartName="/ppt/media/1%20-%20A_I'm%20alive.wav" ContentType="audio/x-wav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ACB-721C-46DC-B0B2-757CE52A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464-DA01-46A0-951C-C9D4018A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42F-C7EE-43DF-A0CD-79D5C02C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586-69BE-4EB4-B23C-ECCC3DD0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9520-787A-4A5F-9486-72D69F74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733-9F68-402D-B4B9-B942B35B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AF9-85A6-4266-B8CC-B61CAE26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4C2-39F2-4065-9F2B-E76E19E4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FF0-3291-4853-8679-8FCC1A2A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5C8-DCCD-4C47-8DCB-515C9D71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AC8-0B1B-4FC7-9D87-4A4B4483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C9B-2196-43B3-B52E-BEA34D4B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42DC-3819-4012-9C47-CBA9761FD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%20-%20A_I&apos;m%20alive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80880"/>
            <a:ext cx="4343400" cy="320040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Comic Sans MS"/>
              </a:rPr>
              <a:t>SIT BACK, RELA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Comic Sans MS"/>
              </a:rPr>
              <a:t>&amp; EN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952560"/>
            <a:ext cx="5410080" cy="365760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THE SI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omic Sans MS"/>
              </a:rPr>
              <a:t>YET REMARKABLE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7880" y="3013200"/>
            <a:ext cx="5410440" cy="365760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Comic Sans MS"/>
              </a:rPr>
              <a:t>OF MOTHER NATURE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Comic Sans MS"/>
              </a:rPr>
              <a:t>THE ANIMALS SHE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02200" y="5781600"/>
            <a:ext cx="288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ff"/>
                </a:solidFill>
                <a:latin typeface="Arial"/>
              </a:rPr>
              <a:t>Please use the enter button to scroll through at your own 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1%20-%20A_I'm%20ali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8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400"/>
                            </p:stCondLst>
                            <p:childTnLst>
                              <p:par>
                                <p:cTn id="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9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66840" y="1227240"/>
            <a:ext cx="6610320" cy="440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81280" y="1003320"/>
            <a:ext cx="3780000" cy="4851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262080" y="612720"/>
            <a:ext cx="8189280" cy="5951520"/>
            <a:chOff x="262080" y="612720"/>
            <a:chExt cx="8189280" cy="59515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434520" y="752400"/>
              <a:ext cx="80168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62080" y="612720"/>
              <a:ext cx="597960" cy="5951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2960" y="1092240"/>
            <a:ext cx="7464240" cy="5328720"/>
            <a:chOff x="912960" y="1092240"/>
            <a:chExt cx="7464240" cy="53287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1100160" y="1092240"/>
              <a:ext cx="6943680" cy="49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912960" y="5852880"/>
              <a:ext cx="7464240" cy="56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03160" y="603360"/>
            <a:ext cx="7535880" cy="565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6640" y="915840"/>
            <a:ext cx="7469280" cy="502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47560" y="187200"/>
            <a:ext cx="8048520" cy="5881680"/>
            <a:chOff x="547560" y="187200"/>
            <a:chExt cx="8048520" cy="588168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776160" y="372960"/>
              <a:ext cx="7602480" cy="56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47560" y="187200"/>
              <a:ext cx="8048520" cy="56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44560" y="633240"/>
            <a:ext cx="7454880" cy="559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841320" y="1330200"/>
            <a:ext cx="7464240" cy="4862520"/>
            <a:chOff x="841320" y="1330200"/>
            <a:chExt cx="7464240" cy="486252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1133280" y="1330200"/>
              <a:ext cx="6734160" cy="44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41320" y="5624640"/>
              <a:ext cx="7464240" cy="56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912960" y="1182600"/>
            <a:ext cx="7464240" cy="5038920"/>
            <a:chOff x="912960" y="1182600"/>
            <a:chExt cx="7464240" cy="503892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1073160" y="1182600"/>
              <a:ext cx="6997680" cy="46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912960" y="5653080"/>
              <a:ext cx="7464240" cy="56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080" y="372960"/>
            <a:ext cx="9051840" cy="611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12720" y="1407960"/>
            <a:ext cx="6118560" cy="404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65200" y="708120"/>
            <a:ext cx="4413600" cy="544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825480" y="1096920"/>
            <a:ext cx="7440480" cy="5491080"/>
            <a:chOff x="825480" y="1096920"/>
            <a:chExt cx="7440480" cy="549108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825480" y="1096920"/>
              <a:ext cx="7440480" cy="54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418040" y="1154160"/>
              <a:ext cx="561960" cy="480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5400000">
              <a:off x="4145400" y="3113640"/>
              <a:ext cx="1183320" cy="576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773840" cy="5830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16120" y="223920"/>
            <a:ext cx="6210360" cy="6634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5600" y="455760"/>
            <a:ext cx="8888400" cy="588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0120" y="228600"/>
            <a:ext cx="7916760" cy="638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71720" y="1335240"/>
            <a:ext cx="3398760" cy="41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58920" y="942840"/>
            <a:ext cx="6626160" cy="4970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65240" y="-17640"/>
            <a:ext cx="9475920" cy="689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633760" y="1738440"/>
            <a:ext cx="3876480" cy="337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839880" y="479520"/>
            <a:ext cx="7537320" cy="6191280"/>
            <a:chOff x="839880" y="479520"/>
            <a:chExt cx="7537320" cy="61912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2063880" y="1609560"/>
              <a:ext cx="5014800" cy="36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39880" y="1254240"/>
              <a:ext cx="7464240" cy="56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12960" y="5153040"/>
              <a:ext cx="7464240" cy="56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04960" y="479520"/>
              <a:ext cx="434880" cy="619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05600" y="479520"/>
              <a:ext cx="434880" cy="619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73320" y="955800"/>
            <a:ext cx="6595920" cy="4946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920" y="1440"/>
            <a:ext cx="9126720" cy="6853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15800"/>
            <a:ext cx="9144000" cy="6026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66920" y="1001880"/>
            <a:ext cx="6379920" cy="482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23840" y="768240"/>
            <a:ext cx="7094520" cy="532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84280" y="1112760"/>
            <a:ext cx="6175440" cy="463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00320" y="1380960"/>
            <a:ext cx="6553080" cy="409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95520" y="660240"/>
            <a:ext cx="4151520" cy="5535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14480" y="587520"/>
            <a:ext cx="5313240" cy="568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41480" y="781200"/>
            <a:ext cx="7059600" cy="5294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33480" y="700200"/>
            <a:ext cx="7275600" cy="545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03520" y="1182600"/>
            <a:ext cx="5886360" cy="441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98840" y="363600"/>
            <a:ext cx="4078080" cy="6291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206800" y="333360"/>
            <a:ext cx="7546320" cy="6191280"/>
            <a:chOff x="2206800" y="333360"/>
            <a:chExt cx="7546320" cy="619128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2206800" y="668160"/>
              <a:ext cx="7359480" cy="55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115040" y="333360"/>
              <a:ext cx="2638080" cy="619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4560" y="609480"/>
            <a:ext cx="457344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5960" y="42696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03480" y="903240"/>
            <a:ext cx="6735600" cy="505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28600" y="1125360"/>
            <a:ext cx="7167600" cy="479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14520" y="1143000"/>
            <a:ext cx="61149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28908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11240" y="654120"/>
            <a:ext cx="7361280" cy="552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49320" y="1523880"/>
            <a:ext cx="5286600" cy="347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2520" y="136440"/>
            <a:ext cx="8721720" cy="6542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1480" y="1181160"/>
            <a:ext cx="8007480" cy="4422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0440" y="1890720"/>
            <a:ext cx="4564080" cy="304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87480"/>
            <a:ext cx="955044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22320" y="311040"/>
            <a:ext cx="9166320" cy="6132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4240" y="1515960"/>
            <a:ext cx="7677360" cy="3764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90840" y="1378800"/>
            <a:ext cx="77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66ff"/>
                </a:solidFill>
                <a:latin typeface="Verdana"/>
                <a:ea typeface="Times New Roman"/>
              </a:rPr>
              <a:t>Now send a copy to everyone that needs to RELAX &amp; SMILE today!!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07960" y="2701800"/>
            <a:ext cx="8128080" cy="2768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601080" y="6301440"/>
            <a:ext cx="19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6666ff"/>
                </a:solidFill>
                <a:latin typeface="Verdana"/>
                <a:ea typeface="Times New Roman"/>
              </a:rPr>
              <a:t>Press esc to close presenta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68720" y="1327320"/>
            <a:ext cx="2806560" cy="4203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84200" y="1297080"/>
            <a:ext cx="6373800" cy="4262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04880" y="528480"/>
            <a:ext cx="7734240" cy="5801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07:01:49Z</dcterms:created>
  <dc:creator>Tracy Prillwitz</dc:creator>
  <dc:description/>
  <dc:language>en-US</dc:language>
  <cp:lastModifiedBy>RyC</cp:lastModifiedBy>
  <dcterms:modified xsi:type="dcterms:W3CDTF">2000-04-18T10:50:17Z</dcterms:modified>
  <cp:revision>6</cp:revision>
  <dc:subject/>
  <dc:title>Slide 1</dc:title>
</cp:coreProperties>
</file>