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amitie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544-39A2-4A7D-A043-C2147A21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A58-876B-4348-A91A-C053C47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E5C-48B5-405A-A6E9-14500EA0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2E7-FE64-4F28-8382-70083209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BA3-FBAC-4C15-9C09-6249389B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E2A-2A46-451E-8E24-0EBF1B8D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82C-FFA9-4BE8-96C2-5B5FE677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69C-056B-49CF-BD68-C7029DC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FD5-C504-4B3E-BD78-7536AC2C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BA7-EE7E-4E87-A15D-566267A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5F2-EF20-4588-8D03-B6B26F74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B12-4F0B-41D2-934B-AC3BBDEC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81F6-D527-4F68-BEA2-F3521B8A17D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iti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65300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000099"/>
                </a:solidFill>
                <a:latin typeface="Sylfaen"/>
              </a:rPr>
              <a:t>Der</a:t>
            </a:r>
            <a:r>
              <a:rPr b="1" i="1" lang="fr-FR" sz="5400" spc="-1" strike="noStrike">
                <a:solidFill>
                  <a:srgbClr val="333399"/>
                </a:solidFill>
                <a:latin typeface="Sylfaen"/>
              </a:rPr>
              <a:t> </a:t>
            </a:r>
            <a:r>
              <a:rPr b="1" i="1" lang="fr-FR" sz="6000" spc="-1" strike="noStrike">
                <a:solidFill>
                  <a:srgbClr val="333399"/>
                </a:solidFill>
                <a:latin typeface="Sylfaen"/>
              </a:rPr>
              <a:t>Wolf</a:t>
            </a:r>
            <a:r>
              <a:rPr b="1" i="1" lang="fr-FR" sz="5400" spc="-1" strike="noStrike">
                <a:solidFill>
                  <a:srgbClr val="333399"/>
                </a:solidFill>
                <a:latin typeface="Sylfae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66"/>
                </a:solidFill>
                <a:latin typeface="Arial"/>
              </a:rPr>
              <a:t>In den  Wäldern  spüre  ich  die Einsamk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472392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66"/>
                </a:solidFill>
                <a:latin typeface="Arial"/>
              </a:rPr>
              <a:t>die Städte  fürchte  ich und  ihren Haß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66"/>
                </a:solidFill>
                <a:latin typeface="Arial"/>
              </a:rPr>
              <a:t>Wege die ich finde sind Erholu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4221000"/>
            <a:ext cx="4032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66"/>
                </a:solidFill>
                <a:latin typeface="Arial"/>
              </a:rPr>
              <a:t>Unter der Sonne laufe i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Unter dem Wind schreie i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Unter dem Regen schlafe i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66"/>
                </a:solidFill>
                <a:latin typeface="Arial"/>
              </a:rPr>
              <a:t>Über die Wiesen ohne Ende gehe ich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58100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66"/>
                </a:solidFill>
                <a:latin typeface="Arial"/>
              </a:rPr>
              <a:t>Gegen die Wolken drehe ich meinen Blick .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66"/>
                </a:solidFill>
                <a:latin typeface="Arial"/>
              </a:rPr>
              <a:t>Gegen die Erde leite ich meine Trän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762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Gegen die Abenddämmerung leite ich meine Schrit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die Anhöhen suche ich  nach einen Zufluchtso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3:35:38Z</dcterms:created>
  <dc:creator>Heinz</dc:creator>
  <dc:description/>
  <dc:language>en-US</dc:language>
  <cp:lastModifiedBy>Backhausen</cp:lastModifiedBy>
  <dcterms:modified xsi:type="dcterms:W3CDTF">2009-05-15T15:00:53Z</dcterms:modified>
  <cp:revision>3</cp:revision>
  <dc:subject/>
  <dc:title>Folie 1</dc:title>
</cp:coreProperties>
</file>