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Zamfir.wav" ContentType="audio/x-wav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D3F8-9E9B-40ED-A26C-5E73BA183A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857E-EC1A-4EE0-8470-275078D7EE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8BA-B6F0-459A-93DB-CC5BA5FA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42E9-0699-429A-83E7-171BC112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708-8795-4084-810E-068AC46A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41B-39D3-4A5A-B40F-0F24BFEB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2DF-3383-4412-B167-62B3E7F9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595-CE7C-422F-958D-32AA3C0E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5A7-5613-47A6-8DBD-EB771295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F7C-CD40-4DF4-82A2-CCFEFF90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CBE-6FD5-47FA-B63D-E2ADD19B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4F0-6037-41D4-BF3D-3E013690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6D3-80D8-462D-AB47-CF139B61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33F-8974-4B2B-B860-5F25B360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E45A-EC64-4393-8BCE-B2D1C19E9ED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audio" Target="../media/Zamfi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iuaiyo2.gif"/>
          <p:cNvPicPr/>
          <p:nvPr/>
        </p:nvPicPr>
        <p:blipFill>
          <a:blip r:embed="rId1"/>
          <a:stretch/>
        </p:blipFill>
        <p:spPr>
          <a:xfrm>
            <a:off x="0" y="-571680"/>
            <a:ext cx="9524880" cy="77868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1206360" y="-285840"/>
            <a:ext cx="7553520" cy="6315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  <p:sndAc>
      <p:stSnd>
        <p:snd r:embed="rId3" name="Zamfi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olifant-girl-sz.jpg"/>
          <p:cNvPicPr/>
          <p:nvPr/>
        </p:nvPicPr>
        <p:blipFill>
          <a:blip r:embed="rId1"/>
          <a:stretch/>
        </p:blipFill>
        <p:spPr>
          <a:xfrm>
            <a:off x="1060560" y="2419200"/>
            <a:ext cx="6791040" cy="440244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5" descr=""/>
          <p:cNvPicPr/>
          <p:nvPr/>
        </p:nvPicPr>
        <p:blipFill>
          <a:blip r:embed="rId2"/>
          <a:stretch/>
        </p:blipFill>
        <p:spPr>
          <a:xfrm>
            <a:off x="493560" y="189000"/>
            <a:ext cx="8296560" cy="321300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paarden-girl-sz.jpg"/>
          <p:cNvPicPr/>
          <p:nvPr/>
        </p:nvPicPr>
        <p:blipFill>
          <a:blip r:embed="rId1"/>
          <a:stretch/>
        </p:blipFill>
        <p:spPr>
          <a:xfrm>
            <a:off x="1060560" y="2346480"/>
            <a:ext cx="6456240" cy="467028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5" descr=""/>
          <p:cNvPicPr/>
          <p:nvPr/>
        </p:nvPicPr>
        <p:blipFill>
          <a:blip r:embed="rId2"/>
          <a:stretch/>
        </p:blipFill>
        <p:spPr>
          <a:xfrm>
            <a:off x="414360" y="189000"/>
            <a:ext cx="8467560" cy="321300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tijger-lady-sz.jpg"/>
          <p:cNvPicPr/>
          <p:nvPr/>
        </p:nvPicPr>
        <p:blipFill>
          <a:blip r:embed="rId1"/>
          <a:stretch/>
        </p:blipFill>
        <p:spPr>
          <a:xfrm>
            <a:off x="1127160" y="2206800"/>
            <a:ext cx="6535800" cy="471168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5" descr=""/>
          <p:cNvPicPr/>
          <p:nvPr/>
        </p:nvPicPr>
        <p:blipFill>
          <a:blip r:embed="rId2"/>
          <a:stretch/>
        </p:blipFill>
        <p:spPr>
          <a:xfrm>
            <a:off x="360360" y="189000"/>
            <a:ext cx="8575560" cy="321300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wildlife-4c.jpg"/>
          <p:cNvPicPr/>
          <p:nvPr/>
        </p:nvPicPr>
        <p:blipFill>
          <a:blip r:embed="rId1"/>
          <a:stretch/>
        </p:blipFill>
        <p:spPr>
          <a:xfrm>
            <a:off x="1200240" y="2633760"/>
            <a:ext cx="6681600" cy="436392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5" descr=""/>
          <p:cNvPicPr/>
          <p:nvPr/>
        </p:nvPicPr>
        <p:blipFill>
          <a:blip r:embed="rId2"/>
          <a:stretch/>
        </p:blipFill>
        <p:spPr>
          <a:xfrm>
            <a:off x="237960" y="298440"/>
            <a:ext cx="8747280" cy="320688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extBox 1" descr=""/>
          <p:cNvPicPr/>
          <p:nvPr/>
        </p:nvPicPr>
        <p:blipFill>
          <a:blip r:embed="rId2"/>
          <a:stretch/>
        </p:blipFill>
        <p:spPr>
          <a:xfrm>
            <a:off x="2060640" y="4151160"/>
            <a:ext cx="5730840" cy="1590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5T11:04:03Z</dcterms:created>
  <dc:creator>XIBY</dc:creator>
  <dc:description/>
  <dc:language>en-US</dc:language>
  <cp:lastModifiedBy>XIBY</cp:lastModifiedBy>
  <dcterms:modified xsi:type="dcterms:W3CDTF">2008-08-15T12:35:08Z</dcterms:modified>
  <cp:revision>7</cp:revision>
  <dc:subject/>
  <dc:title>Slide 1</dc:title>
</cp:coreProperties>
</file>